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"/>
              </a:rPr>
              <a:t>Developing an IBIS Model</a:t>
            </a:r>
            <a:br>
              <a:rPr sz="3600"/>
            </a:b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"/>
              </a:rPr>
              <a:t>Accuracy Spec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975040" y="1755720"/>
            <a:ext cx="3121200" cy="35784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41320" y="5546880"/>
            <a:ext cx="3009960" cy="76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038480" y="54864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eg Edl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gital Equipment Corp., Server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eg.edlund@digita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"/>
              </a:rPr>
              <a:t>Comparision Met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70000" y="2065320"/>
            <a:ext cx="6288120" cy="47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32520" y="3741840"/>
            <a:ext cx="3152880" cy="1874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41360" y="2193840"/>
            <a:ext cx="3425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PE:  Average Absol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"/>
              </a:rPr>
              <a:t>Additions to Model H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676520"/>
            <a:ext cx="419112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======================================================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Lab Verification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IBIS Model Accuracy Level 3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Corner silicon vs. IBIS corner sim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Units are Average Absolute Percent Er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a goodness-of-fit metr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AAPE = (sum(i=1-N)(dVi/Vswing))/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IV Cur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Pull-up cur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Pull-down cur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ri-state cur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Pin Capac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D2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Q2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ising Wave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est load 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est load 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est load 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est load 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est load 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Falling Wave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est load 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est load 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est load 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est load 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est load 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%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======================================================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"/>
              </a:rPr>
              <a:t>Short-term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uge the interest level of the IBIS community at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lish communications with semiconductor and EDA vendors on the IBIS Committee to keep our sub-committee in “low-Earth orbit.”  (We don’t want to achieve escape velocity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lish a set of check-points in the development of an accuracy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a semiconductor house interested in working with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"/>
              </a:rPr>
              <a:t>Wouldn’t it be nice if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47920" y="487692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component complies with IBIS Accuracy Specification version 1.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92200" y="2208240"/>
            <a:ext cx="61405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"/>
              </a:rPr>
              <a:t>A Definition of 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uracy means agreement between model prediction and lab measu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"/>
              </a:rPr>
              <a:t>Our Point of Mutual Int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do not address model accur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designers will be unable to focus on the problems of high-speed interconnect because model validation requires such great eff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iconductor manufacturers will lose business as their customers struggle with unpredictable hard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-users will lose confidence in system and semiconductor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want to wor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IBIS commun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"/>
              </a:rPr>
              <a:t>Something from our closet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89200" y="1828800"/>
            <a:ext cx="5678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"/>
              </a:rPr>
              <a:t>The Sub-Committee</a:t>
            </a:r>
            <a:br>
              <a:rPr sz="3600"/>
            </a:b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"/>
              </a:rPr>
              <a:t>on IBIS Model 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a spin-off of the December 4th IBIS East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The purpose of the Sub-Committee on IBIS Model Accuracy is to draft a specification for a metric which may be used to measure IBIS models against test silicon.  It is our intention to have a specification approved by January 1999 and to identify a semiconductor manufacturer to serve as a beta site for the implementation of this specification by the same date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"/>
              </a:rPr>
              <a:t>Accuracy Sub-Committee</a:t>
            </a:r>
            <a:br>
              <a:rPr sz="3600"/>
            </a:b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"/>
              </a:rPr>
              <a:t>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wn Engelmann, E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g Fitzgerald, Ca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uce Heilbrunn, Stratus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 Haller, Digit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g Edlund, Digital Equipment (ch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"/>
              </a:rPr>
              <a:t>Specification 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evant model parameters (level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nimum set of test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 test 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. instr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. data-tak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ison metric and associated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racterizat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"/>
              </a:rPr>
              <a:t>Levels of Model 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evel 3 being most accu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 silicon vs. typical IB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best-guess 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 silicon vs. typical IB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SPICE corners vs. IBIS 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Corner silicon vs. IBIS corner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"/>
              </a:rPr>
              <a:t>Sample Test L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09600" y="1528920"/>
            <a:ext cx="6705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gital</dc:creator>
  <dc:description/>
  <dc:language>en-US</dc:language>
  <cp:lastModifiedBy>digital</cp:lastModifiedBy>
  <cp:revision>0</cp:revision>
  <dc:subject/>
  <dc:title>Developing an IBIS Model Accuracy Specification</dc:title>
</cp:coreProperties>
</file>