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1B9310-E1CE-4CB5-A587-66D33DB5E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Mo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behalf of National Semiconductor and ANSI/EIA, I would like to welcome you all to our 1997 Summit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me start off by going thru some introductions. Starting with the officia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hairman is Bob Ross from Interconnectix. Bob is not here today and he is off on medical leave of absence for a month. We miss him for sure and hope that he will be back with us soon. I had a chance to speak with him a few days ago and he is doing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Syed Huq from National Semiconductor and presently Vice-C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have Jon Powell from Quad Design. John is the official Libra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i Rusher is our contact  within 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go around the room and I would like you to introduce yourself, your company and pls sign the sign up sheet if you have not done so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oday’s Agenda. Morning slot is dedicated to various types of presentations. Afternoon is mostly for technical discu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one wants to add or suggest any modifications to this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me start off by giving a short intro about ANSI/EIA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1995 IBIS open forum affiliates with E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modifications led to IBISv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C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 technical discussions today will be features that you may see for IBISv3.0. Most likely ratification will occur around June this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a slide of the BIRD l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594640" y="6556320"/>
            <a:ext cx="298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C007989-EBB6-4B62-8DCB-C407D3E3E0E9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413160" y="6599160"/>
            <a:ext cx="265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SI/EIA-656 Summit Jan20th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35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(I/O Buffer Information Specification)</a:t>
            </a:r>
            <a:br>
              <a:rPr sz="1800"/>
            </a:b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(ANSI/EIA-656) 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it Meeting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20th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19680" y="4708440"/>
            <a:ext cx="1555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847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85840" y="5172120"/>
            <a:ext cx="527364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72240" y="582480"/>
            <a:ext cx="2459160" cy="197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2840" y="658800"/>
            <a:ext cx="24591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IS roa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v1.0 - Released April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v1.1 - Additional comments added (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v2.0 - Ratified in June1994 with more add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I/EIA-656 - Dec 1995 IBISv2.1 became EIA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C standard - Work in progress by TC-93 work group for International Standard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v3.0 - Work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hdl.org(anonymous ftp site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der /pub/ib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8.31.1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RDs - Buffer Issue Resolutio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lden Parsar - Executables for various computing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ibis2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gs - Parsar bu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ail - Archieve from the 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lden Par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s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IS spec(v1.0,v1.1,v2.0,v2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 - Articles, Coo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08160" y="1295280"/>
            <a:ext cx="500868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I/EIA-656 Web s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eia.org/ibis/ibi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IS ref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762120"/>
            <a:ext cx="777240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is-request@vhdl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join, change, or drop from either the IBIS Open Forum Refl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bis@vhdl.org), the IBIS Users' Group Reflector (ibis-users@vhdl.or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both.  State your requ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is-info@vhdl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obtain general information about IBIS, to ask specific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individual response, and to inquire about joining the EIA-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Forum as a full Me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is@vhdl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send a message to the general IBIS Open Forum Reflector. 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used mostly for IBIS Standardization business and future 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ical enhanc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is-users@vhdl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send a message to the IBIS Users' Group Reflector.  This 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d mostly for IBIS clarification, current modeling issue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user concer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ischk-bug@vhdl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port ibischk2 parser bugs.  The Bug Report Form Reside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hdl.org in /pub/ibis/bugs/bugform.txt along with reported bu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762120"/>
            <a:ext cx="497664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838080" y="76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IS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ed B.Huq</dc:creator>
  <dc:description/>
  <dc:language>en-US</dc:language>
  <cp:lastModifiedBy>Syed B. Huq</cp:lastModifiedBy>
  <cp:revision>0</cp:revision>
  <dc:subject/>
  <dc:title>Welcome to the  IBIS (ANSI/EIA-656)  face-to-face meeting  Jan 1996</dc:title>
</cp:coreProperties>
</file>