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6283440"/>
            <a:ext cx="659160" cy="312840"/>
            <a:chOff x="318960" y="6283440"/>
            <a:chExt cx="659160" cy="31284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318960" y="6283440"/>
              <a:ext cx="541440" cy="2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28720" y="6453360"/>
              <a:ext cx="46080" cy="5400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 txBox="1"/>
            <p:nvPr/>
          </p:nvSpPr>
          <p:spPr>
            <a:xfrm>
              <a:off x="738360" y="6411960"/>
              <a:ext cx="2397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9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®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"/>
          <p:cNvSpPr txBox="1"/>
          <p:nvPr/>
        </p:nvSpPr>
        <p:spPr>
          <a:xfrm>
            <a:off x="8528040" y="6576840"/>
            <a:ext cx="557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279f"/>
                </a:solidFill>
                <a:latin typeface="Arial"/>
                <a:ea typeface="Arial"/>
              </a:rPr>
              <a:t>G-Numb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7908840" y="6307200"/>
            <a:ext cx="763560" cy="3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5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age </a:t>
            </a:r>
            <a:fld id="{F07E539E-E808-4F4E-98CB-1E6E923CCD16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554040"/>
            <a:ext cx="9131400" cy="27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Integrated Termination</a:t>
            </a:r>
            <a:br>
              <a:rPr sz="4800"/>
            </a:br>
            <a:r>
              <a:rPr b="1" lang="en-US" sz="4400" spc="-1" strike="noStrike">
                <a:solidFill>
                  <a:srgbClr val="f5c300"/>
                </a:solidFill>
                <a:latin typeface="Arial"/>
                <a:ea typeface="Arial"/>
              </a:rPr>
              <a:t>for</a:t>
            </a:r>
            <a:br>
              <a:rPr sz="1800"/>
            </a:b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Low Power, Low Cost, High Speed Signa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79400" y="3537000"/>
            <a:ext cx="7572240" cy="22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pad Murany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tel Corporation, Folsom, CA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CD, Simulation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IA/ANSI-656 IBIS Face to Face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anta Clara, January 20, 199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09560" y="1400040"/>
            <a:ext cx="5908680" cy="4105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0" y="506520"/>
            <a:ext cx="913140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“</a:t>
            </a: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Combination” I-V cur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584440" y="1955880"/>
            <a:ext cx="3863880" cy="3073320"/>
            <a:chOff x="2584440" y="1955880"/>
            <a:chExt cx="3863880" cy="3073320"/>
          </a:xfrm>
        </p:grpSpPr>
        <p:sp>
          <p:nvSpPr>
            <p:cNvPr id="97" name=""/>
            <p:cNvSpPr/>
            <p:nvPr/>
          </p:nvSpPr>
          <p:spPr>
            <a:xfrm flipV="1">
              <a:off x="3546360" y="1955880"/>
              <a:ext cx="0" cy="3073320"/>
            </a:xfrm>
            <a:prstGeom prst="line">
              <a:avLst/>
            </a:prstGeom>
            <a:ln w="25560">
              <a:solidFill>
                <a:srgbClr val="ffffff"/>
              </a:solidFill>
              <a:custDash>
                <a:ds d="49296" sp="49296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84440" y="3495600"/>
              <a:ext cx="3863880" cy="0"/>
            </a:xfrm>
            <a:prstGeom prst="line">
              <a:avLst/>
            </a:prstGeom>
            <a:ln w="25560">
              <a:solidFill>
                <a:srgbClr val="ffffff"/>
              </a:solidFill>
              <a:custDash>
                <a:ds d="49296" sp="49296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" name=""/>
          <p:cNvSpPr txBox="1"/>
          <p:nvPr/>
        </p:nvSpPr>
        <p:spPr>
          <a:xfrm>
            <a:off x="0" y="5599080"/>
            <a:ext cx="913140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51dc00"/>
                </a:solidFill>
                <a:latin typeface="Arial"/>
                <a:ea typeface="Arial"/>
              </a:rPr>
              <a:t>Desired termination without DC cur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683160" y="3537000"/>
            <a:ext cx="5448240" cy="1746360"/>
            <a:chOff x="3683160" y="3537000"/>
            <a:chExt cx="5448240" cy="1746360"/>
          </a:xfrm>
        </p:grpSpPr>
        <p:sp>
          <p:nvSpPr>
            <p:cNvPr id="101" name=""/>
            <p:cNvSpPr txBox="1"/>
            <p:nvPr/>
          </p:nvSpPr>
          <p:spPr>
            <a:xfrm>
              <a:off x="7542360" y="4118040"/>
              <a:ext cx="1589040" cy="1165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 algn="ctr">
                <a:lnSpc>
                  <a:spcPct val="95000"/>
                </a:lnSpc>
                <a:spcBef>
                  <a:spcPts val="720"/>
                </a:spcBef>
              </a:pPr>
              <a:r>
                <a:rPr b="1" lang="en-US" sz="3200" spc="-1" strike="noStrike">
                  <a:solidFill>
                    <a:srgbClr val="51dc00"/>
                  </a:solidFill>
                  <a:latin typeface="Arial"/>
                  <a:ea typeface="Arial"/>
                </a:rPr>
                <a:t>no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95000"/>
                </a:lnSpc>
                <a:spcBef>
                  <a:spcPts val="720"/>
                </a:spcBef>
              </a:pPr>
              <a:r>
                <a:rPr b="1" lang="en-US" sz="3200" spc="-1" strike="noStrike">
                  <a:solidFill>
                    <a:srgbClr val="51dc00"/>
                  </a:solidFill>
                  <a:latin typeface="Arial"/>
                  <a:ea typeface="Arial"/>
                </a:rPr>
                <a:t>curren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3683160" y="3537000"/>
              <a:ext cx="4143960" cy="1168920"/>
              <a:chOff x="3683160" y="3537000"/>
              <a:chExt cx="4143960" cy="1168920"/>
            </a:xfrm>
          </p:grpSpPr>
          <p:sp>
            <p:nvSpPr>
              <p:cNvPr id="103" name=""/>
              <p:cNvSpPr/>
              <p:nvPr/>
            </p:nvSpPr>
            <p:spPr>
              <a:xfrm>
                <a:off x="4438800" y="3543120"/>
                <a:ext cx="3387960" cy="1162440"/>
              </a:xfrm>
              <a:custGeom>
                <a:avLst/>
                <a:gdLst/>
                <a:ahLst/>
                <a:rect l="0" t="0" r="r" b="b"/>
                <a:pathLst>
                  <a:path fill="none" w="9411" h="3229">
                    <a:moveTo>
                      <a:pt x="9411" y="3229"/>
                    </a:moveTo>
                    <a:lnTo>
                      <a:pt x="9411" y="3229"/>
                    </a:lnTo>
                    <a:lnTo>
                      <a:pt x="9411" y="3229"/>
                    </a:lnTo>
                    <a:cubicBezTo>
                      <a:pt x="9411" y="2662"/>
                      <a:pt x="8976" y="2105"/>
                      <a:pt x="8150" y="1614"/>
                    </a:cubicBezTo>
                    <a:cubicBezTo>
                      <a:pt x="7324" y="1124"/>
                      <a:pt x="6136" y="716"/>
                      <a:pt x="4705" y="433"/>
                    </a:cubicBezTo>
                    <a:cubicBezTo>
                      <a:pt x="3275" y="149"/>
                      <a:pt x="1652" y="0"/>
                      <a:pt x="0" y="0"/>
                    </a:cubicBezTo>
                  </a:path>
                </a:pathLst>
              </a:custGeom>
              <a:ln w="203040">
                <a:solidFill>
                  <a:srgbClr val="51dc00"/>
                </a:solidFill>
                <a:round/>
                <a:headEnd len="med" type="triangle" w="med"/>
              </a:ln>
            </p:spPr>
            <p:txBody>
              <a:bodyPr lIns="191520" rIns="191520" tIns="146520" bIns="146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683160" y="3537000"/>
                <a:ext cx="4143960" cy="1168920"/>
              </a:xfrm>
              <a:custGeom>
                <a:avLst/>
                <a:gdLst/>
                <a:ahLst/>
                <a:rect l="0" t="0" r="r" b="b"/>
                <a:pathLst>
                  <a:path fill="none" w="11511" h="3247">
                    <a:moveTo>
                      <a:pt x="11511" y="3247"/>
                    </a:moveTo>
                    <a:lnTo>
                      <a:pt x="11511" y="3247"/>
                    </a:lnTo>
                    <a:lnTo>
                      <a:pt x="11511" y="3247"/>
                    </a:lnTo>
                    <a:cubicBezTo>
                      <a:pt x="11511" y="2677"/>
                      <a:pt x="10979" y="2117"/>
                      <a:pt x="9969" y="1623"/>
                    </a:cubicBezTo>
                    <a:cubicBezTo>
                      <a:pt x="8959" y="1130"/>
                      <a:pt x="7505" y="720"/>
                      <a:pt x="5755" y="435"/>
                    </a:cubicBezTo>
                    <a:cubicBezTo>
                      <a:pt x="4006" y="150"/>
                      <a:pt x="2021" y="0"/>
                      <a:pt x="0" y="0"/>
                    </a:cubicBezTo>
                  </a:path>
                </a:pathLst>
              </a:custGeom>
              <a:ln w="203040">
                <a:solidFill>
                  <a:srgbClr val="51dc00"/>
                </a:solidFill>
                <a:round/>
                <a:headEnd len="med" type="triangle" w="med"/>
              </a:ln>
            </p:spPr>
            <p:txBody>
              <a:bodyPr lIns="191520" rIns="191520" tIns="146520" bIns="146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"/>
          <p:cNvSpPr txBox="1"/>
          <p:nvPr/>
        </p:nvSpPr>
        <p:spPr>
          <a:xfrm>
            <a:off x="0" y="5189400"/>
            <a:ext cx="9131400" cy="3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5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o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157320" y="3260880"/>
            <a:ext cx="4111560" cy="3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5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mp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09560" y="1400040"/>
            <a:ext cx="5908680" cy="4105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0" y="506520"/>
            <a:ext cx="913140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Implemented I-V cur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840" y="5599080"/>
            <a:ext cx="823896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51dc00"/>
                </a:solidFill>
                <a:latin typeface="Arial"/>
                <a:ea typeface="Arial"/>
              </a:rPr>
              <a:t>Vol  V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584440" y="1955880"/>
            <a:ext cx="3863880" cy="3073320"/>
            <a:chOff x="2584440" y="1955880"/>
            <a:chExt cx="3863880" cy="3073320"/>
          </a:xfrm>
        </p:grpSpPr>
        <p:sp>
          <p:nvSpPr>
            <p:cNvPr id="111" name=""/>
            <p:cNvSpPr/>
            <p:nvPr/>
          </p:nvSpPr>
          <p:spPr>
            <a:xfrm flipV="1">
              <a:off x="3546360" y="1955880"/>
              <a:ext cx="0" cy="3073320"/>
            </a:xfrm>
            <a:prstGeom prst="line">
              <a:avLst/>
            </a:prstGeom>
            <a:ln w="25560">
              <a:solidFill>
                <a:srgbClr val="ffffff"/>
              </a:solidFill>
              <a:custDash>
                <a:ds d="49296" sp="49296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84440" y="3495600"/>
              <a:ext cx="3863880" cy="0"/>
            </a:xfrm>
            <a:prstGeom prst="line">
              <a:avLst/>
            </a:prstGeom>
            <a:ln w="25560">
              <a:solidFill>
                <a:srgbClr val="ffffff"/>
              </a:solidFill>
              <a:custDash>
                <a:ds d="49296" sp="49296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"/>
          <p:cNvSpPr txBox="1"/>
          <p:nvPr/>
        </p:nvSpPr>
        <p:spPr>
          <a:xfrm>
            <a:off x="0" y="5189400"/>
            <a:ext cx="9131400" cy="3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5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o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733920" y="1955880"/>
            <a:ext cx="774720" cy="3549600"/>
            <a:chOff x="3733920" y="1955880"/>
            <a:chExt cx="774720" cy="3549600"/>
          </a:xfrm>
        </p:grpSpPr>
        <p:sp>
          <p:nvSpPr>
            <p:cNvPr id="115" name=""/>
            <p:cNvSpPr/>
            <p:nvPr/>
          </p:nvSpPr>
          <p:spPr>
            <a:xfrm flipV="1">
              <a:off x="3733920" y="1955880"/>
              <a:ext cx="0" cy="3549600"/>
            </a:xfrm>
            <a:prstGeom prst="line">
              <a:avLst/>
            </a:prstGeom>
            <a:ln w="381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508640" y="1955880"/>
              <a:ext cx="0" cy="3549600"/>
            </a:xfrm>
            <a:prstGeom prst="line">
              <a:avLst/>
            </a:prstGeom>
            <a:ln w="381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 txBox="1"/>
          <p:nvPr/>
        </p:nvSpPr>
        <p:spPr>
          <a:xfrm>
            <a:off x="-157320" y="3260880"/>
            <a:ext cx="4111560" cy="3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5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mp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683160" y="3537000"/>
            <a:ext cx="5448240" cy="1746360"/>
            <a:chOff x="3683160" y="3537000"/>
            <a:chExt cx="5448240" cy="1746360"/>
          </a:xfrm>
        </p:grpSpPr>
        <p:sp>
          <p:nvSpPr>
            <p:cNvPr id="119" name=""/>
            <p:cNvSpPr txBox="1"/>
            <p:nvPr/>
          </p:nvSpPr>
          <p:spPr>
            <a:xfrm>
              <a:off x="7542360" y="4118040"/>
              <a:ext cx="1589040" cy="1165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 algn="ctr">
                <a:lnSpc>
                  <a:spcPct val="95000"/>
                </a:lnSpc>
                <a:spcBef>
                  <a:spcPts val="720"/>
                </a:spcBef>
              </a:pPr>
              <a:r>
                <a:rPr b="1" lang="en-US" sz="3200" spc="-1" strike="noStrike">
                  <a:solidFill>
                    <a:srgbClr val="51dc00"/>
                  </a:solidFill>
                  <a:latin typeface="Arial"/>
                  <a:ea typeface="Arial"/>
                </a:rPr>
                <a:t>no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95000"/>
                </a:lnSpc>
                <a:spcBef>
                  <a:spcPts val="720"/>
                </a:spcBef>
              </a:pPr>
              <a:r>
                <a:rPr b="1" lang="en-US" sz="3200" spc="-1" strike="noStrike">
                  <a:solidFill>
                    <a:srgbClr val="51dc00"/>
                  </a:solidFill>
                  <a:latin typeface="Arial"/>
                  <a:ea typeface="Arial"/>
                </a:rPr>
                <a:t>curren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3683160" y="3537000"/>
              <a:ext cx="4143960" cy="1168920"/>
              <a:chOff x="3683160" y="3537000"/>
              <a:chExt cx="4143960" cy="1168920"/>
            </a:xfrm>
          </p:grpSpPr>
          <p:sp>
            <p:nvSpPr>
              <p:cNvPr id="121" name=""/>
              <p:cNvSpPr/>
              <p:nvPr/>
            </p:nvSpPr>
            <p:spPr>
              <a:xfrm>
                <a:off x="4438800" y="3543120"/>
                <a:ext cx="3387960" cy="1162440"/>
              </a:xfrm>
              <a:custGeom>
                <a:avLst/>
                <a:gdLst/>
                <a:ahLst/>
                <a:rect l="0" t="0" r="r" b="b"/>
                <a:pathLst>
                  <a:path fill="none" w="9411" h="3229">
                    <a:moveTo>
                      <a:pt x="9411" y="3229"/>
                    </a:moveTo>
                    <a:lnTo>
                      <a:pt x="9411" y="3229"/>
                    </a:lnTo>
                    <a:lnTo>
                      <a:pt x="9411" y="3229"/>
                    </a:lnTo>
                    <a:cubicBezTo>
                      <a:pt x="9411" y="2662"/>
                      <a:pt x="8976" y="2105"/>
                      <a:pt x="8150" y="1614"/>
                    </a:cubicBezTo>
                    <a:cubicBezTo>
                      <a:pt x="7324" y="1124"/>
                      <a:pt x="6136" y="716"/>
                      <a:pt x="4705" y="433"/>
                    </a:cubicBezTo>
                    <a:cubicBezTo>
                      <a:pt x="3275" y="149"/>
                      <a:pt x="1652" y="0"/>
                      <a:pt x="0" y="0"/>
                    </a:cubicBezTo>
                  </a:path>
                </a:pathLst>
              </a:custGeom>
              <a:ln w="203040">
                <a:solidFill>
                  <a:srgbClr val="51dc00"/>
                </a:solidFill>
                <a:round/>
                <a:headEnd len="med" type="triangle" w="med"/>
              </a:ln>
            </p:spPr>
            <p:txBody>
              <a:bodyPr lIns="191520" rIns="191520" tIns="146520" bIns="146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83160" y="3537000"/>
                <a:ext cx="4143960" cy="1168920"/>
              </a:xfrm>
              <a:custGeom>
                <a:avLst/>
                <a:gdLst/>
                <a:ahLst/>
                <a:rect l="0" t="0" r="r" b="b"/>
                <a:pathLst>
                  <a:path fill="none" w="11511" h="3247">
                    <a:moveTo>
                      <a:pt x="11511" y="3247"/>
                    </a:moveTo>
                    <a:lnTo>
                      <a:pt x="11511" y="3247"/>
                    </a:lnTo>
                    <a:lnTo>
                      <a:pt x="11511" y="3247"/>
                    </a:lnTo>
                    <a:cubicBezTo>
                      <a:pt x="11511" y="2677"/>
                      <a:pt x="10979" y="2117"/>
                      <a:pt x="9969" y="1623"/>
                    </a:cubicBezTo>
                    <a:cubicBezTo>
                      <a:pt x="8959" y="1130"/>
                      <a:pt x="7505" y="720"/>
                      <a:pt x="5755" y="435"/>
                    </a:cubicBezTo>
                    <a:cubicBezTo>
                      <a:pt x="4006" y="150"/>
                      <a:pt x="2021" y="0"/>
                      <a:pt x="0" y="0"/>
                    </a:cubicBezTo>
                  </a:path>
                </a:pathLst>
              </a:custGeom>
              <a:ln w="203040">
                <a:solidFill>
                  <a:srgbClr val="51dc00"/>
                </a:solidFill>
                <a:round/>
                <a:headEnd len="med" type="triangle" w="med"/>
              </a:ln>
            </p:spPr>
            <p:txBody>
              <a:bodyPr lIns="191520" rIns="191520" tIns="146520" bIns="146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00200" y="1400040"/>
            <a:ext cx="5934240" cy="4105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0" y="506520"/>
            <a:ext cx="913140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ESD or Early Clamp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5840" y="5599080"/>
            <a:ext cx="823896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51dc00"/>
                </a:solidFill>
                <a:latin typeface="Arial"/>
                <a:ea typeface="Arial"/>
              </a:rPr>
              <a:t>Vol  V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584440" y="1955880"/>
            <a:ext cx="3863880" cy="3073320"/>
            <a:chOff x="2584440" y="1955880"/>
            <a:chExt cx="3863880" cy="3073320"/>
          </a:xfrm>
        </p:grpSpPr>
        <p:sp>
          <p:nvSpPr>
            <p:cNvPr id="127" name=""/>
            <p:cNvSpPr/>
            <p:nvPr/>
          </p:nvSpPr>
          <p:spPr>
            <a:xfrm flipV="1">
              <a:off x="3546360" y="1955880"/>
              <a:ext cx="0" cy="3073320"/>
            </a:xfrm>
            <a:prstGeom prst="line">
              <a:avLst/>
            </a:prstGeom>
            <a:ln w="25560">
              <a:solidFill>
                <a:srgbClr val="ffffff"/>
              </a:solidFill>
              <a:custDash>
                <a:ds d="49296" sp="49296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84440" y="3495600"/>
              <a:ext cx="3863880" cy="0"/>
            </a:xfrm>
            <a:prstGeom prst="line">
              <a:avLst/>
            </a:prstGeom>
            <a:ln w="25560">
              <a:solidFill>
                <a:srgbClr val="ffffff"/>
              </a:solidFill>
              <a:custDash>
                <a:ds d="49296" sp="49296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"/>
          <p:cNvSpPr txBox="1"/>
          <p:nvPr/>
        </p:nvSpPr>
        <p:spPr>
          <a:xfrm>
            <a:off x="0" y="5189400"/>
            <a:ext cx="9131400" cy="3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5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o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733920" y="1955880"/>
            <a:ext cx="774720" cy="3549600"/>
            <a:chOff x="3733920" y="1955880"/>
            <a:chExt cx="774720" cy="3549600"/>
          </a:xfrm>
        </p:grpSpPr>
        <p:sp>
          <p:nvSpPr>
            <p:cNvPr id="131" name=""/>
            <p:cNvSpPr/>
            <p:nvPr/>
          </p:nvSpPr>
          <p:spPr>
            <a:xfrm flipV="1">
              <a:off x="3733920" y="1955880"/>
              <a:ext cx="0" cy="3549600"/>
            </a:xfrm>
            <a:prstGeom prst="line">
              <a:avLst/>
            </a:prstGeom>
            <a:ln w="381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508640" y="1955880"/>
              <a:ext cx="0" cy="3549600"/>
            </a:xfrm>
            <a:prstGeom prst="line">
              <a:avLst/>
            </a:prstGeom>
            <a:ln w="381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-157320" y="3260880"/>
            <a:ext cx="4111560" cy="3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5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mp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818480" y="4340160"/>
            <a:ext cx="104148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5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5c300"/>
                </a:solidFill>
                <a:latin typeface="Arial"/>
                <a:ea typeface="Arial"/>
              </a:rPr>
              <a:t>hi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5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5c300"/>
                </a:solidFill>
                <a:latin typeface="Arial"/>
                <a:ea typeface="Arial"/>
              </a:rPr>
              <a:t>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206880" y="3616200"/>
            <a:ext cx="4588200" cy="1448280"/>
            <a:chOff x="3206880" y="3616200"/>
            <a:chExt cx="4588200" cy="1448280"/>
          </a:xfrm>
        </p:grpSpPr>
        <p:sp>
          <p:nvSpPr>
            <p:cNvPr id="136" name=""/>
            <p:cNvSpPr/>
            <p:nvPr/>
          </p:nvSpPr>
          <p:spPr>
            <a:xfrm>
              <a:off x="5204520" y="3616200"/>
              <a:ext cx="2590560" cy="1448280"/>
            </a:xfrm>
            <a:custGeom>
              <a:avLst/>
              <a:gdLst/>
              <a:ahLst/>
              <a:rect l="0" t="0" r="r" b="b"/>
              <a:pathLst>
                <a:path fill="none" w="7196" h="4023">
                  <a:moveTo>
                    <a:pt x="7196" y="4023"/>
                  </a:moveTo>
                  <a:lnTo>
                    <a:pt x="7196" y="4023"/>
                  </a:lnTo>
                  <a:lnTo>
                    <a:pt x="7196" y="4023"/>
                  </a:lnTo>
                  <a:cubicBezTo>
                    <a:pt x="7196" y="3317"/>
                    <a:pt x="6863" y="2623"/>
                    <a:pt x="6232" y="2011"/>
                  </a:cubicBezTo>
                  <a:cubicBezTo>
                    <a:pt x="5600" y="1400"/>
                    <a:pt x="4692" y="892"/>
                    <a:pt x="3598" y="539"/>
                  </a:cubicBezTo>
                  <a:cubicBezTo>
                    <a:pt x="2504" y="186"/>
                    <a:pt x="1263" y="0"/>
                    <a:pt x="0" y="0"/>
                  </a:cubicBezTo>
                </a:path>
              </a:pathLst>
            </a:custGeom>
            <a:ln w="203040">
              <a:solidFill>
                <a:srgbClr val="f5c300"/>
              </a:solidFill>
              <a:round/>
              <a:headEnd len="med" type="triangle" w="med"/>
            </a:ln>
          </p:spPr>
          <p:txBody>
            <a:bodyPr lIns="191520" rIns="191520" tIns="146520" bIns="146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06880" y="3616200"/>
              <a:ext cx="4588200" cy="1448280"/>
            </a:xfrm>
            <a:custGeom>
              <a:avLst/>
              <a:gdLst/>
              <a:ahLst/>
              <a:rect l="0" t="0" r="r" b="b"/>
              <a:pathLst>
                <a:path fill="none" w="12745" h="4023">
                  <a:moveTo>
                    <a:pt x="12745" y="4023"/>
                  </a:moveTo>
                  <a:lnTo>
                    <a:pt x="12745" y="4023"/>
                  </a:lnTo>
                  <a:lnTo>
                    <a:pt x="12745" y="4023"/>
                  </a:lnTo>
                  <a:cubicBezTo>
                    <a:pt x="12745" y="3317"/>
                    <a:pt x="12156" y="2623"/>
                    <a:pt x="11037" y="2011"/>
                  </a:cubicBezTo>
                  <a:cubicBezTo>
                    <a:pt x="9919" y="1400"/>
                    <a:pt x="8310" y="892"/>
                    <a:pt x="6372" y="539"/>
                  </a:cubicBezTo>
                  <a:cubicBezTo>
                    <a:pt x="4435" y="186"/>
                    <a:pt x="2237" y="0"/>
                    <a:pt x="0" y="0"/>
                  </a:cubicBezTo>
                </a:path>
              </a:pathLst>
            </a:custGeom>
            <a:ln w="203040">
              <a:solidFill>
                <a:srgbClr val="f5c300"/>
              </a:solidFill>
              <a:round/>
              <a:headEnd len="med" type="triangle" w="med"/>
            </a:ln>
          </p:spPr>
          <p:txBody>
            <a:bodyPr lIns="191520" rIns="191520" tIns="146520" bIns="146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0" y="506520"/>
            <a:ext cx="913140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I-V curves vs. bias volt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1680" y="5640480"/>
            <a:ext cx="906768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51dc00"/>
                </a:solidFill>
                <a:latin typeface="Arial"/>
                <a:ea typeface="Arial"/>
              </a:rPr>
              <a:t>Vbias in 100 mV inc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046240" y="1285920"/>
            <a:ext cx="504036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0" y="506520"/>
            <a:ext cx="913140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I-V curve of dynamic bi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1680" y="5640480"/>
            <a:ext cx="906768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51dc00"/>
                </a:solidFill>
                <a:latin typeface="Arial"/>
                <a:ea typeface="Arial"/>
              </a:rPr>
              <a:t>Stronger clamping with fewer devic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443320" y="1285920"/>
            <a:ext cx="424512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0" y="506520"/>
            <a:ext cx="913140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Waveforms vs. bias volt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30480" y="1285920"/>
            <a:ext cx="667080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0" y="506520"/>
            <a:ext cx="913140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3-load GTL+ topolog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0200" y="5487840"/>
            <a:ext cx="881064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51dc00"/>
                </a:solidFill>
                <a:latin typeface="Arial"/>
                <a:ea typeface="Arial"/>
              </a:rPr>
              <a:t>Single terminated trace on a test 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76440" y="1301760"/>
            <a:ext cx="777384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98760" y="1295280"/>
            <a:ext cx="5934240" cy="4105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0" y="506520"/>
            <a:ext cx="913140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GTL+ simul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60200" y="5487840"/>
            <a:ext cx="881064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51dc00"/>
                </a:solidFill>
                <a:latin typeface="Arial"/>
                <a:ea typeface="Arial"/>
              </a:rPr>
              <a:t>Waveforms at the test chip rece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378320" y="1622520"/>
            <a:ext cx="4601880" cy="3537000"/>
            <a:chOff x="4378320" y="1622520"/>
            <a:chExt cx="4601880" cy="3537000"/>
          </a:xfrm>
        </p:grpSpPr>
        <p:sp>
          <p:nvSpPr>
            <p:cNvPr id="153" name=""/>
            <p:cNvSpPr txBox="1"/>
            <p:nvPr/>
          </p:nvSpPr>
          <p:spPr>
            <a:xfrm>
              <a:off x="7626240" y="2305080"/>
              <a:ext cx="1353960" cy="1165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5000"/>
                </a:lnSpc>
                <a:spcBef>
                  <a:spcPts val="720"/>
                </a:spcBef>
              </a:pPr>
              <a:r>
                <a:rPr b="1" lang="en-US" sz="3200" spc="-1" strike="noStrike">
                  <a:solidFill>
                    <a:srgbClr val="fc0128"/>
                  </a:solidFill>
                  <a:latin typeface="Arial"/>
                  <a:ea typeface="Arial"/>
                </a:rPr>
                <a:t>clam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95000"/>
                </a:lnSpc>
                <a:spcBef>
                  <a:spcPts val="720"/>
                </a:spcBef>
              </a:pPr>
              <a:r>
                <a:rPr b="1" lang="en-US" sz="3200" spc="-1" strike="noStrike">
                  <a:solidFill>
                    <a:srgbClr val="fc0128"/>
                  </a:solidFill>
                  <a:latin typeface="Arial"/>
                  <a:ea typeface="Arial"/>
                </a:rPr>
                <a:t>OF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7626240" y="3994200"/>
              <a:ext cx="1353960" cy="1165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5000"/>
                </a:lnSpc>
                <a:spcBef>
                  <a:spcPts val="720"/>
                </a:spcBef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am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95000"/>
                </a:lnSpc>
                <a:spcBef>
                  <a:spcPts val="720"/>
                </a:spcBef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O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94440" y="1622520"/>
              <a:ext cx="317880" cy="2835720"/>
            </a:xfrm>
            <a:custGeom>
              <a:avLst/>
              <a:gdLst/>
              <a:ahLst/>
              <a:rect l="0" t="0" r="r" b="b"/>
              <a:pathLst>
                <a:path fill="none" w="883" h="7877">
                  <a:moveTo>
                    <a:pt x="883" y="7877"/>
                  </a:moveTo>
                  <a:lnTo>
                    <a:pt x="883" y="7877"/>
                  </a:lnTo>
                  <a:lnTo>
                    <a:pt x="883" y="7877"/>
                  </a:lnTo>
                  <a:cubicBezTo>
                    <a:pt x="883" y="6494"/>
                    <a:pt x="842" y="5136"/>
                    <a:pt x="765" y="3938"/>
                  </a:cubicBezTo>
                  <a:cubicBezTo>
                    <a:pt x="687" y="2741"/>
                    <a:pt x="576" y="1747"/>
                    <a:pt x="441" y="1055"/>
                  </a:cubicBezTo>
                  <a:cubicBezTo>
                    <a:pt x="307" y="364"/>
                    <a:pt x="155" y="0"/>
                    <a:pt x="0" y="0"/>
                  </a:cubicBezTo>
                </a:path>
              </a:pathLst>
            </a:custGeom>
            <a:ln w="203040">
              <a:solidFill>
                <a:srgbClr val="fc0128"/>
              </a:solidFill>
              <a:round/>
              <a:headEnd len="med" type="triangle" w="med"/>
            </a:ln>
          </p:spPr>
          <p:txBody>
            <a:bodyPr lIns="191520" rIns="191520" tIns="146520" bIns="146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78320" y="4098960"/>
              <a:ext cx="3216600" cy="520920"/>
            </a:xfrm>
            <a:custGeom>
              <a:avLst/>
              <a:gdLst/>
              <a:ahLst/>
              <a:rect l="0" t="0" r="r" b="b"/>
              <a:pathLst>
                <a:path fill="none" w="8935" h="1447">
                  <a:moveTo>
                    <a:pt x="8935" y="1447"/>
                  </a:moveTo>
                  <a:lnTo>
                    <a:pt x="8935" y="1447"/>
                  </a:lnTo>
                  <a:lnTo>
                    <a:pt x="8935" y="1447"/>
                  </a:lnTo>
                  <a:cubicBezTo>
                    <a:pt x="8935" y="1193"/>
                    <a:pt x="8522" y="943"/>
                    <a:pt x="7738" y="723"/>
                  </a:cubicBezTo>
                  <a:cubicBezTo>
                    <a:pt x="6954" y="504"/>
                    <a:pt x="5826" y="321"/>
                    <a:pt x="4467" y="194"/>
                  </a:cubicBezTo>
                  <a:cubicBezTo>
                    <a:pt x="3109" y="67"/>
                    <a:pt x="1568" y="0"/>
                    <a:pt x="0" y="0"/>
                  </a:cubicBezTo>
                </a:path>
              </a:pathLst>
            </a:custGeom>
            <a:ln w="203040">
              <a:solidFill>
                <a:srgbClr val="ffffff"/>
              </a:solidFill>
              <a:round/>
              <a:headEnd len="med" type="triangle" w="med"/>
            </a:ln>
          </p:spPr>
          <p:txBody>
            <a:bodyPr lIns="191520" rIns="191520" tIns="146520" bIns="146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"/>
          <p:cNvSpPr txBox="1"/>
          <p:nvPr/>
        </p:nvSpPr>
        <p:spPr>
          <a:xfrm>
            <a:off x="0" y="5065560"/>
            <a:ext cx="9131400" cy="3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5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me (se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158760" y="3157560"/>
            <a:ext cx="4111560" cy="3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5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o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0" y="506520"/>
            <a:ext cx="913140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GTL+ measur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60200" y="5487840"/>
            <a:ext cx="881064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51dc00"/>
                </a:solidFill>
                <a:latin typeface="Arial"/>
                <a:ea typeface="Arial"/>
              </a:rPr>
              <a:t>Waveforms at the test chip rece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469880" y="1238400"/>
            <a:ext cx="619128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0" y="5487840"/>
            <a:ext cx="91314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51dc00"/>
                </a:solidFill>
                <a:latin typeface="Arial"/>
                <a:ea typeface="Arial"/>
              </a:rPr>
              <a:t>Block diagram of a CMOS si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0" y="506520"/>
            <a:ext cx="913140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6-load CMOS topolog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89160" y="1295280"/>
            <a:ext cx="655308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1714680"/>
            <a:ext cx="9131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63640" indent="-450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-450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blem stat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-450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ory of op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-450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mulated and measured 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-450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BIS modeling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-450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506520"/>
            <a:ext cx="913140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Presentation out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600200" y="1343160"/>
            <a:ext cx="5934240" cy="4105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0" y="506520"/>
            <a:ext cx="913140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6-load CMOS simul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5487840"/>
            <a:ext cx="91314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51dc00"/>
                </a:solidFill>
                <a:latin typeface="Arial"/>
                <a:ea typeface="Arial"/>
              </a:rPr>
              <a:t>Waveforms with Early Clamp ON/O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702560" y="2305080"/>
            <a:ext cx="99216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5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5c300"/>
                </a:solidFill>
                <a:latin typeface="Arial"/>
                <a:ea typeface="Arial"/>
              </a:rPr>
              <a:t>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702560" y="3917880"/>
            <a:ext cx="79056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5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51dc00"/>
                </a:solidFill>
                <a:latin typeface="Arial"/>
                <a:ea typeface="Arial"/>
              </a:rPr>
              <a:t>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0" y="5113440"/>
            <a:ext cx="9131400" cy="3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5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me (se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158760" y="3205080"/>
            <a:ext cx="4111560" cy="3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5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o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87360" y="2638440"/>
            <a:ext cx="5767920" cy="1974960"/>
            <a:chOff x="387360" y="2638440"/>
            <a:chExt cx="5767920" cy="1974960"/>
          </a:xfrm>
        </p:grpSpPr>
        <p:sp>
          <p:nvSpPr>
            <p:cNvPr id="173" name=""/>
            <p:cNvSpPr txBox="1"/>
            <p:nvPr/>
          </p:nvSpPr>
          <p:spPr>
            <a:xfrm>
              <a:off x="387360" y="2838600"/>
              <a:ext cx="1128600" cy="177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5000"/>
                </a:lnSpc>
                <a:spcBef>
                  <a:spcPts val="720"/>
                </a:spcBef>
              </a:pPr>
              <a:r>
                <a:rPr b="1" lang="en-US" sz="3200" spc="-1" strike="noStrike">
                  <a:solidFill>
                    <a:srgbClr val="fc0128"/>
                  </a:solidFill>
                  <a:latin typeface="Arial"/>
                  <a:ea typeface="Arial"/>
                </a:rPr>
                <a:t>will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95000"/>
                </a:lnSpc>
                <a:spcBef>
                  <a:spcPts val="720"/>
                </a:spcBef>
              </a:pPr>
              <a:r>
                <a:rPr b="1" lang="en-US" sz="3200" spc="-1" strike="noStrike">
                  <a:solidFill>
                    <a:srgbClr val="fc0128"/>
                  </a:solidFill>
                  <a:latin typeface="Arial"/>
                  <a:ea typeface="Arial"/>
                </a:rPr>
                <a:t>no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95000"/>
                </a:lnSpc>
                <a:spcBef>
                  <a:spcPts val="720"/>
                </a:spcBef>
              </a:pPr>
              <a:r>
                <a:rPr b="1" lang="en-US" sz="3200" spc="-1" strike="noStrike">
                  <a:solidFill>
                    <a:srgbClr val="fc0128"/>
                  </a:solidFill>
                  <a:latin typeface="Arial"/>
                  <a:ea typeface="Arial"/>
                </a:rPr>
                <a:t>work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327320" y="2638440"/>
              <a:ext cx="2774520" cy="1111680"/>
            </a:xfrm>
            <a:custGeom>
              <a:avLst/>
              <a:gdLst/>
              <a:ahLst/>
              <a:rect l="0" t="0" r="r" b="b"/>
              <a:pathLst>
                <a:path fill="none" w="7707" h="3088">
                  <a:moveTo>
                    <a:pt x="7707" y="0"/>
                  </a:moveTo>
                  <a:lnTo>
                    <a:pt x="7707" y="0"/>
                  </a:lnTo>
                  <a:cubicBezTo>
                    <a:pt x="6354" y="0"/>
                    <a:pt x="5025" y="143"/>
                    <a:pt x="3853" y="414"/>
                  </a:cubicBezTo>
                  <a:cubicBezTo>
                    <a:pt x="2682" y="685"/>
                    <a:pt x="1709" y="1075"/>
                    <a:pt x="1033" y="1544"/>
                  </a:cubicBezTo>
                  <a:cubicBezTo>
                    <a:pt x="356" y="2013"/>
                    <a:pt x="0" y="2546"/>
                    <a:pt x="0" y="3088"/>
                  </a:cubicBezTo>
                </a:path>
              </a:pathLst>
            </a:custGeom>
            <a:ln w="203040">
              <a:solidFill>
                <a:srgbClr val="fc0128"/>
              </a:solidFill>
              <a:round/>
              <a:tailEnd len="med" type="triangle" w="med"/>
            </a:ln>
          </p:spPr>
          <p:txBody>
            <a:bodyPr lIns="191520" rIns="191520" tIns="146520" bIns="146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24080" y="3048120"/>
              <a:ext cx="4831200" cy="702000"/>
            </a:xfrm>
            <a:custGeom>
              <a:avLst/>
              <a:gdLst/>
              <a:ahLst/>
              <a:rect l="0" t="0" r="r" b="b"/>
              <a:pathLst>
                <a:path fill="none" w="13420" h="1950">
                  <a:moveTo>
                    <a:pt x="13420" y="0"/>
                  </a:moveTo>
                  <a:lnTo>
                    <a:pt x="13420" y="0"/>
                  </a:lnTo>
                  <a:cubicBezTo>
                    <a:pt x="11064" y="0"/>
                    <a:pt x="8750" y="90"/>
                    <a:pt x="6710" y="261"/>
                  </a:cubicBezTo>
                  <a:cubicBezTo>
                    <a:pt x="4670" y="432"/>
                    <a:pt x="2976" y="679"/>
                    <a:pt x="1798" y="975"/>
                  </a:cubicBezTo>
                  <a:cubicBezTo>
                    <a:pt x="620" y="1271"/>
                    <a:pt x="0" y="1608"/>
                    <a:pt x="0" y="1950"/>
                  </a:cubicBezTo>
                </a:path>
              </a:pathLst>
            </a:custGeom>
            <a:ln w="203040">
              <a:solidFill>
                <a:srgbClr val="fc0128"/>
              </a:solidFill>
              <a:round/>
              <a:tailEnd len="med" type="triangle" w="med"/>
            </a:ln>
          </p:spPr>
          <p:txBody>
            <a:bodyPr lIns="191520" rIns="191520" tIns="146520" bIns="146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0" y="1576440"/>
            <a:ext cx="9131400" cy="27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0720" indent="-450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s termination technique has high impedance between Vol and V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720"/>
              </a:spcBef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1365120" indent="-450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es not reduce GND bounce refl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65120" indent="-450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es not reduce Vcc droop refl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65120" indent="-450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es not reduce crosstalk refl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506520"/>
            <a:ext cx="913140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Limit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73080" y="4197240"/>
            <a:ext cx="6166080" cy="2565360"/>
            <a:chOff x="973080" y="4197240"/>
            <a:chExt cx="6166080" cy="256536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1996920" y="4197240"/>
              <a:ext cx="5092560" cy="253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0" name=""/>
            <p:cNvGrpSpPr/>
            <p:nvPr/>
          </p:nvGrpSpPr>
          <p:grpSpPr>
            <a:xfrm>
              <a:off x="2828880" y="4540320"/>
              <a:ext cx="3328920" cy="1895400"/>
              <a:chOff x="2828880" y="4540320"/>
              <a:chExt cx="3328920" cy="1895400"/>
            </a:xfrm>
          </p:grpSpPr>
          <p:sp>
            <p:nvSpPr>
              <p:cNvPr id="181" name=""/>
              <p:cNvSpPr/>
              <p:nvPr/>
            </p:nvSpPr>
            <p:spPr>
              <a:xfrm flipV="1">
                <a:off x="3657600" y="4540320"/>
                <a:ext cx="0" cy="1895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custDash>
                  <a:ds d="49296" sp="49296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828880" y="5487840"/>
                <a:ext cx="33289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custDash>
                  <a:ds d="49296" sp="49296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 txBox="1"/>
            <p:nvPr/>
          </p:nvSpPr>
          <p:spPr>
            <a:xfrm>
              <a:off x="973080" y="5335560"/>
              <a:ext cx="2533680" cy="26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 algn="ctr">
                <a:lnSpc>
                  <a:spcPct val="95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mpe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1992240" y="6497640"/>
              <a:ext cx="5124600" cy="26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 algn="ctr">
                <a:lnSpc>
                  <a:spcPct val="95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Vol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3828960" y="4540320"/>
              <a:ext cx="666720" cy="2187360"/>
              <a:chOff x="3828960" y="4540320"/>
              <a:chExt cx="666720" cy="2187360"/>
            </a:xfrm>
          </p:grpSpPr>
          <p:sp>
            <p:nvSpPr>
              <p:cNvPr id="186" name=""/>
              <p:cNvSpPr/>
              <p:nvPr/>
            </p:nvSpPr>
            <p:spPr>
              <a:xfrm flipV="1">
                <a:off x="3828960" y="4540320"/>
                <a:ext cx="0" cy="2187360"/>
              </a:xfrm>
              <a:prstGeom prst="line">
                <a:avLst/>
              </a:prstGeom>
              <a:ln w="381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4495680" y="4540320"/>
                <a:ext cx="0" cy="2187360"/>
              </a:xfrm>
              <a:prstGeom prst="line">
                <a:avLst/>
              </a:prstGeom>
              <a:ln w="381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075200" y="5622840"/>
              <a:ext cx="3063960" cy="753840"/>
              <a:chOff x="4075200" y="5622840"/>
              <a:chExt cx="3063960" cy="753840"/>
            </a:xfrm>
          </p:grpSpPr>
          <p:sp>
            <p:nvSpPr>
              <p:cNvPr id="189" name=""/>
              <p:cNvSpPr txBox="1"/>
              <p:nvPr/>
            </p:nvSpPr>
            <p:spPr>
              <a:xfrm>
                <a:off x="5734080" y="5937120"/>
                <a:ext cx="1405080" cy="439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marL="285840" indent="-285840" algn="ctr">
                  <a:lnSpc>
                    <a:spcPct val="95000"/>
                  </a:lnSpc>
                  <a:spcBef>
                    <a:spcPts val="720"/>
                  </a:spcBef>
                </a:pPr>
                <a:r>
                  <a:rPr b="1" lang="en-US" sz="2400" spc="-1" strike="noStrike">
                    <a:solidFill>
                      <a:srgbClr val="51dc00"/>
                    </a:solidFill>
                    <a:latin typeface="Arial"/>
                    <a:ea typeface="Arial"/>
                  </a:rPr>
                  <a:t>high Z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075200" y="5622840"/>
                <a:ext cx="1803600" cy="586800"/>
              </a:xfrm>
              <a:custGeom>
                <a:avLst/>
                <a:gdLst/>
                <a:ahLst/>
                <a:rect l="0" t="0" r="r" b="b"/>
                <a:pathLst>
                  <a:path fill="none" w="5010" h="1630">
                    <a:moveTo>
                      <a:pt x="5010" y="1630"/>
                    </a:moveTo>
                    <a:lnTo>
                      <a:pt x="5010" y="1630"/>
                    </a:lnTo>
                    <a:lnTo>
                      <a:pt x="5010" y="1630"/>
                    </a:lnTo>
                    <a:cubicBezTo>
                      <a:pt x="5010" y="1344"/>
                      <a:pt x="4779" y="1063"/>
                      <a:pt x="4339" y="815"/>
                    </a:cubicBezTo>
                    <a:cubicBezTo>
                      <a:pt x="3899" y="567"/>
                      <a:pt x="3267" y="361"/>
                      <a:pt x="2505" y="218"/>
                    </a:cubicBezTo>
                    <a:cubicBezTo>
                      <a:pt x="1743" y="75"/>
                      <a:pt x="879" y="0"/>
                      <a:pt x="0" y="0"/>
                    </a:cubicBezTo>
                  </a:path>
                </a:pathLst>
              </a:custGeom>
              <a:ln w="203040">
                <a:solidFill>
                  <a:srgbClr val="51dc00"/>
                </a:solidFill>
                <a:round/>
                <a:headEnd len="med" type="triangle" w="med"/>
              </a:ln>
            </p:spPr>
            <p:txBody>
              <a:bodyPr lIns="191520" rIns="191520" tIns="146520" bIns="146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0" y="506520"/>
            <a:ext cx="913140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Implement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576440"/>
            <a:ext cx="913140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0720" indent="-450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re are numerous ways Early Clamps can be implemented in a bu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936800" indent="-396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odes, BJTs, FET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936800" indent="-396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936800" indent="-396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yna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743200" indent="-45396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dge triggered / ti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743200" indent="-45396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lock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743200" indent="-45396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mbination of the above tw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743200" indent="-45396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l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uff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ypes might have i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0" y="506520"/>
            <a:ext cx="913140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IBIS modeling issu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0" y="1576440"/>
            <a:ext cx="9131400" cy="50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0720" indent="-450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tic Early Clamps can be modeled with current IBIS synt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5920" indent="-450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ND and Power Clamp I-V curves can describe static Early Clamps very w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720"/>
              </a:spcBef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ynamic Early Clamps need additional syntax in IB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5920" indent="-450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timing and amplitude of the I-V curve shift must be described someh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15920" indent="-450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ght need a second set of I-V curves if the shape is also changing with the shi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0" y="1576440"/>
            <a:ext cx="913140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9040" indent="-450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way it 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254240" indent="-450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ansition sensed by input structure which activates the Early Clamp kic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254240" indent="-450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activated by an RC timer or next tran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9040" indent="-450720">
              <a:lnSpc>
                <a:spcPct val="95000"/>
              </a:lnSpc>
              <a:spcBef>
                <a:spcPts val="720"/>
              </a:spcBef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689040" indent="-450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way it could be mode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254240" indent="-450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hift the origin(s) of the clamp I-V cur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254240" indent="-450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rol the timing of the shift with V-t cur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254240" indent="-450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-t curves may need to be full pulses,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254240" indent="-450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-t curves may need to be referenced to different ed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506520"/>
            <a:ext cx="913140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Edge triggered metho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0" y="506520"/>
            <a:ext cx="913140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Clocked metho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576440"/>
            <a:ext cx="9131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0720" indent="-450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way it 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5920" indent="-450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Early Clamp kicker circuit is activated or deactivated by another signal, such as a c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15920" indent="-450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s would usually happen before the edge to be clamped occ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720"/>
              </a:spcBef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way it could be mode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5920" indent="-450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device is a driver, the V-t curves of driver and Early Clamps could have a common reference, eliminating the need for an extra sig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15920" indent="-450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device is a receiver, two inputs are 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0" y="1576440"/>
            <a:ext cx="9131400" cy="46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85760" indent="-450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 effective active termination technique has been develo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085760" indent="-450720">
              <a:lnSpc>
                <a:spcPct val="95000"/>
              </a:lnSpc>
              <a:spcBef>
                <a:spcPts val="720"/>
              </a:spcBef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85760" indent="-450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ll be used in Pentium Pro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085760" indent="-450720">
              <a:lnSpc>
                <a:spcPct val="95000"/>
              </a:lnSpc>
              <a:spcBef>
                <a:spcPts val="720"/>
              </a:spcBef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85760" indent="-450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ust be modeled for realistic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085760" indent="-450720">
              <a:lnSpc>
                <a:spcPct val="95000"/>
              </a:lnSpc>
              <a:spcBef>
                <a:spcPts val="720"/>
              </a:spcBef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85760" indent="-450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 feedback from tool vendors to write a good BI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085760" indent="-450720">
              <a:lnSpc>
                <a:spcPct val="95000"/>
              </a:lnSpc>
              <a:spcBef>
                <a:spcPts val="720"/>
              </a:spcBef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85760" indent="-450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ust have in IBIS 3.0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506520"/>
            <a:ext cx="913140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1903320"/>
            <a:ext cx="9131400" cy="28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0720" indent="-450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CD needed to develop a low cost desktop chip set solution for the P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825560" indent="-450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C market is highly competi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825560" indent="-450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gins are very narr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825560" indent="-450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very penny cou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506520"/>
            <a:ext cx="913140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Backgroun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1576440"/>
            <a:ext cx="91314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440" indent="-46044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dual terminated GTL+ bus is relatively expensive due to the need for two termination resistors per 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5000"/>
              </a:lnSpc>
              <a:spcBef>
                <a:spcPts val="720"/>
              </a:spcBef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1603440" indent="-45720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gh part count (140 * 2 = 280 resisto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603440" indent="-45720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gh power consumption                                              (20 mA * 280 = 5.6 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603440" indent="-45720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rge board space (routing probl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5000"/>
              </a:lnSpc>
              <a:spcBef>
                <a:spcPts val="720"/>
              </a:spcBef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R termination has reflection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506520"/>
            <a:ext cx="913140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Proble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1576440"/>
            <a:ext cx="913140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0720" indent="-45072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e found another termination technique which works equally well in GTL+ and CMOS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720"/>
              </a:spcBef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1603440" indent="-44460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ing fewer parts                                                       (one or no resistor per ne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603440" indent="-44460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wer power consumption                                        (fewer resistors and higher R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603440" indent="-44460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owing faster clock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603440" indent="-444600">
              <a:lnSpc>
                <a:spcPct val="95000"/>
              </a:lnSpc>
              <a:spcBef>
                <a:spcPts val="720"/>
              </a:spcBef>
              <a:buClr>
                <a:srgbClr val="f5c3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ing less board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506520"/>
            <a:ext cx="913140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Good new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0" y="506520"/>
            <a:ext cx="913140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T-topology is the wors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34920" y="1400040"/>
            <a:ext cx="7262640" cy="3886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0" y="5481720"/>
            <a:ext cx="91314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51dc00"/>
                </a:solidFill>
                <a:latin typeface="Arial"/>
                <a:ea typeface="Arial"/>
              </a:rPr>
              <a:t>Experimenting with 1R in a GTL+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506520"/>
            <a:ext cx="913140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Unterminated ends = ring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567560" y="3044880"/>
            <a:ext cx="1549440" cy="1558800"/>
            <a:chOff x="7567560" y="3044880"/>
            <a:chExt cx="1549440" cy="1558800"/>
          </a:xfrm>
        </p:grpSpPr>
        <p:sp>
          <p:nvSpPr>
            <p:cNvPr id="59" name=""/>
            <p:cNvSpPr txBox="1"/>
            <p:nvPr/>
          </p:nvSpPr>
          <p:spPr>
            <a:xfrm>
              <a:off x="7567560" y="3044880"/>
              <a:ext cx="1549440" cy="590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4000" spc="-1" strike="noStrike">
                  <a:solidFill>
                    <a:srgbClr val="51dc00"/>
                  </a:solidFill>
                  <a:latin typeface="Arial"/>
                  <a:ea typeface="Arial"/>
                </a:rPr>
                <a:t>Vo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7567560" y="4013280"/>
              <a:ext cx="1549440" cy="590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4000" spc="-1" strike="noStrike">
                  <a:solidFill>
                    <a:srgbClr val="51dc00"/>
                  </a:solidFill>
                  <a:latin typeface="Arial"/>
                  <a:ea typeface="Arial"/>
                </a:rPr>
                <a:t>Vo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98760" y="1400040"/>
            <a:ext cx="5934240" cy="410544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2584440" y="3276720"/>
            <a:ext cx="5172120" cy="1006200"/>
            <a:chOff x="2584440" y="3276720"/>
            <a:chExt cx="5172120" cy="1006200"/>
          </a:xfrm>
        </p:grpSpPr>
        <p:sp>
          <p:nvSpPr>
            <p:cNvPr id="63" name=""/>
            <p:cNvSpPr/>
            <p:nvPr/>
          </p:nvSpPr>
          <p:spPr>
            <a:xfrm>
              <a:off x="2584440" y="3276720"/>
              <a:ext cx="5172120" cy="0"/>
            </a:xfrm>
            <a:prstGeom prst="line">
              <a:avLst/>
            </a:prstGeom>
            <a:ln w="381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84440" y="4282920"/>
              <a:ext cx="5172120" cy="0"/>
            </a:xfrm>
            <a:prstGeom prst="line">
              <a:avLst/>
            </a:prstGeom>
            <a:ln w="381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82600" y="4540320"/>
            <a:ext cx="3400560" cy="1670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0" y="5189400"/>
            <a:ext cx="9131400" cy="3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5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me (se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157320" y="3260880"/>
            <a:ext cx="4111560" cy="3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5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o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09560" y="1400040"/>
            <a:ext cx="5908680" cy="4105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15840" y="5599080"/>
            <a:ext cx="823896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51dc00"/>
                </a:solidFill>
                <a:latin typeface="Arial"/>
                <a:ea typeface="Arial"/>
              </a:rPr>
              <a:t>Vol  V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506520"/>
            <a:ext cx="913140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I-V curve of 50</a:t>
            </a:r>
            <a:r>
              <a:rPr b="1" lang="en-US" sz="4800" spc="-1" strike="noStrike">
                <a:solidFill>
                  <a:srgbClr val="f5c300"/>
                </a:solidFill>
                <a:latin typeface="Symbol"/>
                <a:ea typeface="Symbol"/>
              </a:rPr>
              <a:t>Ω </a:t>
            </a: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R at Vo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584440" y="1955880"/>
            <a:ext cx="3863880" cy="3073320"/>
            <a:chOff x="2584440" y="1955880"/>
            <a:chExt cx="3863880" cy="3073320"/>
          </a:xfrm>
        </p:grpSpPr>
        <p:sp>
          <p:nvSpPr>
            <p:cNvPr id="72" name=""/>
            <p:cNvSpPr/>
            <p:nvPr/>
          </p:nvSpPr>
          <p:spPr>
            <a:xfrm flipV="1">
              <a:off x="3546360" y="1955880"/>
              <a:ext cx="0" cy="3073320"/>
            </a:xfrm>
            <a:prstGeom prst="line">
              <a:avLst/>
            </a:prstGeom>
            <a:ln w="25560">
              <a:solidFill>
                <a:srgbClr val="ffffff"/>
              </a:solidFill>
              <a:custDash>
                <a:ds d="49296" sp="49296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84440" y="3495600"/>
              <a:ext cx="3863880" cy="0"/>
            </a:xfrm>
            <a:prstGeom prst="line">
              <a:avLst/>
            </a:prstGeom>
            <a:ln w="25560">
              <a:solidFill>
                <a:srgbClr val="ffffff"/>
              </a:solidFill>
              <a:custDash>
                <a:ds d="49296" sp="49296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" name=""/>
          <p:cNvSpPr txBox="1"/>
          <p:nvPr/>
        </p:nvSpPr>
        <p:spPr>
          <a:xfrm>
            <a:off x="0" y="5189400"/>
            <a:ext cx="9131400" cy="3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5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o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733920" y="1955880"/>
            <a:ext cx="774720" cy="3549600"/>
            <a:chOff x="3733920" y="1955880"/>
            <a:chExt cx="774720" cy="3549600"/>
          </a:xfrm>
        </p:grpSpPr>
        <p:sp>
          <p:nvSpPr>
            <p:cNvPr id="76" name=""/>
            <p:cNvSpPr/>
            <p:nvPr/>
          </p:nvSpPr>
          <p:spPr>
            <a:xfrm flipV="1">
              <a:off x="3733920" y="1955880"/>
              <a:ext cx="0" cy="3549600"/>
            </a:xfrm>
            <a:prstGeom prst="line">
              <a:avLst/>
            </a:prstGeom>
            <a:ln w="381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508640" y="1955880"/>
              <a:ext cx="0" cy="3549600"/>
            </a:xfrm>
            <a:prstGeom prst="line">
              <a:avLst/>
            </a:prstGeom>
            <a:ln w="381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"/>
          <p:cNvSpPr txBox="1"/>
          <p:nvPr/>
        </p:nvSpPr>
        <p:spPr>
          <a:xfrm>
            <a:off x="-157320" y="3260880"/>
            <a:ext cx="4111560" cy="3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5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mp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547040" y="2971800"/>
            <a:ext cx="158436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5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5c300"/>
                </a:solidFill>
                <a:latin typeface="Arial"/>
                <a:ea typeface="Arial"/>
              </a:rPr>
              <a:t>hi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5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5c300"/>
                </a:solidFill>
                <a:latin typeface="Arial"/>
                <a:ea typeface="Arial"/>
              </a:rPr>
              <a:t>cur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50000" y="2325600"/>
            <a:ext cx="587880" cy="4445280"/>
          </a:xfrm>
          <a:custGeom>
            <a:avLst/>
            <a:gdLst/>
            <a:ahLst/>
            <a:rect l="0" t="0" r="r" b="b"/>
            <a:pathLst>
              <a:path fill="none" w="1633" h="12348">
                <a:moveTo>
                  <a:pt x="1633" y="12348"/>
                </a:moveTo>
                <a:lnTo>
                  <a:pt x="1633" y="12348"/>
                </a:lnTo>
                <a:lnTo>
                  <a:pt x="1633" y="12348"/>
                </a:lnTo>
                <a:cubicBezTo>
                  <a:pt x="1633" y="10180"/>
                  <a:pt x="1558" y="8051"/>
                  <a:pt x="1414" y="6174"/>
                </a:cubicBezTo>
                <a:cubicBezTo>
                  <a:pt x="1271" y="4297"/>
                  <a:pt x="1065" y="2738"/>
                  <a:pt x="816" y="1654"/>
                </a:cubicBezTo>
                <a:cubicBezTo>
                  <a:pt x="568" y="571"/>
                  <a:pt x="287" y="0"/>
                  <a:pt x="0" y="0"/>
                </a:cubicBezTo>
              </a:path>
            </a:pathLst>
          </a:custGeom>
          <a:ln w="203040">
            <a:solidFill>
              <a:srgbClr val="f5c300"/>
            </a:solidFill>
            <a:round/>
            <a:headEnd len="med" type="triangle" w="med"/>
          </a:ln>
        </p:spPr>
        <p:txBody>
          <a:bodyPr lIns="191520" rIns="191520" tIns="146520" bIns="146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09560" y="1400040"/>
            <a:ext cx="5908680" cy="4105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0" y="506520"/>
            <a:ext cx="913140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I-V curve of 50</a:t>
            </a:r>
            <a:r>
              <a:rPr b="1" lang="en-US" sz="4800" spc="-1" strike="noStrike">
                <a:solidFill>
                  <a:srgbClr val="f5c300"/>
                </a:solidFill>
                <a:latin typeface="Symbol"/>
                <a:ea typeface="Symbol"/>
              </a:rPr>
              <a:t>Ω </a:t>
            </a: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R at GN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5840" y="5599080"/>
            <a:ext cx="7832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51dc00"/>
                </a:solidFill>
                <a:latin typeface="Arial"/>
                <a:ea typeface="Arial"/>
              </a:rPr>
              <a:t>Vol  V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584440" y="1955880"/>
            <a:ext cx="3863880" cy="3073320"/>
            <a:chOff x="2584440" y="1955880"/>
            <a:chExt cx="3863880" cy="3073320"/>
          </a:xfrm>
        </p:grpSpPr>
        <p:sp>
          <p:nvSpPr>
            <p:cNvPr id="85" name=""/>
            <p:cNvSpPr/>
            <p:nvPr/>
          </p:nvSpPr>
          <p:spPr>
            <a:xfrm flipV="1">
              <a:off x="3546360" y="1955880"/>
              <a:ext cx="0" cy="3073320"/>
            </a:xfrm>
            <a:prstGeom prst="line">
              <a:avLst/>
            </a:prstGeom>
            <a:ln w="25560">
              <a:solidFill>
                <a:srgbClr val="ffffff"/>
              </a:solidFill>
              <a:custDash>
                <a:ds d="49296" sp="49296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84440" y="3495600"/>
              <a:ext cx="3863880" cy="0"/>
            </a:xfrm>
            <a:prstGeom prst="line">
              <a:avLst/>
            </a:prstGeom>
            <a:ln w="25560">
              <a:solidFill>
                <a:srgbClr val="ffffff"/>
              </a:solidFill>
              <a:custDash>
                <a:ds d="49296" sp="49296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" name=""/>
          <p:cNvSpPr txBox="1"/>
          <p:nvPr/>
        </p:nvSpPr>
        <p:spPr>
          <a:xfrm>
            <a:off x="0" y="5189400"/>
            <a:ext cx="9131400" cy="3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5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o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543480" y="1962000"/>
            <a:ext cx="774360" cy="3549960"/>
            <a:chOff x="3543480" y="1962000"/>
            <a:chExt cx="774360" cy="3549960"/>
          </a:xfrm>
        </p:grpSpPr>
        <p:sp>
          <p:nvSpPr>
            <p:cNvPr id="89" name=""/>
            <p:cNvSpPr/>
            <p:nvPr/>
          </p:nvSpPr>
          <p:spPr>
            <a:xfrm flipV="1">
              <a:off x="3543480" y="1962000"/>
              <a:ext cx="0" cy="3549960"/>
            </a:xfrm>
            <a:prstGeom prst="line">
              <a:avLst/>
            </a:prstGeom>
            <a:ln w="381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317840" y="1962000"/>
              <a:ext cx="0" cy="3549960"/>
            </a:xfrm>
            <a:prstGeom prst="line">
              <a:avLst/>
            </a:prstGeom>
            <a:ln w="381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"/>
          <p:cNvSpPr txBox="1"/>
          <p:nvPr/>
        </p:nvSpPr>
        <p:spPr>
          <a:xfrm>
            <a:off x="-157320" y="3260880"/>
            <a:ext cx="4111560" cy="3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5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mp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547040" y="2971800"/>
            <a:ext cx="158256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5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5c300"/>
                </a:solidFill>
                <a:latin typeface="Arial"/>
                <a:ea typeface="Arial"/>
              </a:rPr>
              <a:t>hi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5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5c300"/>
                </a:solidFill>
                <a:latin typeface="Arial"/>
                <a:ea typeface="Arial"/>
              </a:rPr>
              <a:t>cur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4200" y="555480"/>
            <a:ext cx="778320" cy="3921480"/>
          </a:xfrm>
          <a:custGeom>
            <a:avLst/>
            <a:gdLst/>
            <a:ahLst/>
            <a:rect l="0" t="0" r="r" b="b"/>
            <a:pathLst>
              <a:path fill="none" w="2162" h="10893">
                <a:moveTo>
                  <a:pt x="2162" y="0"/>
                </a:moveTo>
                <a:lnTo>
                  <a:pt x="2162" y="0"/>
                </a:lnTo>
                <a:cubicBezTo>
                  <a:pt x="1782" y="0"/>
                  <a:pt x="1410" y="503"/>
                  <a:pt x="1081" y="1459"/>
                </a:cubicBezTo>
                <a:cubicBezTo>
                  <a:pt x="752" y="2415"/>
                  <a:pt x="479" y="3791"/>
                  <a:pt x="290" y="5447"/>
                </a:cubicBezTo>
                <a:cubicBezTo>
                  <a:pt x="100" y="7102"/>
                  <a:pt x="0" y="8981"/>
                  <a:pt x="0" y="10893"/>
                </a:cubicBezTo>
              </a:path>
            </a:pathLst>
          </a:custGeom>
          <a:ln w="203040">
            <a:solidFill>
              <a:srgbClr val="f5c300"/>
            </a:solidFill>
            <a:round/>
            <a:tailEnd len="med" type="triangle" w="med"/>
          </a:ln>
        </p:spPr>
        <p:txBody>
          <a:bodyPr lIns="191520" rIns="191520" tIns="146520" bIns="146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pad Muranyi, Intel, Folsom, CA</dc:creator>
  <dc:description/>
  <dc:language>en-US</dc:language>
  <cp:lastModifiedBy>Arpad Muranyi</cp:lastModifiedBy>
  <cp:revision>0</cp:revision>
  <dc:subject/>
  <dc:title>IDTC '95 presentation</dc:title>
</cp:coreProperties>
</file>