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0360" y="6485040"/>
            <a:ext cx="1370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HyperLynx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13DF1143-2B60-4A31-8575-9EF521931B50}" type="datetime">
              <a:rPr b="0" i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59464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1AA9169-EA6A-477D-A7BA-13257FA98BED}" type="slidenum">
              <a:rPr b="0" i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15228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457200" cy="5867280"/>
          </a:xfrm>
          <a:prstGeom prst="rect">
            <a:avLst/>
          </a:prstGeom>
          <a:noFill/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98108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ual IBIS Editor for Wind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89680" y="5013360"/>
            <a:ext cx="269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y Kellee Crisafu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yperLynx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95400" y="4133880"/>
            <a:ext cx="18446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new features should be ad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Ideas from us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6) Laudie Doubra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sum/difference to clamp and pullup tables, same for pulldown</a:t>
            </a: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7) Laudie Doubra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llow access to the edit window when view windows a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8) Laudie Doubra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llow multiple view windows to be open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9) Laudie Doubra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some type of mark to indicate the actual data points on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10) Bob Ross: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sorting on model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11) Bob Ross: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isplay the actual model types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76212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000" y="152280"/>
            <a:ext cx="93348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new features should be ad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Ideas from us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12) Kellee: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SPICE to IBIS translator code from North Carolina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long with a version of Berkley SP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13) Kellee: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Update the syntax checker to the lates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76212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9000" y="152280"/>
            <a:ext cx="93348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14400" y="1676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contact me with ideas:</a:t>
            </a:r>
            <a:br>
              <a:rPr sz="2800"/>
            </a:b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: 206-869-2320</a:t>
            </a:r>
            <a:br>
              <a:rPr sz="2800"/>
            </a:b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x: 206-881-1008</a:t>
            </a:r>
            <a:br>
              <a:rPr sz="2800"/>
            </a:b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mail: kellee@hyperlynx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546880" y="5318280"/>
            <a:ext cx="2690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y Kellee Crisafu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yperLynx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763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95320" y="76320"/>
            <a:ext cx="118260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753320" y="838080"/>
            <a:ext cx="11826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800440" y="762120"/>
            <a:ext cx="11826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677000" y="3200400"/>
            <a:ext cx="118260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971640" y="3200400"/>
            <a:ext cx="11826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5400" y="152280"/>
            <a:ext cx="11826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2876400" y="5105520"/>
            <a:ext cx="1182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93640" y="128520"/>
            <a:ext cx="8474040" cy="68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Please help us prioritize these ideas and add you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( Prioritize the items as 1=must, 4=not needed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printing for  I-V cu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llow the use of other file extensions beside .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Viewing V/I plots in “data book”  or standard format with all voltages referenced to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autoscaling and manual scaling to view displays (presently fixed rang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select by pin model name (presently only select by signal 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sum/difference to clamp and pullup tables, same for pull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llow access to the edit window when view windows are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llow multiple view windows to be open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some type of mark to indicate the actual data points on pl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sorting on model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Display the actual model type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Add SPICE to IBIS translator code from North Carolina State along with a version of Berkley SP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What version of Berkley Spice would be most useful? 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Update the syntax checker to the latest code  (V3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[  ] </a:t>
            </a:r>
            <a:r>
              <a:rPr b="1" i="1" lang="en-US" sz="1200" spc="-1" strike="noStrike" u="sng">
                <a:solidFill>
                  <a:srgbClr val="414141"/>
                </a:solidFill>
                <a:uFillTx/>
                <a:latin typeface="Arial"/>
                <a:ea typeface="Arial"/>
              </a:rPr>
              <a:t>I would like to see the following add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*********************** WHO ARE YOU? 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Company:______________________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600" spc="-1" strike="noStrike">
                <a:solidFill>
                  <a:srgbClr val="414141"/>
                </a:solidFill>
                <a:latin typeface="Arial"/>
                <a:ea typeface="Arial"/>
              </a:rPr>
              <a:t>Do you have an IBIS contact at your compa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Name:_____________________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Name:_________________________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PH:___________________________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PH: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FX:___________________________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FX: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EMAIL:________________________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EMAIL: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Is your company a CAE tools company?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(Y/N)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        Are you making IBIS models?(Y/N)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Is your company involved in IC manufacturing?(Y/N)____   Are you using IBIS models for simulation?(Y/N)______</a:t>
            </a:r>
            <a:r>
              <a:rPr b="0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rief Look at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ual IBIS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160020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What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Where do I ge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Releas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What new features should be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76212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Visual IBIS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300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14141"/>
              </a:buClr>
              <a:buSzPct val="7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Large Memory Windows Standard Text Editor </a:t>
            </a:r>
            <a:r>
              <a:rPr b="0" i="1" lang="en-US" sz="2000" spc="-1" strike="noStrike">
                <a:solidFill>
                  <a:srgbClr val="414141"/>
                </a:solidFill>
                <a:latin typeface="Arial"/>
                <a:ea typeface="Arial"/>
              </a:rPr>
              <a:t>including  special features for source code editing e.g. go to line 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14141"/>
              </a:buClr>
              <a:buSzPct val="7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uilt-in syntax checker (EIA 656 IBIS V1.1 and V2.1)  </a:t>
            </a:r>
            <a:r>
              <a:rPr b="0" i="1" lang="en-US" sz="2000" spc="-1" strike="noStrike">
                <a:solidFill>
                  <a:srgbClr val="414141"/>
                </a:solidFill>
                <a:latin typeface="Arial"/>
                <a:ea typeface="Arial"/>
              </a:rPr>
              <a:t>Uses the same code as the IBIS open forum parser so you can depend on the results matching.  Since it is built-in, you can run the checker at any time just like a spell checker would be used in a text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14141"/>
              </a:buClr>
              <a:buSzPct val="7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raphical viewer for tables</a:t>
            </a:r>
            <a:r>
              <a:rPr b="0" i="1" lang="en-US" sz="2000" spc="-1" strike="noStrike">
                <a:solidFill>
                  <a:srgbClr val="414141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14141"/>
              </a:buClr>
              <a:buSzPct val="7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BIS file creation wizard</a:t>
            </a:r>
            <a:r>
              <a:rPr b="0" i="1" lang="en-US" sz="2000" spc="-1" strike="noStrike">
                <a:solidFill>
                  <a:srgbClr val="414141"/>
                </a:solidFill>
                <a:latin typeface="Arial"/>
                <a:ea typeface="Arial"/>
              </a:rPr>
              <a:t>; creates either a V1.1 or V2.1  skeleton file.  The skeleton file contains a basic IBIS  foundation model to begin developing a new model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14141"/>
              </a:buClr>
              <a:buSzPct val="7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ree downloading from our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838080" y="333684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es Visual IBIS Editor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14520" y="147636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777960" y="318456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es Visual IBIS Editor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1647720"/>
            <a:ext cx="5172120" cy="4152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-83808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es Visual IBIS Editor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14600" y="1647720"/>
            <a:ext cx="5172120" cy="4152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-83808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re do I ge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76212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3040" y="2581200"/>
            <a:ext cx="8325000" cy="2728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914400" y="3657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http://www.hyperlynx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5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eas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76520" y="19051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First Release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- 4Q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Feature update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- 1Q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Bug fix update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- 2Q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Bug fix update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- 4Q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eature update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- 1Q9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76212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9528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new features should be ad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7524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414141"/>
                </a:solidFill>
                <a:latin typeface="Arial"/>
                <a:ea typeface="Arial"/>
              </a:rPr>
              <a:t>Ideas from us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1) Greg Edlund: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printing for  I-V cu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2) Weston Beal, Laudie Doubrav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llow the use of other file extensions beside .I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3) Laudie Doubrava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 want the option of viewing V/I plots in the original data book or standard engineering format with all voltages referenced to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4) Bob Ross, Laudie Doubrav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autoscaling to view displays.  (presently fixed r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lso allow manual scal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5) Bob Ross , Laudie Doubra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dd select by pin model name (presently only select by signal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762120" y="3260880"/>
            <a:ext cx="255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ual IBIS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9000" y="152280"/>
            <a:ext cx="93348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llee Crisafulli</dc:creator>
  <dc:description/>
  <dc:language>en-US</dc:language>
  <cp:lastModifiedBy>Kellee Crisafulli</cp:lastModifiedBy>
  <cp:revision>0</cp:revision>
  <dc:subject/>
  <dc:title>PCB Format Proposal for IBIS and a Look at Visual IBIS Editor</dc:title>
</cp:coreProperties>
</file>