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onnectors, Sockets, 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connectix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IS Open Forum 1/29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ice Models (what to look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nector Model - BIRD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cluding R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pice Connector - Single 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umped - Several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mi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ctions and Ed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ound Reference - Assumed Signal/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ice Subcircuit or Data Shee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do Pin Mapping to Connector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pice Models - Coupled P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oup or Grou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tions (divide by n) and Edg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ymmetry (E.g., 3 Inductor, 2 or 4 Capacitor S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ound Reference or Im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d Capacitance (0.5pF - 2p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breaks, Consistency of Groupings (6 columns may just be generalization of 3 colum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n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ce Subcircuits from Field Solvers Sour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ps to Maxwell Cap. Matrix, Coupling Coef to Induct.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pping Issue More Complicated - Physical Block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pi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bcircuit May not Describe Actual Device - E.g. Fin Connections and G=0 NOT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derstand Model - Inconsistent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consisten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upling Across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complet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correct Number of 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fined Reference vs assumed signal/ref. vs. no R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derstand Actual Mapping to Physical Mapping of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t of Lumped Sections STILL an Approx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CLUSION - Must Consider SPICE sections as Approxi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BIRD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eld Solver Sour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ufacturers Provide the Mapping and Deal with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ufacturers Provide the Pin Numb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iginal BIRD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lit the Model Into Two Sections - Explicit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ll out Each Connector Instance - PCB Pins Numbers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 Technical Change of IBIS - Consistent with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mulator Handles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pports Internal Clamps and Pullups with [Mode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fault Disconnect Structure with Spli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Revised BIRD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or Two Pin Columns - Handles numbering, cross connection, and symmetry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bed Cable Within Connector Model grou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d Capacitanc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eated as Subcircuit - Simulator can do actual Pin Number to Connector Mapping - E.g. 2 Connectors to 1 S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nient, but does not support Internal Diodes and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lied SYMMETRY of Structure based on L-C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oncluding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ce Model As Sourc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n Cen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ST understand Model Details &amp;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ST do complet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ST do conversion if no “Spice Process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RD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nector Centric - Instance Cen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urce Data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tential for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pping to Multiboard by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tential for Occupied/Unoccupied Connectors/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 Ross</cp:lastModifiedBy>
  <cp:revision>0</cp:revision>
  <dc:subject/>
  <dc:title>Connector Models</dc:title>
</cp:coreProperties>
</file>