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826D26CB-0120-4F1A-9DEC-0C590EE41748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673E34A-1951-4946-B110-CF43F41136F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89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EAED49B6-5811-47F2-B40B-88D02BB46FF7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32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F7FB1DFB-842A-4A8E-8388-A3E72E4C792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7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1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1421B60-8F2A-403A-B744-FD598B2829C8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18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13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DF421B7-34CD-438D-B3B9-585A7598FF0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B8B00D9-B40B-46A7-BC07-74496C796EC3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88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45BD7BC-AF89-45EE-9C27-9B8C1D5D5FE4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31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8B4D354-3869-4C8F-931A-37FFDB6C184B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74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FDC13C5E-D76C-4141-B73D-DECA14EED8B1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17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6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171360" indent="-171360">
              <a:buClr>
                <a:srgbClr val="000000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171360" indent="-171360">
              <a:buClr>
                <a:srgbClr val="000000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ABFEF67-D63A-4E1E-A1C9-908D149FD06C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60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D427D0B-1149-4E7D-A480-78DDF4B1128C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03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A7C8CD14-BD0F-4DC5-843A-84783FE3258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46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9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mbined I-V Table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hecks (BUG140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7816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IBIS Sum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ta Clara, CA, January 31, 201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b Ros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ingxin Sun, Joy Li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raspeed Consulting Grou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dence Desig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nyx@cadence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oyli@cadence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ug140a.ibs Maximum Data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Vdd = 1.3 V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96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7" name="Picture 3" descr="V-I data - IBISIndicator"/>
          <p:cNvPicPr/>
          <p:nvPr/>
        </p:nvPicPr>
        <p:blipFill>
          <a:blip r:embed="rId1"/>
          <a:stretch/>
        </p:blipFill>
        <p:spPr>
          <a:xfrm>
            <a:off x="714240" y="1254240"/>
            <a:ext cx="7696440" cy="502920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"/>
          <p:cNvCxnSpPr/>
          <p:nvPr/>
        </p:nvCxnSpPr>
        <p:spPr>
          <a:xfrm>
            <a:off x="6781320" y="2209680"/>
            <a:ext cx="108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7"/>
          <p:cNvCxnSpPr/>
          <p:nvPr/>
        </p:nvCxnSpPr>
        <p:spPr>
          <a:xfrm flipV="1">
            <a:off x="2971440" y="4266720"/>
            <a:ext cx="108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0" name="TextBox 8"/>
          <p:cNvSpPr/>
          <p:nvPr/>
        </p:nvSpPr>
        <p:spPr>
          <a:xfrm>
            <a:off x="63244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.8 V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TextBox 9"/>
          <p:cNvSpPr/>
          <p:nvPr/>
        </p:nvSpPr>
        <p:spPr>
          <a:xfrm>
            <a:off x="1905120" y="438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.8 V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TextBox 10"/>
          <p:cNvSpPr/>
          <p:nvPr/>
        </p:nvSpPr>
        <p:spPr>
          <a:xfrm>
            <a:off x="2233440" y="229068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wer Clamp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TextBox 11"/>
          <p:cNvSpPr/>
          <p:nvPr/>
        </p:nvSpPr>
        <p:spPr>
          <a:xfrm>
            <a:off x="4038480" y="24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ulldown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5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6" name="Picture 3" descr="GoldenParsar_Monotonic.pdf - Adobe Reader"/>
          <p:cNvPicPr/>
          <p:nvPr/>
        </p:nvPicPr>
        <p:blipFill>
          <a:blip r:embed="rId1"/>
          <a:stretch/>
        </p:blipFill>
        <p:spPr>
          <a:xfrm>
            <a:off x="182520" y="0"/>
            <a:ext cx="877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8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9" name="Picture 3" descr="GoldenParsar_Monotonic.pdf - Adobe Reader"/>
          <p:cNvPicPr/>
          <p:nvPr/>
        </p:nvPicPr>
        <p:blipFill>
          <a:blip r:embed="rId1"/>
          <a:stretch/>
        </p:blipFill>
        <p:spPr>
          <a:xfrm>
            <a:off x="182520" y="0"/>
            <a:ext cx="877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hecking bug140b.ib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11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04920" y="1219320"/>
            <a:ext cx="8610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BISCHK5 V5.1.2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ing bug140b.ibs for IBIS 4.2 Compatibility...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 40) - Pulldown Min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 51) - Pulldown Max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 52) - Pulldown Typical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135) - Pullup Typical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146) - Pullup Max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202) - Pullup Min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NING - Combined Pulldown for Model: model_with_warning Typical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NING - Combined Pulldown for Model: model_with_warning Max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s  : 0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nings: 2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Passed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Oval 4"/>
          <p:cNvSpPr/>
          <p:nvPr/>
        </p:nvSpPr>
        <p:spPr>
          <a:xfrm>
            <a:off x="6477120" y="3311640"/>
            <a:ext cx="914400" cy="42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ug140b.ibs Typical Data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Vdd = 1.5V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15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6" name="Picture 3" descr="V-I data - IBISIndicator"/>
          <p:cNvPicPr/>
          <p:nvPr/>
        </p:nvPicPr>
        <p:blipFill>
          <a:blip r:embed="rId1"/>
          <a:stretch/>
        </p:blipFill>
        <p:spPr>
          <a:xfrm>
            <a:off x="581040" y="1219320"/>
            <a:ext cx="7848720" cy="5127480"/>
          </a:xfrm>
          <a:prstGeom prst="rect">
            <a:avLst/>
          </a:prstGeom>
          <a:ln w="0">
            <a:noFill/>
          </a:ln>
        </p:spPr>
      </p:pic>
      <p:cxnSp>
        <p:nvCxnSpPr>
          <p:cNvPr id="617" name="Straight Arrow Connector 2"/>
          <p:cNvCxnSpPr/>
          <p:nvPr/>
        </p:nvCxnSpPr>
        <p:spPr>
          <a:xfrm>
            <a:off x="6362280" y="3962160"/>
            <a:ext cx="108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8" name="Straight Arrow Connector 6"/>
          <p:cNvCxnSpPr/>
          <p:nvPr/>
        </p:nvCxnSpPr>
        <p:spPr>
          <a:xfrm>
            <a:off x="3123720" y="4419360"/>
            <a:ext cx="108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9" name="TextBox 7"/>
          <p:cNvSpPr/>
          <p:nvPr/>
        </p:nvSpPr>
        <p:spPr>
          <a:xfrm>
            <a:off x="5829480" y="348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.95 V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TextBox 9"/>
          <p:cNvSpPr/>
          <p:nvPr/>
        </p:nvSpPr>
        <p:spPr>
          <a:xfrm>
            <a:off x="2514600" y="37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.95 V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2057400" y="21337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wer Clamp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TextBox 11"/>
          <p:cNvSpPr/>
          <p:nvPr/>
        </p:nvSpPr>
        <p:spPr>
          <a:xfrm>
            <a:off x="4114800" y="4189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ulldown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TextBox 12"/>
          <p:cNvSpPr/>
          <p:nvPr/>
        </p:nvSpPr>
        <p:spPr>
          <a:xfrm>
            <a:off x="3886200" y="5334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erent delta V density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mbined Pulldown Data with Aligned Vdd (Different Delta V’s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25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1447920" y="213372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8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395370e-00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88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397163e-00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9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401136e-00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92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401229e-00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9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4110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-00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--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96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41100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-00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--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432631e-00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0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472520e-00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0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489275e-00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08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.539300e-00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0 nA (0.000041%) non-monotonicity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hecking bug140b.ib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28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04920" y="1219320"/>
            <a:ext cx="8610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BISCHK5 V5.1.2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ing bug140b.ibs for IBIS 4.2 Compatibility...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 40) - Pulldown Min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 51) - Pulldown Max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 52) - Pulldown Typical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135) - Pullup Typical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146) - Pullup Max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202) - Pullup Min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NING - Combined Pulldown for Model: model_with_warning Typical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NING - Combined Pulldown for Model: model_with_warning Max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s  : 0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nings: 2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Passed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6485040" y="3720960"/>
            <a:ext cx="914400" cy="42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ug140b.ibs Maximum Data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Vdd = 1.58 V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32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3" name="Picture 3" descr="V-I data - IBISIndicator"/>
          <p:cNvPicPr/>
          <p:nvPr/>
        </p:nvPicPr>
        <p:blipFill>
          <a:blip r:embed="rId1"/>
          <a:stretch/>
        </p:blipFill>
        <p:spPr>
          <a:xfrm>
            <a:off x="609480" y="1236600"/>
            <a:ext cx="7837560" cy="5119920"/>
          </a:xfrm>
          <a:prstGeom prst="rect">
            <a:avLst/>
          </a:prstGeom>
          <a:ln w="0">
            <a:noFill/>
          </a:ln>
        </p:spPr>
      </p:pic>
      <p:cxnSp>
        <p:nvCxnSpPr>
          <p:cNvPr id="634" name="Straight Arrow Connector 2"/>
          <p:cNvCxnSpPr/>
          <p:nvPr/>
        </p:nvCxnSpPr>
        <p:spPr>
          <a:xfrm>
            <a:off x="6400440" y="3796920"/>
            <a:ext cx="1080" cy="623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5" name="Straight Arrow Connector 4"/>
          <p:cNvCxnSpPr/>
          <p:nvPr/>
        </p:nvCxnSpPr>
        <p:spPr>
          <a:xfrm>
            <a:off x="3276360" y="4419360"/>
            <a:ext cx="108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6" name="TextBox 6"/>
          <p:cNvSpPr/>
          <p:nvPr/>
        </p:nvSpPr>
        <p:spPr>
          <a:xfrm>
            <a:off x="579132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.95 V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TextBox 8"/>
          <p:cNvSpPr/>
          <p:nvPr/>
        </p:nvSpPr>
        <p:spPr>
          <a:xfrm>
            <a:off x="274320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.95 V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TextBox 9"/>
          <p:cNvSpPr/>
          <p:nvPr/>
        </p:nvSpPr>
        <p:spPr>
          <a:xfrm>
            <a:off x="2209680" y="2209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wer Clamp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TextBox 10"/>
          <p:cNvSpPr/>
          <p:nvPr/>
        </p:nvSpPr>
        <p:spPr>
          <a:xfrm>
            <a:off x="4319640" y="39816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ulldown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1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2" name="Picture 5" descr="GoldenParsar_Monotonic.pdf - Adobe Reader"/>
          <p:cNvPicPr/>
          <p:nvPr/>
        </p:nvPicPr>
        <p:blipFill>
          <a:blip r:embed="rId1"/>
          <a:stretch/>
        </p:blipFill>
        <p:spPr>
          <a:xfrm>
            <a:off x="182520" y="0"/>
            <a:ext cx="877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4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5" name="Picture 4" descr="GoldenParsar_Monotonic.pdf - Adobe Reader"/>
          <p:cNvPicPr/>
          <p:nvPr/>
        </p:nvPicPr>
        <p:blipFill>
          <a:blip r:embed="rId1"/>
          <a:stretch/>
        </p:blipFill>
        <p:spPr>
          <a:xfrm>
            <a:off x="182520" y="0"/>
            <a:ext cx="877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UG140 Issu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expected Non-Monotonic Warnings for Combined I-V Tables (derived from monotonic dat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bined I-V table check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Pulldown] + [Gnd Clamp] + [Power Clamp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Pullup] + [Gnd Clamp] + [Power Clamp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chk5 parser is de facto standard for IBIS model correctness (and ibischk5 is embedded in tool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companies require 0 Errors, 0 Warning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Quality Spec, recommends 0 Errors and 0 Warn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Warning messages create support issue for model authors or automatic modeling ut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6" name="Picture 3" descr="GoldenParsar_Monotonic.pdf - Adobe Reader"/>
          <p:cNvPicPr/>
          <p:nvPr/>
        </p:nvPicPr>
        <p:blipFill>
          <a:blip r:embed="rId1"/>
          <a:stretch/>
        </p:blipFill>
        <p:spPr>
          <a:xfrm>
            <a:off x="6324480" y="1523880"/>
            <a:ext cx="26672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UG140 Resolu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ge WARNING to NO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Valid solution for user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voids tool and model developer support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 “based on piecewise linear interpolation” to mess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practical 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till issues with higher resolution or choosing percentage threshol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iecewise linear interpolation is legal, and spline fitting would just hide inform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ac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specification REQUIREMENT that individual or combined I-V tables be monoton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stated method to sum mismatched voltage points (piecewise linear interpolation is allowed and use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ation recommends individual I-V table parser chec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bined checks added with BUG94 (BUG92 dealt with submodels):  http://www.eda.org/ibis/bugs/ibischk/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monotonicity often occurs outside of normal simulation region – in clamping region and not a probl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chk5 parser is operating correc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bserv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n-monotonic behavior can occu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mbined I-V table slope is small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-V table points are misaligned due to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Offset V intervals due to Gnd, Vdd and delta V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Different reference voltages (min/max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Extraction with piecewise linear interpolation calculations (if not done right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I-V tables have different V resolution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mbination of above cas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ample: x Step 2, Offset by 1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Gill Sans MT"/>
              </a:rPr>
              <a:t>Red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: Interpolated Value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-y2 = 0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x^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x^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TextBox 1"/>
          <p:cNvSpPr/>
          <p:nvPr/>
        </p:nvSpPr>
        <p:spPr>
          <a:xfrm>
            <a:off x="1066680" y="54864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on-monotonic due to piecewise linear interpolation on both colum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Oval 2"/>
          <p:cNvSpPr/>
          <p:nvPr/>
        </p:nvSpPr>
        <p:spPr>
          <a:xfrm>
            <a:off x="6019920" y="2590920"/>
            <a:ext cx="685800" cy="274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x Step 0.02, Offset by 0.01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Gill Sans MT"/>
              </a:rPr>
              <a:t>Red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: Interpolated Value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-y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x^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x^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2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5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0.0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17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0.0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26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TextBox 1"/>
          <p:cNvSpPr/>
          <p:nvPr/>
        </p:nvSpPr>
        <p:spPr>
          <a:xfrm>
            <a:off x="3613320" y="5410080"/>
            <a:ext cx="42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ill non-monotonic with higher resolution data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Oval 2"/>
          <p:cNvSpPr/>
          <p:nvPr/>
        </p:nvSpPr>
        <p:spPr>
          <a:xfrm>
            <a:off x="5937120" y="2514600"/>
            <a:ext cx="1905120" cy="274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x Steps 0.02 and 0.01, 0.00 Offset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Gill Sans MT"/>
              </a:rPr>
              <a:t>Red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: Interpolated Value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-y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x^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x^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2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4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16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26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3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3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TextBox 1"/>
          <p:cNvSpPr/>
          <p:nvPr/>
        </p:nvSpPr>
        <p:spPr>
          <a:xfrm>
            <a:off x="2743200" y="574344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erent resolution data causes non-monotonic combination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Oval 2"/>
          <p:cNvSpPr/>
          <p:nvPr/>
        </p:nvSpPr>
        <p:spPr>
          <a:xfrm>
            <a:off x="5867280" y="2057400"/>
            <a:ext cx="1905120" cy="3809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al Data from BUG140 and Cadence Present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lden Parser Non-monotonic Warning’s Investigation” by Yingxin Sun and Joy Li, Cadence Design Systems, November 9, 2012: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http://tinyurl.com/byqu7y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ed at IBIS Quality Committee November 27, 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G140: http://www.eda.org/ibis/bugs/ibischk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In all test cases, the [Gnd Clamp] data is 0.0 in the region of interes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hecking bug140a.ib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92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3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533520" y="1184400"/>
            <a:ext cx="83055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BISCHK5 V5.1.2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ing bug140a.ibs for IBIS 3.2 Compatibility...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 39) - Pulldown Typical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 42) - Pulldown Min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 42) - Pulldown Max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135) - Pullup Typical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137) - Pullup Max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(line  138) - Pullup Min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NING - Combined Pulldown for Model: iobuf Maximum data is non-monotonic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s  : 0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nings: 1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Passed</a:t>
            </a:r>
            <a:endParaRPr b="1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Oval 5"/>
          <p:cNvSpPr/>
          <p:nvPr/>
        </p:nvSpPr>
        <p:spPr>
          <a:xfrm>
            <a:off x="5257800" y="3276720"/>
            <a:ext cx="35053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</cp:lastModifiedBy>
  <cp:lastPrinted>2012-10-14T20:01:37Z</cp:lastPrinted>
  <dcterms:modified xsi:type="dcterms:W3CDTF">2013-01-11T23:45:19Z</dcterms:modified>
  <cp:revision>1014</cp:revision>
  <dc:subject/>
  <dc:title>IBIS</dc:title>
</cp:coreProperties>
</file>