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0840" y="398700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028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084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028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1011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80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0840" y="398700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80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028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008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084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028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008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52280" y="1011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180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50840" y="398700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180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028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30080" y="144792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5084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028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30080" y="3987000"/>
            <a:ext cx="28468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1011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98700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84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447920"/>
            <a:ext cx="43149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0840" y="3987000"/>
            <a:ext cx="88423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325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46880"/>
            <a:ext cx="9144000" cy="411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6" descr=""/>
          <p:cNvPicPr/>
          <p:nvPr/>
        </p:nvPicPr>
        <p:blipFill>
          <a:blip r:embed="rId2"/>
          <a:stretch/>
        </p:blipFill>
        <p:spPr>
          <a:xfrm>
            <a:off x="7437600" y="6551640"/>
            <a:ext cx="1554120" cy="22392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0" y="3516480"/>
            <a:ext cx="914400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0840" y="1447920"/>
            <a:ext cx="8842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3"/>
          <a:stretch/>
        </p:blipFill>
        <p:spPr>
          <a:xfrm>
            <a:off x="7437600" y="6551640"/>
            <a:ext cx="1554120" cy="223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0840" y="1447920"/>
            <a:ext cx="8842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53942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ignCon 2013 IBIS Summ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nta Clara, C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anuary 31, 2013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MI Model-to-Hardware Correlation</a:t>
            </a:r>
            <a:br>
              <a:rPr sz="4000"/>
            </a:b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Greg Edlund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IBM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dlund@us.ibm.co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6070320"/>
            <a:ext cx="990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096920" y="2103480"/>
            <a:ext cx="6973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29560" cy="3684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628720" y="148752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0.2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8600" y="2103480"/>
            <a:ext cx="8647200" cy="2971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75720" y="14875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68200" y="2021040"/>
            <a:ext cx="8647200" cy="4105080"/>
          </a:xfrm>
          <a:prstGeom prst="rect">
            <a:avLst/>
          </a:prstGeom>
          <a:ln w="0">
            <a:noFill/>
          </a:ln>
        </p:spPr>
      </p:pic>
      <p:sp>
        <p:nvSpPr>
          <p:cNvPr id="311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>
            <a:off x="2475720" y="14875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402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3999600" y="22543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>
            <a:off x="6774120" y="22543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92 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402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02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02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77724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7772400" y="402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402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3429000"/>
            <a:ext cx="914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3429000"/>
            <a:ext cx="914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3429000"/>
            <a:ext cx="914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3429000"/>
            <a:ext cx="914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3429000"/>
            <a:ext cx="914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2818800" y="22543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>
            <a:off x="1396080" y="22543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/>
          <p:nvPr/>
        </p:nvSpPr>
        <p:spPr>
          <a:xfrm>
            <a:off x="5364720" y="225432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>
            <a:off x="731880" y="3581280"/>
            <a:ext cx="274680" cy="182520"/>
          </a:xfrm>
          <a:custGeom>
            <a:avLst/>
            <a:gdLst/>
            <a:ahLst/>
            <a:rect l="l" t="t" r="r" b="b"/>
            <a:pathLst>
              <a:path w="173" h="115">
                <a:moveTo>
                  <a:pt x="0" y="115"/>
                </a:moveTo>
                <a:lnTo>
                  <a:pt x="0" y="0"/>
                </a:lnTo>
                <a:lnTo>
                  <a:pt x="115" y="0"/>
                </a:lnTo>
                <a:lnTo>
                  <a:pt x="173" y="57"/>
                </a:lnTo>
                <a:lnTo>
                  <a:pt x="115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>
            <a:off x="731880" y="3948120"/>
            <a:ext cx="274680" cy="182520"/>
          </a:xfrm>
          <a:custGeom>
            <a:avLst/>
            <a:gdLst/>
            <a:ahLst/>
            <a:rect l="l" t="t" r="r" b="b"/>
            <a:pathLst>
              <a:path w="173" h="115">
                <a:moveTo>
                  <a:pt x="0" y="115"/>
                </a:moveTo>
                <a:lnTo>
                  <a:pt x="0" y="0"/>
                </a:lnTo>
                <a:lnTo>
                  <a:pt x="115" y="0"/>
                </a:lnTo>
                <a:lnTo>
                  <a:pt x="173" y="57"/>
                </a:lnTo>
                <a:lnTo>
                  <a:pt x="115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092440" y="3581280"/>
            <a:ext cx="274680" cy="182520"/>
          </a:xfrm>
          <a:custGeom>
            <a:avLst/>
            <a:gdLst/>
            <a:ahLst/>
            <a:rect l="l" t="t" r="r" b="b"/>
            <a:pathLst>
              <a:path w="173" h="115">
                <a:moveTo>
                  <a:pt x="0" y="115"/>
                </a:moveTo>
                <a:lnTo>
                  <a:pt x="0" y="0"/>
                </a:lnTo>
                <a:lnTo>
                  <a:pt x="115" y="0"/>
                </a:lnTo>
                <a:lnTo>
                  <a:pt x="173" y="57"/>
                </a:lnTo>
                <a:lnTo>
                  <a:pt x="115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092440" y="3948120"/>
            <a:ext cx="274680" cy="182520"/>
          </a:xfrm>
          <a:custGeom>
            <a:avLst/>
            <a:gdLst/>
            <a:ahLst/>
            <a:rect l="l" t="t" r="r" b="b"/>
            <a:pathLst>
              <a:path w="173" h="115">
                <a:moveTo>
                  <a:pt x="0" y="115"/>
                </a:moveTo>
                <a:lnTo>
                  <a:pt x="0" y="0"/>
                </a:lnTo>
                <a:lnTo>
                  <a:pt x="115" y="0"/>
                </a:lnTo>
                <a:lnTo>
                  <a:pt x="173" y="57"/>
                </a:lnTo>
                <a:lnTo>
                  <a:pt x="115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/>
          <p:nvPr/>
        </p:nvSpPr>
        <p:spPr>
          <a:xfrm>
            <a:off x="2514600" y="3216240"/>
            <a:ext cx="4114800" cy="1279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Interconnect Model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8760" y="2057400"/>
            <a:ext cx="8756640" cy="2741760"/>
          </a:xfrm>
          <a:prstGeom prst="rect">
            <a:avLst/>
          </a:prstGeom>
          <a:ln w="0">
            <a:noFill/>
          </a:ln>
        </p:spPr>
      </p:pic>
      <p:sp>
        <p:nvSpPr>
          <p:cNvPr id="342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Cable Assy. S-Parameter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64320" cy="4956120"/>
          </a:xfrm>
          <a:prstGeom prst="rect">
            <a:avLst/>
          </a:prstGeom>
          <a:ln w="0">
            <a:noFill/>
          </a:ln>
        </p:spPr>
      </p:pic>
      <p:sp>
        <p:nvSpPr>
          <p:cNvPr id="344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0.6 m Cable Step Respons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7848720" y="1752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848720" y="22856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/>
          <p:nvPr/>
        </p:nvSpPr>
        <p:spPr>
          <a:xfrm>
            <a:off x="7987320" y="19414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/>
          <p:nvPr/>
        </p:nvSpPr>
        <p:spPr>
          <a:xfrm>
            <a:off x="2386800" y="14875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3.25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279440" y="2103480"/>
            <a:ext cx="6562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/>
          <p:nvPr/>
        </p:nvSpPr>
        <p:spPr>
          <a:xfrm>
            <a:off x="2386800" y="14875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3.25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74680" y="2103480"/>
            <a:ext cx="86472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11320" y="3062160"/>
            <a:ext cx="5211720" cy="100656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/>
          <p:nvPr/>
        </p:nvSpPr>
        <p:spPr>
          <a:xfrm>
            <a:off x="1463760" y="40226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/>
          <p:nvPr/>
        </p:nvSpPr>
        <p:spPr>
          <a:xfrm>
            <a:off x="2103480" y="3154320"/>
            <a:ext cx="1690560" cy="822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193840"/>
            <a:ext cx="731520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3108600" y="3245400"/>
            <a:ext cx="641520" cy="639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193840" y="329076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/>
          <p:nvPr/>
        </p:nvSpPr>
        <p:spPr>
          <a:xfrm>
            <a:off x="3156120" y="3429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370188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/>
          <p:nvPr/>
        </p:nvSpPr>
        <p:spPr>
          <a:xfrm>
            <a:off x="3749760" y="356544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/>
          <p:nvPr/>
        </p:nvSpPr>
        <p:spPr>
          <a:xfrm>
            <a:off x="1279440" y="3290760"/>
            <a:ext cx="549360" cy="5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/>
          <p:nvPr/>
        </p:nvSpPr>
        <p:spPr>
          <a:xfrm>
            <a:off x="2743200" y="34290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370188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/>
          <p:nvPr/>
        </p:nvSpPr>
        <p:spPr>
          <a:xfrm>
            <a:off x="5576760" y="2193840"/>
            <a:ext cx="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4937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/>
          <p:nvPr/>
        </p:nvSpPr>
        <p:spPr>
          <a:xfrm>
            <a:off x="3840120" y="438768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1280160" y="4342680"/>
            <a:ext cx="641160" cy="639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1279080" y="45259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5851440" y="356544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1920960" y="4662360"/>
            <a:ext cx="19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/>
          <p:nvPr/>
        </p:nvSpPr>
        <p:spPr>
          <a:xfrm>
            <a:off x="7040520" y="37479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463400" y="2651040"/>
            <a:ext cx="51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2193840"/>
            <a:ext cx="0" cy="21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>
            <a:off x="1463760" y="5394240"/>
            <a:ext cx="630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>
            <a:off x="3382920" y="374796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7498800" y="18730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95120" y="187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>
            <a:off x="5212440" y="18730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R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3841560" y="58975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363840" y="53672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/>
          <p:nvPr/>
        </p:nvSpPr>
        <p:spPr>
          <a:xfrm>
            <a:off x="4092480" y="53672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/>
          <p:nvPr/>
        </p:nvSpPr>
        <p:spPr>
          <a:xfrm>
            <a:off x="2449440" y="53672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6107040" y="35384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2624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>
            <a:off x="5556240" y="2624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32280" y="329076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/>
          <p:nvPr/>
        </p:nvSpPr>
        <p:spPr>
          <a:xfrm>
            <a:off x="3017880" y="3657600"/>
            <a:ext cx="92160" cy="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34290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37018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290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342000" y="35654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1463760" y="4890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3363840" y="2624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6308640" y="438768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45259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48006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4754520"/>
            <a:ext cx="92160" cy="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7588080" y="3244680"/>
            <a:ext cx="3668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7588080" y="3701880"/>
            <a:ext cx="92160" cy="92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7040520" y="37479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0" y="4662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4389480" y="4662360"/>
            <a:ext cx="19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5302080" y="329076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4570560" y="3290760"/>
            <a:ext cx="549000" cy="549360"/>
          </a:xfrm>
          <a:custGeom>
            <a:avLst/>
            <a:gdLst>
              <a:gd name="textAreaLeft" fmla="*/ 26640 w 549000"/>
              <a:gd name="textAreaRight" fmla="*/ 522360 w 549000"/>
              <a:gd name="textAreaTop" fmla="*/ 26640 h 549360"/>
              <a:gd name="textAreaBottom" fmla="*/ 522720 h 54936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5121360" y="356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/>
          <p:nvPr/>
        </p:nvSpPr>
        <p:spPr>
          <a:xfrm>
            <a:off x="6126120" y="452592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382920" y="265104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468520" y="26506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6583320" y="2651040"/>
            <a:ext cx="0" cy="17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6583320" y="4937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2193840"/>
            <a:ext cx="0" cy="10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4844880" y="26510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3840120"/>
            <a:ext cx="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5576760" y="3840120"/>
            <a:ext cx="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>
            <a:off x="7772400" y="3886200"/>
            <a:ext cx="0" cy="15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/>
          <p:nvPr/>
        </p:nvSpPr>
        <p:spPr>
          <a:xfrm>
            <a:off x="4824360" y="2624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/>
          <p:nvPr/>
        </p:nvSpPr>
        <p:spPr>
          <a:xfrm>
            <a:off x="4824360" y="53672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>
            <a:off x="5556240" y="53672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>
            <a:off x="6554880" y="53672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2468520" y="3840120"/>
            <a:ext cx="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>
            <a:off x="2608200" y="4022640"/>
            <a:ext cx="67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6676920" y="25588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r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4417560" y="4114800"/>
            <a:ext cx="1112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gorith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 (.D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>
            <a:off x="93960" y="440532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C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417680" y="3976560"/>
            <a:ext cx="903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>
            <a:off x="1463760" y="26510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417680" y="3063600"/>
            <a:ext cx="9036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7269120" y="3794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7269120" y="32907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5943600" y="4068720"/>
            <a:ext cx="1281240" cy="10508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479840" y="3154320"/>
            <a:ext cx="2652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479840" y="3976560"/>
            <a:ext cx="1555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4479840" y="3154320"/>
            <a:ext cx="0" cy="822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6035760" y="3976560"/>
            <a:ext cx="0" cy="1052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/>
          <p:nvPr/>
        </p:nvSpPr>
        <p:spPr>
          <a:xfrm>
            <a:off x="6035760" y="5029200"/>
            <a:ext cx="1096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7132680" y="3154320"/>
            <a:ext cx="0" cy="1874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6126120" y="3565440"/>
            <a:ext cx="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RX Block Diagra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313160" y="43434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35000" y="2378160"/>
            <a:ext cx="1098720" cy="914400"/>
            <a:chOff x="1935000" y="2378160"/>
            <a:chExt cx="1098720" cy="914400"/>
          </a:xfrm>
        </p:grpSpPr>
        <p:sp>
          <p:nvSpPr>
            <p:cNvPr id="125" name=""/>
            <p:cNvSpPr/>
            <p:nvPr/>
          </p:nvSpPr>
          <p:spPr>
            <a:xfrm>
              <a:off x="2027160" y="2378160"/>
              <a:ext cx="914400" cy="63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35000" y="3017880"/>
              <a:ext cx="1098720" cy="274680"/>
            </a:xfrm>
            <a:custGeom>
              <a:avLst/>
              <a:gdLst/>
              <a:ahLst/>
              <a:rect l="l" t="t" r="r" b="b"/>
              <a:pathLst>
                <a:path w="692" h="173">
                  <a:moveTo>
                    <a:pt x="58" y="0"/>
                  </a:moveTo>
                  <a:lnTo>
                    <a:pt x="0" y="173"/>
                  </a:lnTo>
                  <a:lnTo>
                    <a:pt x="692" y="173"/>
                  </a:lnTo>
                  <a:lnTo>
                    <a:pt x="634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73240" y="2424240"/>
              <a:ext cx="824040" cy="547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569960" y="3886200"/>
            <a:ext cx="182880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255760" y="4572000"/>
            <a:ext cx="411120" cy="41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708440"/>
            <a:ext cx="36684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490920" y="4800600"/>
            <a:ext cx="822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84360" y="3290760"/>
            <a:ext cx="0" cy="59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2255760" y="4572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2346480" y="4572000"/>
            <a:ext cx="4572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572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529000" y="4572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620800" y="4572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255760" y="46623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346480" y="4662360"/>
            <a:ext cx="4572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6623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2529000" y="46623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2620800" y="46623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255760" y="47545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2346480" y="4754520"/>
            <a:ext cx="4572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7545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529000" y="47545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620800" y="47545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2255760" y="48448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346480" y="4844880"/>
            <a:ext cx="4572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48448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529000" y="48448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2620800" y="48448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2255760" y="49370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2346480" y="4937040"/>
            <a:ext cx="4572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9370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2529000" y="49370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2620800" y="49370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2575080" y="3462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-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2989080" y="2560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977840" y="402264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mo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141960" y="2332080"/>
            <a:ext cx="1554120" cy="1554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7331040" y="2514600"/>
            <a:ext cx="184320" cy="182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7331040" y="2743200"/>
            <a:ext cx="184320" cy="182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3338640"/>
            <a:ext cx="27468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735600" y="3338640"/>
            <a:ext cx="27468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4221000" y="4708440"/>
            <a:ext cx="36684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4589280" y="41148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BM tes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4862520" y="4708440"/>
            <a:ext cx="16002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4862520" y="4892760"/>
            <a:ext cx="201132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462720" y="3565080"/>
            <a:ext cx="1440" cy="1143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73840" y="3565080"/>
            <a:ext cx="0" cy="13273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6416640" y="3475080"/>
            <a:ext cx="921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6827760" y="3475080"/>
            <a:ext cx="921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4815000" y="4664160"/>
            <a:ext cx="91800" cy="90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815000" y="4846680"/>
            <a:ext cx="91800" cy="90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999320" y="278928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5425200" y="4937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92 mm c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78400" y="2468520"/>
            <a:ext cx="731880" cy="59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78400" y="2468520"/>
            <a:ext cx="731880" cy="59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439800" y="493704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-S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1477800" y="4708440"/>
            <a:ext cx="36684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2217960" y="50292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4322520" y="388620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Eye Measuremen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37480" cy="4095720"/>
          </a:xfrm>
          <a:prstGeom prst="rect">
            <a:avLst/>
          </a:prstGeom>
          <a:ln w="0">
            <a:noFill/>
          </a:ln>
        </p:spPr>
      </p:pic>
      <p:sp>
        <p:nvSpPr>
          <p:cNvPr id="442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RX Eye w/ &amp; w/o AG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/>
          <p:nvPr/>
        </p:nvSpPr>
        <p:spPr>
          <a:xfrm>
            <a:off x="2386800" y="14875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3.25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RX Eye at Latch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279440" y="2114640"/>
            <a:ext cx="6591240" cy="4149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351240" y="1487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822240" y="1600200"/>
            <a:ext cx="771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 affect S11 not included in algorithmic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ouble counting of package, e.g. s-parameters and .ib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ouble counting of C_Comp, e.g. s-parameters and .ib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parameters for test channel distributed with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jitter and eye dimensions for test 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supports on-chip oscilloscope GUI running on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outputs D10.2 &amp; PRBS-7 patterns with oscilloscope conn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 board to include 2.92 mm connection to TX, max 2 in. w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AMI Acceptance Crit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AMI Acceptance Crit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/>
          <p:nvPr/>
        </p:nvSpPr>
        <p:spPr>
          <a:xfrm>
            <a:off x="822240" y="1600200"/>
            <a:ext cx="7712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31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report to includ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 jitter decomposition measu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stressed ey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-to-hardware corre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of of industry standard compli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50840" y="1447920"/>
            <a:ext cx="88423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BIS-AMI model development requires IO circuit engineering and programming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BIS-AMI model development is a LOT of wor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lier could spend 2 – 4 person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could spend 1 – 2 person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 work load and capital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rify expectations before buy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9280" y="4327560"/>
            <a:ext cx="822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3413160"/>
            <a:ext cx="182880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4098960"/>
            <a:ext cx="411120" cy="41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5211720" y="4235400"/>
            <a:ext cx="36684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572000" y="2817720"/>
            <a:ext cx="0" cy="59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0989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4433760" y="40989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4525920" y="40989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4616280" y="40989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708440" y="409896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41893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433760" y="41893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525920" y="41893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4616280" y="41893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708440" y="418932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2814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433760" y="42814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525920" y="42814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4616280" y="42814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708440" y="428148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43718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433760" y="43718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4525920" y="43718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616280" y="43718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708440" y="437184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464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433760" y="4464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25920" y="4464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16280" y="4464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708440" y="4464000"/>
            <a:ext cx="46080" cy="46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4678200" y="29894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-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065480" y="354960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mo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1905120"/>
            <a:ext cx="914400" cy="63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022640" y="2544840"/>
            <a:ext cx="1098720" cy="274680"/>
          </a:xfrm>
          <a:custGeom>
            <a:avLst/>
            <a:gdLst/>
            <a:ahLst/>
            <a:rect l="l" t="t" r="r" b="b"/>
            <a:pathLst>
              <a:path w="692" h="173">
                <a:moveTo>
                  <a:pt x="58" y="0"/>
                </a:moveTo>
                <a:lnTo>
                  <a:pt x="0" y="173"/>
                </a:lnTo>
                <a:lnTo>
                  <a:pt x="692" y="173"/>
                </a:lnTo>
                <a:lnTo>
                  <a:pt x="634" y="0"/>
                </a:lnTo>
                <a:lnTo>
                  <a:pt x="5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5092560" y="20876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160880" y="1949400"/>
            <a:ext cx="822240" cy="549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578560" y="4327560"/>
            <a:ext cx="822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2789280" y="5699160"/>
            <a:ext cx="36115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400800" y="4327560"/>
            <a:ext cx="0" cy="1371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4235400"/>
            <a:ext cx="36684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89280" y="4327560"/>
            <a:ext cx="0" cy="1371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299120" y="45561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RX Eye Measuremen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54040" y="2093760"/>
            <a:ext cx="7980480" cy="270684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 Parameter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389480" y="2759040"/>
            <a:ext cx="2651040" cy="91440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844640"/>
            <a:ext cx="731520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6307200" y="2896200"/>
            <a:ext cx="641520" cy="639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2851200"/>
            <a:ext cx="731880" cy="731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93960" y="417672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C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6266160" y="30798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6811920" y="33526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4313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2468520" y="1844640"/>
            <a:ext cx="0" cy="21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94156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7864560" y="335268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5121360" y="32162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3840120" y="2895480"/>
            <a:ext cx="3668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4206960" y="321624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846680" y="1844640"/>
            <a:ext cx="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4846680" y="3490920"/>
            <a:ext cx="0" cy="20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2193840" y="403848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3475080" y="321624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1920960" y="43131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3840120" y="3352680"/>
            <a:ext cx="92160" cy="92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3398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3398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554120" y="2301840"/>
            <a:ext cx="329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3108240" y="23018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6583320" y="184464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4022640" y="230184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2468520" y="4587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1554120" y="5045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3108240" y="358128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4022640" y="3537000"/>
            <a:ext cx="0" cy="15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2150640" y="15238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4581000" y="15238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6251400" y="15238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DT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4565520" y="55483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6583320" y="339876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3089160" y="5018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4003560" y="5018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4827600" y="5018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4003560" y="22748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4827600" y="22748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8249400" y="29415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6719760" y="3308400"/>
            <a:ext cx="92160" cy="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6673680" y="3079800"/>
            <a:ext cx="6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7864560" y="30798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8259120" y="3216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1554120" y="44956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1554120" y="23018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3089160" y="22748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2449440" y="501804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1279800" y="3993120"/>
            <a:ext cx="641520" cy="639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1279080" y="41767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41767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44514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4405320"/>
            <a:ext cx="92160" cy="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2941560"/>
            <a:ext cx="549360" cy="549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>
            <a:off x="4344840" y="3719520"/>
            <a:ext cx="10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gorith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.D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5154480" y="2255760"/>
            <a:ext cx="97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r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>
            <a:off x="6249960" y="3719520"/>
            <a:ext cx="6728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5578560" y="29415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Block Diagra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628720" y="148752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0.2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49120" y="2103480"/>
            <a:ext cx="8620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>
            <a:off x="2628720" y="148752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0.2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8840" y="1976400"/>
            <a:ext cx="8656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2475720" y="14875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5200" y="2066760"/>
            <a:ext cx="85280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152280" y="101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TX Model-to-Hardwa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/>
          <p:nvPr/>
        </p:nvSpPr>
        <p:spPr>
          <a:xfrm>
            <a:off x="2475720" y="14875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BS-7 Pattern 0.6 m C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4680" y="2049480"/>
            <a:ext cx="86662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4:49:59Z</dcterms:created>
  <dc:creator>Kate Hadden</dc:creator>
  <dc:description/>
  <dc:language>en-US</dc:language>
  <cp:lastModifiedBy>Greg Edlund</cp:lastModifiedBy>
  <dcterms:modified xsi:type="dcterms:W3CDTF">2013-01-23T17:10:02Z</dcterms:modified>
  <cp:revision>84</cp:revision>
  <dc:subject/>
  <dc:title>PowerPoint Presentation</dc:title>
</cp:coreProperties>
</file>