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DC0-7BBB-45DA-827A-ADEEB2FD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39A-77DF-403E-8FC9-7675B3CF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325-ADE0-495E-B256-3BE9740E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FF3-ADC5-499C-BFF1-37D422D7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1854-466D-47B4-8797-B8F758C5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3076-47ED-44E4-BB5E-28BA5ADF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AC29-3BFD-4F0F-A8AD-7038B448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E2C5-13AA-44EF-B1D5-7A4E4D6F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DD6D-75AA-4216-A9B9-802C7C2D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63C5-40E0-4530-92E7-8D73BD8B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D234-8F2B-4EFB-B96E-BB4FFE02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1DC-5E17-4279-8AC6-280DAFE0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EC9A-95DB-4EAB-ACD4-5FEF2DAF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E030-720D-46FA-B28A-AB4084D9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48B4-A204-4EB7-947C-3287B487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0E5B-A405-43E6-A3B7-32990CDD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5372-81B9-49BD-80D7-16FD5AC9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CAB-DF3B-42A7-820F-9A0DD627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804-FCD6-42EA-B528-CC15EAFE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B47-EE35-4B3C-8E67-E1767751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6F7-299C-4F90-A272-7363F2F8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C11-AD50-440C-9529-2CEB3713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175-79FA-4C89-A864-CD451B3C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463-8D73-4AA0-9E80-AC3C4B1C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Con 2005 IBIS Summ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146E-01EF-4458-A594-F463249D3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flipH="1">
            <a:off x="228240" y="25909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6991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&amp; Roadmap Updat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352320" y="3047760"/>
            <a:ext cx="5410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Con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31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4246560"/>
            <a:ext cx="1424160" cy="15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7331-6012-46A5-8B27-90150D897B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4.1 parser development nearly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eta code has been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Final code on-track for Q1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et for ICM 1.1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for 2004: 23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rending toward 30 members for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5 IBIS 4.x parser licens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3.2 reballot for EIA approval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Data being processed by the G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tees highly prod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BIS Quality Committee generating Golden Parser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ookbook for IBIS 4.0 to be issued March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resence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Model library and membership roster, virtual poster regularly up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Status of IB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05720" y="647640"/>
            <a:ext cx="1833480" cy="219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886880" y="1504800"/>
            <a:ext cx="1257120" cy="13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B31-ED5D-4204-B4FD-FAC4B998F0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565200"/>
            <a:ext cx="8674200" cy="5931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84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Membership Histor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05720" y="182520"/>
            <a:ext cx="1833480" cy="21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886880" y="1039680"/>
            <a:ext cx="1257120" cy="13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ADA-067E-4AAE-8168-A4CF7183D7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509760"/>
            <a:ext cx="8674200" cy="593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7628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… </a:t>
            </a: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nd Tech Econom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705720" y="182520"/>
            <a:ext cx="1833480" cy="21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86880" y="1039680"/>
            <a:ext cx="1257120" cy="1300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00" y="6216480"/>
            <a:ext cx="316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from NASDAQ.com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lects end-of-year clo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87720" y="4599000"/>
            <a:ext cx="427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62280" y="4765680"/>
            <a:ext cx="5010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as lagging market indica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9F7-945C-4156-9EDF-5FCEDC83BA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Short Term Direction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44524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IBIS fin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aintain today’s membership 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Obtain 2 additional parser lic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nd distribute 4.1 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ICM 1.1 review and publi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arser update requires three weeks or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Open Forum is prepared for EIA/ANSI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CM Coo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lert the industry to all of the ab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05720" y="647640"/>
            <a:ext cx="1833480" cy="219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86880" y="1504800"/>
            <a:ext cx="1257120" cy="13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5BD-7087-4C84-90BB-E276348E67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5960" y="2298600"/>
            <a:ext cx="1440" cy="147024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8320" y="39132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5724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2084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8120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41560" y="39132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0336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320" y="4065480"/>
            <a:ext cx="1082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81200" y="4065480"/>
            <a:ext cx="10857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98320" y="3760920"/>
            <a:ext cx="1082880" cy="152280"/>
            <a:chOff x="598320" y="3760920"/>
            <a:chExt cx="1082880" cy="152280"/>
          </a:xfrm>
        </p:grpSpPr>
        <p:sp>
          <p:nvSpPr>
            <p:cNvPr id="117" name=""/>
            <p:cNvSpPr/>
            <p:nvPr/>
          </p:nvSpPr>
          <p:spPr>
            <a:xfrm>
              <a:off x="59832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98320" y="3817800"/>
              <a:ext cx="1082880" cy="90360"/>
              <a:chOff x="598320" y="3817800"/>
              <a:chExt cx="1082880" cy="90360"/>
            </a:xfrm>
          </p:grpSpPr>
          <p:sp>
            <p:nvSpPr>
              <p:cNvPr id="119" name=""/>
              <p:cNvSpPr/>
              <p:nvPr/>
            </p:nvSpPr>
            <p:spPr>
              <a:xfrm>
                <a:off x="59832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1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4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8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31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14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098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81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64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478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31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14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97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812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1681200" y="3760920"/>
            <a:ext cx="1085760" cy="152280"/>
            <a:chOff x="1681200" y="3760920"/>
            <a:chExt cx="1085760" cy="152280"/>
          </a:xfrm>
        </p:grpSpPr>
        <p:sp>
          <p:nvSpPr>
            <p:cNvPr id="134" name=""/>
            <p:cNvSpPr/>
            <p:nvPr/>
          </p:nvSpPr>
          <p:spPr>
            <a:xfrm>
              <a:off x="168120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681200" y="3817800"/>
              <a:ext cx="1085760" cy="90360"/>
              <a:chOff x="1681200" y="3817800"/>
              <a:chExt cx="1085760" cy="90360"/>
            </a:xfrm>
          </p:grpSpPr>
          <p:sp>
            <p:nvSpPr>
              <p:cNvPr id="136" name=""/>
              <p:cNvSpPr/>
              <p:nvPr/>
            </p:nvSpPr>
            <p:spPr>
              <a:xfrm>
                <a:off x="168120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647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478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317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0149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984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182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65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493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4325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160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5995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830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66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3808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6052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62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6696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732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87680" y="39132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9840" y="3913200"/>
            <a:ext cx="363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13080" y="39132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66960" y="4065480"/>
            <a:ext cx="1082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49840" y="4065480"/>
            <a:ext cx="10857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66960" y="376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766960" y="3760920"/>
            <a:ext cx="1082880" cy="152280"/>
            <a:chOff x="2766960" y="3760920"/>
            <a:chExt cx="1082880" cy="152280"/>
          </a:xfrm>
        </p:grpSpPr>
        <p:sp>
          <p:nvSpPr>
            <p:cNvPr id="163" name=""/>
            <p:cNvSpPr/>
            <p:nvPr/>
          </p:nvSpPr>
          <p:spPr>
            <a:xfrm>
              <a:off x="276696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766960" y="3817800"/>
              <a:ext cx="1082880" cy="90360"/>
              <a:chOff x="2766960" y="3817800"/>
              <a:chExt cx="1082880" cy="90360"/>
            </a:xfrm>
          </p:grpSpPr>
          <p:sp>
            <p:nvSpPr>
              <p:cNvPr id="165" name=""/>
              <p:cNvSpPr/>
              <p:nvPr/>
            </p:nvSpPr>
            <p:spPr>
              <a:xfrm>
                <a:off x="276696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850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9332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16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99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83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66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49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433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16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99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82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766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498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3849840" y="3760920"/>
            <a:ext cx="1085760" cy="152280"/>
            <a:chOff x="3849840" y="3760920"/>
            <a:chExt cx="1085760" cy="152280"/>
          </a:xfrm>
        </p:grpSpPr>
        <p:sp>
          <p:nvSpPr>
            <p:cNvPr id="180" name=""/>
            <p:cNvSpPr/>
            <p:nvPr/>
          </p:nvSpPr>
          <p:spPr>
            <a:xfrm>
              <a:off x="384984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849840" y="3817800"/>
              <a:ext cx="1085760" cy="90360"/>
              <a:chOff x="3849840" y="3817800"/>
              <a:chExt cx="1085760" cy="90360"/>
            </a:xfrm>
          </p:grpSpPr>
          <p:sp>
            <p:nvSpPr>
              <p:cNvPr id="182" name=""/>
              <p:cNvSpPr/>
              <p:nvPr/>
            </p:nvSpPr>
            <p:spPr>
              <a:xfrm>
                <a:off x="384984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333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165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1004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835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670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50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434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18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01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684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682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517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356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36352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032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8600" y="5649840"/>
            <a:ext cx="14904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7720" y="592596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9760" y="5367240"/>
            <a:ext cx="12996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84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Timelin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109520"/>
            <a:ext cx="3998880" cy="101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uly, 2002: IBIS 4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p., 2003: ICM 1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an., 2004: IBIS 4.1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5640" y="2206800"/>
            <a:ext cx="15264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98600" y="2552760"/>
            <a:ext cx="61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0720" y="558792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 Su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8440" y="53182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200" y="588960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CB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2280" y="426708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13120" y="2643120"/>
            <a:ext cx="669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587680" y="2982600"/>
            <a:ext cx="0" cy="770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7480" y="3071880"/>
            <a:ext cx="657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919160" y="3492000"/>
            <a:ext cx="0" cy="279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63840" y="4282920"/>
            <a:ext cx="12996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8080" y="3067200"/>
            <a:ext cx="803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462040" y="3521160"/>
            <a:ext cx="0" cy="257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73400" y="3090960"/>
            <a:ext cx="7462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562200" y="351000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96080" y="3067200"/>
            <a:ext cx="7459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270480" y="347184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3400" y="2664000"/>
            <a:ext cx="66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278840" y="3082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26888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080" y="50245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1880" y="501336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3765600"/>
            <a:ext cx="3240" cy="493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94040" y="426240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68680" y="424800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7440" y="4799160"/>
            <a:ext cx="101736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m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36400" y="5646600"/>
            <a:ext cx="2674080" cy="3988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-Roadshows on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705720" y="169920"/>
            <a:ext cx="1833480" cy="2195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886880" y="1027080"/>
            <a:ext cx="1257120" cy="1300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935600" y="391176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94160" y="391176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776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812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78480" y="391176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40640" y="391176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35600" y="4064040"/>
            <a:ext cx="1082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8120" y="4064040"/>
            <a:ext cx="1086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935600" y="3759120"/>
            <a:ext cx="1076400" cy="152280"/>
            <a:chOff x="4935600" y="3759120"/>
            <a:chExt cx="1076400" cy="152280"/>
          </a:xfrm>
        </p:grpSpPr>
        <p:sp>
          <p:nvSpPr>
            <p:cNvPr id="242" name=""/>
            <p:cNvSpPr/>
            <p:nvPr/>
          </p:nvSpPr>
          <p:spPr>
            <a:xfrm>
              <a:off x="493560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935600" y="3816000"/>
              <a:ext cx="1076400" cy="90360"/>
              <a:chOff x="4935600" y="3816000"/>
              <a:chExt cx="1076400" cy="90360"/>
            </a:xfrm>
          </p:grpSpPr>
          <p:sp>
            <p:nvSpPr>
              <p:cNvPr id="244" name=""/>
              <p:cNvSpPr/>
              <p:nvPr/>
            </p:nvSpPr>
            <p:spPr>
              <a:xfrm>
                <a:off x="493560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18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00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84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266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349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32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514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98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80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63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460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28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012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6012000" y="3759120"/>
            <a:ext cx="1085760" cy="152280"/>
            <a:chOff x="6012000" y="3759120"/>
            <a:chExt cx="1085760" cy="152280"/>
          </a:xfrm>
        </p:grpSpPr>
        <p:sp>
          <p:nvSpPr>
            <p:cNvPr id="259" name=""/>
            <p:cNvSpPr/>
            <p:nvPr/>
          </p:nvSpPr>
          <p:spPr>
            <a:xfrm>
              <a:off x="601200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6012000" y="3816000"/>
              <a:ext cx="1085760" cy="90360"/>
              <a:chOff x="6012000" y="3816000"/>
              <a:chExt cx="1085760" cy="90360"/>
            </a:xfrm>
          </p:grpSpPr>
          <p:sp>
            <p:nvSpPr>
              <p:cNvPr id="261" name=""/>
              <p:cNvSpPr/>
              <p:nvPr/>
            </p:nvSpPr>
            <p:spPr>
              <a:xfrm>
                <a:off x="601200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0955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786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625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457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29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5131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5962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6801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633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46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303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138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097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5" name=""/>
          <p:cNvSpPr/>
          <p:nvPr/>
        </p:nvSpPr>
        <p:spPr>
          <a:xfrm>
            <a:off x="579096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7708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97760" y="3911760"/>
            <a:ext cx="366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46460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24960" y="391176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97760" y="4064040"/>
            <a:ext cx="1089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`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97760" y="3759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097760" y="3759120"/>
            <a:ext cx="1082520" cy="152280"/>
            <a:chOff x="7097760" y="3759120"/>
            <a:chExt cx="1082520" cy="152280"/>
          </a:xfrm>
        </p:grpSpPr>
        <p:sp>
          <p:nvSpPr>
            <p:cNvPr id="283" name=""/>
            <p:cNvSpPr/>
            <p:nvPr/>
          </p:nvSpPr>
          <p:spPr>
            <a:xfrm>
              <a:off x="709776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7097760" y="3816000"/>
              <a:ext cx="1082520" cy="90360"/>
              <a:chOff x="7097760" y="3816000"/>
              <a:chExt cx="1082520" cy="90360"/>
            </a:xfrm>
          </p:grpSpPr>
          <p:sp>
            <p:nvSpPr>
              <p:cNvPr id="285" name=""/>
              <p:cNvSpPr/>
              <p:nvPr/>
            </p:nvSpPr>
            <p:spPr>
              <a:xfrm>
                <a:off x="709776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180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640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3476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30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13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597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80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763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846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930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013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096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1802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796608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64480" y="4265640"/>
            <a:ext cx="129960" cy="15228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2000" y="3770280"/>
            <a:ext cx="2880" cy="493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83360" y="428796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899480" y="424512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5760" y="4070520"/>
            <a:ext cx="79642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5044680" y="3093840"/>
            <a:ext cx="1800" cy="671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10240" y="4946760"/>
            <a:ext cx="2091960" cy="10087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egular summ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in Asia 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in ’06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1F0-9A2E-4B24-B6B6-735E73247D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Long Term Direction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69642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BIS ver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New feature proposals: power integrity, links to                          ICM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 licensees receive free 4.x up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Realistically, funds do not exist for another parser                          with significant changes in 4.x se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BIS 4.2 should not be revolu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lean-up” only, fixes to critical syntax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Preparation for EIA/ANSI ballot (possibly IE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BIS 5.0 – let’s start considering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IRD 74.6: EMI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Power integrity?  ICM links for pack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User-defined measurements?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705720" y="290520"/>
            <a:ext cx="1833480" cy="2195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886880" y="1147680"/>
            <a:ext cx="1257120" cy="1300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434960" y="5430960"/>
            <a:ext cx="6473880" cy="82368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IBIS baseline need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next five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12C-A90D-4A67-B144-48B96DDE69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Thank you!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44524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705720" y="290520"/>
            <a:ext cx="1833480" cy="2195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886880" y="1147680"/>
            <a:ext cx="1257120" cy="13003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00160" y="2585880"/>
            <a:ext cx="7229520" cy="252900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e are grateful for your suppor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et’s keep building momentum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2005 and beyon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077-13BA-4C78-A59A-43A484C8F6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5-01-26T01:41:12Z</dcterms:modified>
  <cp:revision>192</cp:revision>
  <dc:subject>Update at 2005 DesignCon IBIS Summit</dc:subject>
  <dc:title>IBIS Chair's Report and Roadmap Update</dc:title>
</cp:coreProperties>
</file>