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5840" y="474012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948168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948168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3B41-7FE7-40F5-A2BE-654051630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74012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5840" y="474012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348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740120"/>
            <a:ext cx="5026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368BF-CB94-4E39-B7CD-DEBD3B993A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08F49-AD2D-4E8C-AB1A-C235BCF4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658C0-BB91-478D-A8FC-75C9F238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061CE-7AC0-42FE-BC31-CC647111CF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FFF11-0C23-473D-9AA1-17E8CFDF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52AC6-5D88-4A32-A0DB-258E7AAE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6D708-4BC4-4391-B1BC-67D2A27F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549EF-322B-43B9-A468-563CEE70D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002E9-F1BA-480D-84EF-38778F211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2A957-BCCD-4F4B-AAB0-92455DDA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2E5C9-98FA-4765-917D-02B49AC0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98C28-1416-4245-BCEF-85667C17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5417-DFA5-4635-920D-DB32E2FAA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3880"/>
            <a:ext cx="8091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JEITA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ー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IBIS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　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ONTACT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　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MEETING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in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　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JAP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867280"/>
            <a:ext cx="80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JEITA ; Japan Electronics and Information Technology Industries Assoc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00240" y="3352680"/>
            <a:ext cx="675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JANUARY  31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BIS SUMMIT in Santa Clara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0000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JEITA EDA-WG , 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nas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5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AF031-2D95-487A-BEC1-8C821DB9D58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005840" y="838080"/>
            <a:ext cx="7198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3333cc"/>
                </a:solidFill>
                <a:latin typeface="Arial"/>
              </a:rPr>
              <a:t>JEITA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3333cc"/>
                </a:solidFill>
                <a:latin typeface="Arial"/>
              </a:rPr>
              <a:t>I</a:t>
            </a:r>
            <a:r>
              <a:rPr b="1" lang="en-US" sz="7200" spc="-1" strike="noStrike">
                <a:solidFill>
                  <a:srgbClr val="3333cc"/>
                </a:solidFill>
                <a:latin typeface="Arial"/>
              </a:rPr>
              <a:t>nvite you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3333cc"/>
                </a:solidFill>
                <a:latin typeface="Arial"/>
              </a:rPr>
              <a:t>at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3333cc"/>
                </a:solidFill>
                <a:latin typeface="Arial"/>
              </a:rPr>
              <a:t>Tokyo meeting!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C0B82-4B83-40BD-8471-8692439C24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0640" y="685800"/>
            <a:ext cx="5826600" cy="46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ut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65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JEITA EDA-WG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 Japan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eeting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5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5E885-B0F4-47C9-9ED5-1CC2E3BE40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66680" y="14191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A Model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01004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Auto Mobile Electronic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75640" y="3170160"/>
            <a:ext cx="37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Digital , RF, and Analog circui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5240" y="4618080"/>
            <a:ext cx="33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(Motor Drive, EM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2920" y="2484360"/>
            <a:ext cx="41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 Phone, LCD /PDP TV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gital Camera/Video, DVD Rec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1952640"/>
            <a:ext cx="6019560" cy="1676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3933720"/>
            <a:ext cx="6019560" cy="1676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6840" y="2027160"/>
            <a:ext cx="51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gital Consumer Electron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0640" y="576252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Applicability of IBIS V4.1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637236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5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762120"/>
            <a:ext cx="8534160" cy="5331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efefe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s of JEITA E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2000" y="-157320"/>
            <a:ext cx="61747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 JEITA EDA-W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F798C-92CD-4CAB-BCB7-A3024E33C4A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3554280"/>
            <a:ext cx="1763640" cy="142920"/>
          </a:xfrm>
          <a:custGeom>
            <a:avLst/>
            <a:gdLst>
              <a:gd name="textAreaLeft" fmla="*/ 0 w 1763640"/>
              <a:gd name="textAreaRight" fmla="*/ 1764000 w 1763640"/>
              <a:gd name="textAreaTop" fmla="*/ 18360 h 142920"/>
              <a:gd name="textAreaBottom" fmla="*/ 124560 h 142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1523880"/>
            <a:ext cx="5970600" cy="42483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99000" y="2919240"/>
            <a:ext cx="2089080" cy="1440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96200" y="4621320"/>
            <a:ext cx="145008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i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1573200"/>
            <a:ext cx="15066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07120" y="3097080"/>
            <a:ext cx="1872360" cy="113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LCR, Fil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04880" y="1687680"/>
            <a:ext cx="19072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F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78440" y="4711680"/>
            <a:ext cx="126432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8160" y="3859200"/>
            <a:ext cx="1872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6040" y="3021120"/>
            <a:ext cx="11790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72760" y="2046240"/>
            <a:ext cx="7887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5880" y="4764240"/>
            <a:ext cx="173376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ystal Oscil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05200" y="3855960"/>
            <a:ext cx="18054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72080" y="2990880"/>
            <a:ext cx="16574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 C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8240" y="248760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SI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380880"/>
            <a:ext cx="853416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efefe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A Model for SI, PI and EMI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5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3C036-FDCD-45F9-8B4E-09B4503E8A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3880" y="1600200"/>
            <a:ext cx="16765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2438280"/>
            <a:ext cx="18288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C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3962520"/>
            <a:ext cx="220968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cr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miconduc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24480" y="1600200"/>
            <a:ext cx="190512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LCR, Filter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5029200"/>
            <a:ext cx="23623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ystal Oscil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5562720"/>
            <a:ext cx="17528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38680" y="5334120"/>
            <a:ext cx="12193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38880" y="3962520"/>
            <a:ext cx="8384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4648320"/>
            <a:ext cx="11430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1676520"/>
            <a:ext cx="16765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F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2057400"/>
            <a:ext cx="129564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2895480"/>
            <a:ext cx="13716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514600" y="403812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209680" y="4266720"/>
            <a:ext cx="121932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495680" y="4495680"/>
            <a:ext cx="7632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5562360" y="4419720"/>
            <a:ext cx="6094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6400440" y="41911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086240" y="3580920"/>
            <a:ext cx="6858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715000" y="22860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876920" y="2133360"/>
            <a:ext cx="7596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2743200"/>
            <a:ext cx="4496040" cy="1752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DA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igital Consumer electron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5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228600"/>
            <a:ext cx="85345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efefe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cus of EDA Model for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320" y="838080"/>
            <a:ext cx="316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10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50C93-07E0-40BF-8F92-4091CDC3B3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459360" y="1724040"/>
            <a:ext cx="7963200" cy="4676400"/>
            <a:chOff x="459360" y="1724040"/>
            <a:chExt cx="7963200" cy="4676400"/>
          </a:xfrm>
        </p:grpSpPr>
        <p:sp>
          <p:nvSpPr>
            <p:cNvPr id="107" name=""/>
            <p:cNvSpPr/>
            <p:nvPr/>
          </p:nvSpPr>
          <p:spPr>
            <a:xfrm>
              <a:off x="4527000" y="2049840"/>
              <a:ext cx="1543680" cy="701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NEC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Toshib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58480" y="4084920"/>
              <a:ext cx="1824480" cy="631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hin Deng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982920" y="2470680"/>
              <a:ext cx="1192680" cy="701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TD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Mur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30680" y="1909440"/>
              <a:ext cx="1403280" cy="1753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Panason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on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har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Can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Toshib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544520" y="4716360"/>
              <a:ext cx="771480" cy="420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CM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11080" y="5418360"/>
              <a:ext cx="1052280" cy="420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Mectr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63760" y="2681280"/>
              <a:ext cx="1193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2983320" y="4295160"/>
              <a:ext cx="420840" cy="21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4737240" y="4926600"/>
              <a:ext cx="70200" cy="98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6070320" y="4856760"/>
              <a:ext cx="561240" cy="56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6982560" y="4576320"/>
              <a:ext cx="561240" cy="35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6912720" y="3172320"/>
              <a:ext cx="561240" cy="49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5298840" y="2751120"/>
              <a:ext cx="0" cy="56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33960" y="3313080"/>
              <a:ext cx="3999600" cy="1613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EDA Mode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igital Consumer electron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39280" y="5137560"/>
              <a:ext cx="1473480" cy="126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Fujits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Mitsubish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Apsi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2913120" y="4646520"/>
              <a:ext cx="912240" cy="98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9360" y="1935720"/>
              <a:ext cx="1412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3300"/>
                  </a:solidFill>
                  <a:latin typeface="Arial"/>
                </a:rPr>
                <a:t>Digi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3300"/>
                  </a:solidFill>
                  <a:latin typeface="Arial"/>
                </a:rPr>
                <a:t>Consu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3300"/>
                  </a:solidFill>
                  <a:latin typeface="Arial"/>
                </a:rPr>
                <a:t>Electron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3300"/>
                  </a:solidFill>
                  <a:latin typeface="Arial"/>
                </a:rPr>
                <a:t>Suppl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7440" y="4786560"/>
              <a:ext cx="231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3300"/>
                  </a:solidFill>
                  <a:latin typeface="Arial"/>
                </a:rPr>
                <a:t>EDA</a:t>
              </a:r>
              <a:r>
                <a:rPr b="1" i="1" lang="en-US" sz="1200" spc="-1" strike="noStrike">
                  <a:solidFill>
                    <a:srgbClr val="cc3300"/>
                  </a:solidFill>
                  <a:latin typeface="Arial"/>
                </a:rPr>
                <a:t>(internal/vendo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36840" y="5513400"/>
              <a:ext cx="145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3300"/>
                  </a:solidFill>
                  <a:latin typeface="Arial"/>
                </a:rPr>
                <a:t>Connect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91680" y="50922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3300"/>
                  </a:solidFill>
                  <a:latin typeface="Arial"/>
                </a:rPr>
                <a:t>FP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05920" y="439056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3300"/>
                  </a:solidFill>
                  <a:latin typeface="Arial"/>
                </a:rPr>
                <a:t>PC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66480" y="1724040"/>
              <a:ext cx="113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3300"/>
                  </a:solidFill>
                  <a:latin typeface="Arial"/>
                </a:rPr>
                <a:t>Semic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44320" y="1864080"/>
              <a:ext cx="157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3300"/>
                  </a:solidFill>
                  <a:latin typeface="Arial"/>
                </a:rPr>
                <a:t>Passiv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3300"/>
                  </a:solidFill>
                  <a:latin typeface="Arial"/>
                </a:rPr>
                <a:t>Compon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18200" y="3758760"/>
              <a:ext cx="177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3300"/>
                  </a:solidFill>
                  <a:latin typeface="Arial"/>
                </a:rPr>
                <a:t>Discrete</a:t>
              </a:r>
              <a:r>
                <a:rPr b="1" i="1" lang="zh-CN" sz="1800" spc="-1" strike="noStrike">
                  <a:solidFill>
                    <a:srgbClr val="cc3300"/>
                  </a:solidFill>
                  <a:latin typeface="Arial"/>
                </a:rPr>
                <a:t>　</a:t>
              </a:r>
              <a:r>
                <a:rPr b="1" i="1" lang="en-US" sz="1800" spc="-1" strike="noStrike">
                  <a:solidFill>
                    <a:srgbClr val="cc3300"/>
                  </a:solidFill>
                  <a:latin typeface="Arial"/>
                </a:rPr>
                <a:t>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14760" y="5839200"/>
              <a:ext cx="1613520" cy="420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JA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04920" y="380880"/>
            <a:ext cx="853416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efefe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ITA EDA-WG 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5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19520" y="1017720"/>
            <a:ext cx="41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16 Major Compan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181AD-EB85-4195-935D-BE84055475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28240" y="1294920"/>
            <a:ext cx="883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1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itle of the meeting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1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u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 JAPA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1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 JEITA-IBIS Contact Meeting in  JAPA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urpo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IS is the most popular international EDA standard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proceed the advanced and efficiency design of dig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appliance using simulation, JEITA sponso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rum to exchange the opinion directly with IBIS 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um members about the device model for sim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so helpful to decide the direction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leration of the EDA model circulation an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iness development for BO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5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762120"/>
            <a:ext cx="8534160" cy="5331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efefe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BI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u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 JAPAN (PL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-228600"/>
            <a:ext cx="75438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. Japan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　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eeting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DEF41-733C-4B7B-B170-5A41461750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0880" y="1143000"/>
            <a:ext cx="838224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 about the  specifications of IBIS and the use technolog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inion about the standardization of the EDA model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Dat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March 24,2005 (Thursday)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:00-17:00   Meeting,   17:30 ~    Pa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lac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JEITA meeting room  (Tokyo, Japan 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resent list memb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 IBIS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hael Mirmak            4~5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ITA      EDA-WG member     Total 50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Hosted by JEITA EC c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380880"/>
            <a:ext cx="853416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efefe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BI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u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 JAPAN (PL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35760" y="5335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o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385F7-D5EB-4A83-8A8F-F121B6F086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1073160"/>
            <a:ext cx="836604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genda (Tentati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:00-10:15   Greeting &amp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:15-11:00   IBIS report  (History &amp; Roadmap) by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hael Mirma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:00-12:00   2 Technical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ation from US members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0-1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0-1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0  3 Technical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atio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 from US, 2 from Japa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0-1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io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　　　　　　                                                       　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-1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0  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eeting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yle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Language : English (No translato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No Tele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 Participant (Permitted person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 Open Forum members  and JEITA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expenses is self-burden, fundament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5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380880"/>
            <a:ext cx="853416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efefe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BI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u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 JAPAN (PL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835760" y="5335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o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5A8E9-52E9-4AA7-A0F4-450B3CDF61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5T13:22:28Z</dcterms:created>
  <dc:creator>A.Ito</dc:creator>
  <dc:description/>
  <dc:language>en-US</dc:language>
  <cp:lastModifiedBy>伊藤　厚示</cp:lastModifiedBy>
  <dcterms:modified xsi:type="dcterms:W3CDTF">2005-01-28T04:08:42Z</dcterms:modified>
  <cp:revision>243</cp:revision>
  <dc:subject/>
  <dc:title>JEITA</dc:title>
</cp:coreProperties>
</file>