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34213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344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95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4120" y="0"/>
            <a:ext cx="30495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0520" y="698040"/>
            <a:ext cx="465480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3440" y="4420800"/>
            <a:ext cx="5628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842320"/>
            <a:ext cx="30495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4120" y="8842320"/>
            <a:ext cx="30495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E8EE0F-353A-492F-8F96-2A0453B66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-360" y="8842320"/>
            <a:ext cx="30495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360" y="0"/>
            <a:ext cx="30495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84120" y="0"/>
            <a:ext cx="30495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9052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38160" y="4422240"/>
            <a:ext cx="5159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360" y="8842320"/>
            <a:ext cx="30495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0"/>
            <a:ext cx="30495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84120" y="0"/>
            <a:ext cx="30495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9052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38160" y="4422240"/>
            <a:ext cx="5159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0BAF-CECE-4C25-8370-2508D6797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949E-28A6-4A03-BD8B-C473A9732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BBD0-91CC-4AD4-8B86-FE9CEFE67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9E07-A65E-48C7-8CD0-F6BCB9CCEE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E81EF-34DB-459E-97CE-3500E9197E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642FB-45DA-49EA-B76A-3687A70D9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6FAC-0466-4F91-A381-81911AF70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B4E6-8037-4E60-B022-5F06F479F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B768-EDC4-416A-A444-F0A8DA126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F08B-BE5A-49C2-9D57-36434D8A3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201A-6E6D-4465-835C-C11E973F8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3F4C-231B-40EE-8F4E-9A2033B29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48720" y="5961240"/>
            <a:ext cx="1295280" cy="896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819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427F-D54C-4A0E-B08C-0CD8792AA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5040" y="641988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Symbol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808080"/>
                </a:solidFill>
                <a:latin typeface="Times New Roman"/>
              </a:rPr>
              <a:t>2005 Silicon Bandwidth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Times New Roman"/>
              </a:rPr>
              <a:t>All Material Confidential and Propriet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3047760" cy="2210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5335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Arial"/>
              </a:rPr>
              <a:t>IBIS QUALITY COMMITTEE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Arial"/>
              </a:rPr>
              <a:t>DesignCon IBIS SUM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f0000"/>
                </a:solidFill>
                <a:latin typeface="Arial"/>
              </a:rPr>
              <a:t>January 31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24000" y="5181480"/>
            <a:ext cx="3020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Kim Helliw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khelliwell@siliconbandwidth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Silicon Bandwidth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2890 Zanker Road Suite 1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San Jose, CA 951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408-965-12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Current Active Members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25280" y="2496960"/>
            <a:ext cx="587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Robert Haller, SiSoft (cha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Mike LaBonte, 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Bob Ross, Tera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ckhard Lenski, Sie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Kim Helliwell, Silicon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A025-AE25-40C8-B72F-6049ABF451D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28880" y="304920"/>
            <a:ext cx="72403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Arial"/>
              </a:rPr>
              <a:t>IBIS Quality (IQ) Subcommitte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758960"/>
            <a:ext cx="85345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Rating system that is easy to understand and ad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Communicate to vendors/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Cover overall file, component, and model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Check for completeness, correctness,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Leverage of prior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Meet every mon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54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Usually the first Tuesday 9:00am EDT for 1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Mailing list: Ibis-quality@freelists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Also see: http://www.freelists.org/archives/ibis-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99"/>
                </a:solidFill>
                <a:latin typeface="Arial"/>
              </a:rPr>
              <a:t>Web Site: http://www.sisoft.com/ibis-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Arial"/>
              </a:rPr>
              <a:t>Defined quality levels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99"/>
                </a:solidFill>
                <a:latin typeface="Arial"/>
              </a:rPr>
              <a:t>Level 0 – Passes IBISCHK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99"/>
                </a:solidFill>
                <a:latin typeface="Arial"/>
              </a:rPr>
              <a:t>Level 1 – Complete and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99"/>
                </a:solidFill>
                <a:latin typeface="Arial"/>
              </a:rPr>
              <a:t>Level 2a, 2b – Correlation: Simulation,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99"/>
                </a:solidFill>
                <a:latin typeface="Arial"/>
              </a:rPr>
              <a:t>Leverage off of IBIS Accuracy Handbook (sp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99"/>
                </a:solidFill>
                <a:latin typeface="Arial"/>
              </a:rPr>
              <a:t>Level 3 – 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CDC9-4D2F-4BC8-8669-CA4A2EEA13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Q Committee Documentation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361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90680" y="5867280"/>
            <a:ext cx="455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Find this at: http://www.sisoft.com/ibis-quality/do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02AC-0F56-4D83-8ADB-9B82A675226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1880" y="2934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Q Documents of Interest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75248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iq_checklist_kit.zip: Contains IQ_checklist.xls, IQ_specification.txt, and Using_IQ_checklist.p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iq_example.ibs: A sample IBIS file that was run through the check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iq_parser_bug_candidates.txt: More about this in the next slid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C2A6-5456-4DCA-9BB4-8F18CA776C1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Current Status of IQ Committee Work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47800" y="1538280"/>
            <a:ext cx="761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hecklist is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hecklist kit is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xample i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Detailed instructions are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urrent task: identify list of additional   software checks that can be added to the Golden Parser (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iq_parser_bug_candidates.txt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Help wanted: seeking engineers who will try using the checklist and provide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A1A8-07C1-42A3-8868-A1D0BDCE203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85840" y="1600200"/>
            <a:ext cx="5000760" cy="1527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4076640"/>
            <a:ext cx="84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7:10:22Z</dcterms:created>
  <dc:creator>Stephen</dc:creator>
  <dc:description/>
  <dc:language>en-US</dc:language>
  <cp:lastModifiedBy>JRosenberger</cp:lastModifiedBy>
  <dcterms:modified xsi:type="dcterms:W3CDTF">2005-01-19T20:59:42Z</dcterms:modified>
  <cp:revision>235</cp:revision>
  <dc:subject/>
  <dc:title>Microdisplay Cost Sav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13897074</vt:r8>
  </property>
  <property fmtid="{D5CDD505-2E9C-101B-9397-08002B2CF9AE}" pid="3" name="_AuthorEmail">
    <vt:lpwstr>JRosenberger@siliconbandwidth.com</vt:lpwstr>
  </property>
  <property fmtid="{D5CDD505-2E9C-101B-9397-08002B2CF9AE}" pid="4" name="_AuthorEmailDisplayName">
    <vt:lpwstr>Joseph Rosenberger</vt:lpwstr>
  </property>
  <property fmtid="{D5CDD505-2E9C-101B-9397-08002B2CF9AE}" pid="5" name="_EmailSubject">
    <vt:lpwstr>powerpoint</vt:lpwstr>
  </property>
  <property fmtid="{D5CDD505-2E9C-101B-9397-08002B2CF9AE}" pid="6" name="_PreviousAdHocReviewCycleID">
    <vt:r8>749728081</vt:r8>
  </property>
</Properties>
</file>