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02-2005 Teraspeed Consulting Group LLC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6B36CB4F-EF06-4700-A91A-61C6F8885A15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Stacked Package Modeling with IBIS Version 4.1</a:t>
            </a:r>
            <a:br>
              <a:rPr sz="3600"/>
            </a:b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776760"/>
            <a:ext cx="64008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m Dagostino and Bob R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signCon IBIS Summit Mee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nta Clara, Californi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January 31, 2005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Alternative Approache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B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No coupling (50% too fast), but Terminator stubs not needed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endor-specific psuedo board from electrical inform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Not tried because not acceptable to chip vendor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C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No links to IBIS, no support and more complicated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 other vendor-specific solution work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[Circuit Call] to IBIS [Model] links – configuration issue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pice-based net with IBIS calls – syntax issue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Multi-lingual Issue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ulti-lingual for interconnect and *-AMS mode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Solution for encoding IBIS models directly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Forces *-AMS code, but limited *-AMS tool support, plus vendor-specific configuration issue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Requires Bi-directional models with driving and receiving mode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annot be Solved by IBIS Unless …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rect IBIS table links to [Model] and [External Model]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Expanded [Circuit Call] or new [Model Call]?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ome power-rail issu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Can Input or Terminator model have inactive A_puref and A_pdref nodes? (OK in standard IBIS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to selectively bring in partial or full interconnect structur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EDA tool issue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-die chip selec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Limitation overcome by using several [Component]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58 Pin IBIS Component Problem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58 pin 2 Gbit 128M X 16 SRAM memory consisting of eight stacked 54 pin TSOP 256 Mbit X 8 SRAM ICs addressed by layer-based chip selec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-D metal interconnect strips (vertical, on 4 sides and horizontal layer routing) produce significant degrad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Photograph of Package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70572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8 Stacked ICs, NC Pin Strips Bring Out 8 Chip-selected I/Os on 2 Pins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2895480"/>
            <a:ext cx="7380360" cy="247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3200400"/>
            <a:ext cx="7380360" cy="247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3505320"/>
            <a:ext cx="7380360" cy="247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3809880"/>
            <a:ext cx="7380360" cy="247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4114800"/>
            <a:ext cx="7380360" cy="247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4419720"/>
            <a:ext cx="7380360" cy="247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4724280"/>
            <a:ext cx="7380360" cy="247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5029200"/>
            <a:ext cx="7380360" cy="247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971800"/>
            <a:ext cx="15228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3276720"/>
            <a:ext cx="15228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3581280"/>
            <a:ext cx="15228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3886200"/>
            <a:ext cx="15228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4191120"/>
            <a:ext cx="15228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4495680"/>
            <a:ext cx="15228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4800600"/>
            <a:ext cx="15228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5105520"/>
            <a:ext cx="15228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4191120"/>
            <a:ext cx="15264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3886200"/>
            <a:ext cx="15264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4495680"/>
            <a:ext cx="15264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3581280"/>
            <a:ext cx="15264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9880" y="3276720"/>
            <a:ext cx="15264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9880" y="2971800"/>
            <a:ext cx="15264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4800600"/>
            <a:ext cx="15264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5105520"/>
            <a:ext cx="15264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5410080"/>
            <a:ext cx="15228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9880" y="5410080"/>
            <a:ext cx="15264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4114800"/>
            <a:ext cx="304920" cy="1371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40384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038480" y="2895120"/>
            <a:ext cx="0" cy="259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352680" y="28951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5486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4038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2680" y="2895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2057400"/>
            <a:ext cx="380880" cy="45720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2057400"/>
            <a:ext cx="380880" cy="45720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2057400"/>
            <a:ext cx="381240" cy="45720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2057400"/>
            <a:ext cx="380880" cy="45720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2057400"/>
            <a:ext cx="380880" cy="45720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2057400"/>
            <a:ext cx="381240" cy="45720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2057400"/>
            <a:ext cx="380880" cy="45720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86600" y="2057400"/>
            <a:ext cx="380880" cy="45720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175248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175248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143000" y="17521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676520" y="17521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209680" y="17521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743200" y="17521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638680" y="17521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172200" y="17521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705720" y="17521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238880" y="17521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19051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Q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19051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Q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56386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Q4 DQ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2819520"/>
            <a:ext cx="45720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22096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4          3        2        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62720" y="22096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8        7         6        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8520" y="244944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Q 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I/Os for Layer 8 (Red) Component and Layer 1 (Green) Component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2895480"/>
            <a:ext cx="7380360" cy="2476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3200400"/>
            <a:ext cx="7380360" cy="247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3505320"/>
            <a:ext cx="7380360" cy="247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3809880"/>
            <a:ext cx="7380360" cy="247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4114800"/>
            <a:ext cx="7380360" cy="247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4419720"/>
            <a:ext cx="7380360" cy="247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4724280"/>
            <a:ext cx="7380360" cy="247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5029200"/>
            <a:ext cx="7380360" cy="24768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2971800"/>
            <a:ext cx="15228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3276720"/>
            <a:ext cx="15228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3581280"/>
            <a:ext cx="15228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3886200"/>
            <a:ext cx="15228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4191120"/>
            <a:ext cx="15228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495680"/>
            <a:ext cx="15228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4800600"/>
            <a:ext cx="15228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29000" y="5105520"/>
            <a:ext cx="15228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4191120"/>
            <a:ext cx="15264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3886200"/>
            <a:ext cx="15264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4495680"/>
            <a:ext cx="15264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3581280"/>
            <a:ext cx="15264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3276720"/>
            <a:ext cx="15264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2971800"/>
            <a:ext cx="15264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9880" y="4800600"/>
            <a:ext cx="15264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5105520"/>
            <a:ext cx="15264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5410080"/>
            <a:ext cx="15228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9880" y="5410080"/>
            <a:ext cx="15264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4114800"/>
            <a:ext cx="304920" cy="1371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33920" y="40384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038480" y="2895120"/>
            <a:ext cx="0" cy="259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352680" y="28951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5486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4038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2895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2057400"/>
            <a:ext cx="380880" cy="4572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2057400"/>
            <a:ext cx="380880" cy="45720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2057400"/>
            <a:ext cx="381240" cy="45720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2057400"/>
            <a:ext cx="38088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86400" y="2057400"/>
            <a:ext cx="380880" cy="4572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2057400"/>
            <a:ext cx="381240" cy="45720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2057400"/>
            <a:ext cx="380880" cy="45720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86600" y="2057400"/>
            <a:ext cx="38088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175248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175248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143000" y="17521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676520" y="17521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209680" y="17521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743200" y="17521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638680" y="17521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172200" y="17521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705720" y="17521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238880" y="17521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19051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Q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96080" y="19051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Q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8120" y="56386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Q4 DQ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2819520"/>
            <a:ext cx="45720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22096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4          3        2        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22096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8        7         6        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52680" y="4114800"/>
            <a:ext cx="30492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52680" y="3809880"/>
            <a:ext cx="30492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99400" y="24861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Q 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Ver. 4.1 Multi-lingual IBIS Model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8 – 58 pin [Component]s, one per active lay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I/Os and Inputs for that layer plus I/Os from layer +/- 4 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Other inactive layer Inputs and I/Os hard coded as Terminators (so, one signal active per pin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Choose [Component] for best and worst path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40 node super-die interconnect structure to Inputs and I/O’s plus nodes to pi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Extracted lossy, coupled interconnect structure linked by [External Circuit] to SPICE &amp; a [Circuit Call]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dels set up as [External Circuit]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But with vendor SPICE-based IBIS model link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nterconnect Extraction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endor supplied bare package for T-lin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TDR for delays, impedances of strip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And measured dimension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yout all buffers and layers in HyperLynx with T-lines and dimens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port lossy, coupled interconnect into HSpice formatted subcircui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BIS Buffer Model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ngle IC supplied separately and fully modeled as an independent IBIS file with [Component] and [Model]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I/O buffer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Input buffer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Package – (default package added to code for models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struct huge multi-lingual IBIS model fi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Passed Beta ibischk4 Version 4.1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Eight internal layer [Component]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Result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 tool can simulate multi-lingual mod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Vendor-specific SPICE used (could have used Berkeley SPICE for interconnect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[External Circuit] buffers with SPICE-based IBIS calls do not work (and direct table links not legal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No Model_type information for automatic processing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Cannot bring in total simulation net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yperLynx simulation by hard coded buffer selection – cannot be used as component on larger boar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But did simulate with expected interconnect degradation in about 20 seconds per buffer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0T13:19:28Z</dcterms:created>
  <dc:creator>Bob Ross</dc:creator>
  <dc:description/>
  <dc:language>en-US</dc:language>
  <cp:lastModifiedBy>Bob Ross</cp:lastModifiedBy>
  <dcterms:modified xsi:type="dcterms:W3CDTF">2005-01-21T00:40:32Z</dcterms:modified>
  <cp:revision>442</cp:revision>
  <dc:subject/>
  <dc:title>IBIS</dc:title>
</cp:coreProperties>
</file>