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660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77068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6600" y="877068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6CA0F2E-1C2D-48C0-A159-CA8830058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 I can’t see what I am typing when I enter the presenter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&amp; ti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This is an issue with PowerPoint. Here is the current work around, not the most elegant solution but it work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Select the area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Type a wor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Highlight the wor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Change font color to back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Finish typ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Select a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Change font color to whi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05B49-7ED0-4396-A1FA-7525BF5D1E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79FDE-DC0D-4ECD-B404-774842D60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4284C-1213-4C37-A531-F978D0520F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95C4A-5C92-454A-99F9-E29714EEED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74A28-AF1A-46A8-918B-4C4306C97D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BFD92-937F-4032-AC20-9ED85440C5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604D5-33FF-4435-A693-01264CCAEA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5D064-2E3E-4951-80F6-93F039ED6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F3F47-AA32-420F-8A8B-FAF8FEF04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428D9-74F5-43D2-8A33-7CBCCFEB8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9728B-D30C-4B21-9EFD-216533964D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59E1B-E295-4FB5-9C00-3721227D4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r-white" descr=""/>
          <p:cNvPicPr/>
          <p:nvPr/>
        </p:nvPicPr>
        <p:blipFill>
          <a:blip r:embed="rId2"/>
          <a:stretch/>
        </p:blipFill>
        <p:spPr>
          <a:xfrm>
            <a:off x="0" y="6091200"/>
            <a:ext cx="9144000" cy="76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828800" y="655308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AFFF-CE06-4D6D-94DA-D1E36B160E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%20Page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 Black"/>
              </a:rPr>
              <a:t>Reflections on IBIS</a:t>
            </a:r>
            <a:br>
              <a:rPr sz="4700"/>
            </a:br>
            <a:br>
              <a:rPr sz="3600"/>
            </a:br>
            <a:br>
              <a:rPr sz="3600"/>
            </a:br>
            <a:r>
              <a:rPr b="0" i="1" lang="en-US" sz="2600" spc="-1" strike="noStrike">
                <a:solidFill>
                  <a:srgbClr val="ffffff"/>
                </a:solidFill>
                <a:latin typeface="Arial Black"/>
              </a:rPr>
              <a:t>Bob Ross</a:t>
            </a:r>
            <a:br>
              <a:rPr sz="2600"/>
            </a:br>
            <a:r>
              <a:rPr b="0" i="1" lang="en-US" sz="2600" spc="-1" strike="noStrike">
                <a:solidFill>
                  <a:srgbClr val="ffffff"/>
                </a:solidFill>
                <a:latin typeface="Arial Black"/>
              </a:rPr>
              <a:t>January 27, 2003</a:t>
            </a:r>
            <a:br>
              <a:rPr sz="2600"/>
            </a:br>
            <a:br>
              <a:rPr sz="2600"/>
            </a:br>
            <a:r>
              <a:rPr b="0" i="1" lang="en-US" sz="2600" spc="-1" strike="noStrike">
                <a:solidFill>
                  <a:srgbClr val="ffffff"/>
                </a:solidFill>
                <a:latin typeface="Arial Black"/>
              </a:rPr>
              <a:t>IBIS Summit Meeting</a:t>
            </a:r>
            <a:br>
              <a:rPr sz="2600"/>
            </a:br>
            <a:r>
              <a:rPr b="0" i="1" lang="en-US" sz="2600" spc="-1" strike="noStrike">
                <a:solidFill>
                  <a:srgbClr val="ffffff"/>
                </a:solidFill>
                <a:latin typeface="Arial Black"/>
              </a:rPr>
              <a:t>Santa Clara, California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7521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Keys to Success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 satisfactory technical/business solution (right place, right tim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tain formal standards body affili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able industry and make IBIS models a requirement for semiconductor device purch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ck related activit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ep the Forum efficient and op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 cost by levering suppo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sy access and sharing of inform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t others involved and spread the work and credi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flections on IBIS, IBIS Summit Meeting,  Bob Ross January 27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53916-F98D-4F21-B8E3-B62F1AEBAEC6}" type="slidenum">
              <a:t>10</a:t>
            </a:fld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Future Challenges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ndustrial suppo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&amp; source of IBIS funding) - keep IBIS relevant to commercial nee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ndustrial infrastructu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take advantage of i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Changing environ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economic, consolidations and new companies, technology advances) - be responsiv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echnical advanc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leverage new opportunit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550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Times New Roman"/>
              </a:rPr>
              <a:t>Multi-lingua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direction for digital/analog interfaces &amp; broader language bas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550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Times New Roman"/>
              </a:rPr>
              <a:t>Interconnect Specificati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advance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0033"/>
                </a:solidFill>
                <a:latin typeface="Times New Roman"/>
              </a:rPr>
              <a:t>Success exists when others promote IB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flections on IBIS, IBIS Summit Meeting,  Bob Ross January 27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F2BD4-794B-4675-9590-A4816CD61DF9}" type="slidenum">
              <a:t>11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IS Membership and Changing Industry Tidbi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IS Infrastructur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s to Succe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Challeng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00400" y="4114800"/>
          <a:ext cx="27432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114800"/>
                    <a:ext cx="2743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flections on IBIS, IBIS Summit Meeting,  Bob Ross January 27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FEB27-FA0D-4A29-A922-949CB237765F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EIA IBIS Open Forum Membership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2514600" cy="38862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995 - 20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996 - 23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997 - 22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998 - 27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999 - 33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000 - 35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001 - 34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002 - 31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003 - (25 - 30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76360" y="1142640"/>
            <a:ext cx="5181480" cy="38862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93 Initial Support (10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EDA - 9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miconductor - 1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2 Membership Breakdown (31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EDA - 10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miconductor - 10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Times New Roman"/>
              </a:rPr>
              <a:t>EDA &amp; Semiconductor Users - 7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EDA &amp; Design Consultants - 3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Times New Roman"/>
              </a:rPr>
              <a:t>Connector - 1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flections on IBIS, IBIS Summit Meeting,  Bob Ross January 27, 2003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4C821-4356-456E-861F-C77FEDE02F3B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1993 Sponsors &amp; 2003 Companies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7339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31919"/>
                </a:solidFill>
                <a:latin typeface="Times New Roman"/>
              </a:rPr>
              <a:t>Cadenc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99"/>
                </a:solidFill>
                <a:latin typeface="Times New Roman"/>
              </a:rPr>
              <a:t>Contec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ff"/>
                </a:solidFill>
                <a:latin typeface="Times New Roman"/>
              </a:rPr>
              <a:t>HyperLynx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ff"/>
                </a:solidFill>
                <a:latin typeface="Times New Roman"/>
              </a:rPr>
              <a:t>Integrity Engineering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Inte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tuSof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eta-Software (HSPICE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31919"/>
                </a:solidFill>
                <a:latin typeface="Times New Roman"/>
              </a:rPr>
              <a:t>Microsim (PSPICE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ff"/>
                </a:solidFill>
                <a:latin typeface="Times New Roman"/>
              </a:rPr>
              <a:t>Quad Design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Times New Roman"/>
              </a:rPr>
              <a:t>Quantic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9 EDA, now 4 +{2} ED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14440" y="1295280"/>
            <a:ext cx="4724280" cy="41148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31919"/>
                </a:solidFill>
                <a:latin typeface="Times New Roman"/>
              </a:rPr>
              <a:t>Cadenc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99"/>
                </a:solidFill>
                <a:latin typeface="Times New Roman"/>
              </a:rPr>
              <a:t>Applied Simulation Technology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ff"/>
                </a:solidFill>
                <a:latin typeface="Times New Roman"/>
              </a:rPr>
              <a:t>Mentor (thru Pads, Innoveda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ff"/>
                </a:solidFill>
                <a:latin typeface="Times New Roman"/>
              </a:rPr>
              <a:t>Mentor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Inte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IntuSoft}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Synopsys (thru Avant!)}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31919"/>
                </a:solidFill>
                <a:latin typeface="Times New Roman"/>
              </a:rPr>
              <a:t>Cadence (thru Orcad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ff"/>
                </a:solidFill>
                <a:latin typeface="Times New Roman"/>
              </a:rPr>
              <a:t>Mentor (thru Viewlogic, Innoveda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Times New Roman"/>
              </a:rPr>
              <a:t>Quantic-EMC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…} means no longer member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flections on IBIS, IBIS Summit Meeting,  Bob Ross January 27, 2003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30E5F-8036-485A-86EB-F217F9DEA633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Mentor Graphics: 9 Parsers, Now 1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quisitions:                 V2.1(26)   V3.2(17)   V4.0(10?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Mentor Graphic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x                x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Anacad</a:t>
            </a:r>
            <a:r>
              <a:rPr b="1" lang="en-US" sz="2400" spc="-1" strike="noStrike">
                <a:solidFill>
                  <a:srgbClr val="a2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x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nterconnecti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x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0033"/>
                </a:solidFill>
                <a:latin typeface="Times New Roman"/>
              </a:rPr>
              <a:t>VeriBest (Intergraph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x            x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Viewlogic</a:t>
            </a:r>
            <a:r>
              <a:rPr b="1" lang="en-US" sz="2400" spc="-1" strike="noStrike">
                <a:solidFill>
                  <a:srgbClr val="a20033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x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Quad Desig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x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HyperLyn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x             x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lso as members and participants: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Innoved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Pad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ff99"/>
                </a:solidFill>
                <a:latin typeface="Times New Roman"/>
              </a:rPr>
              <a:t>Integrity Enginee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Zeelan Technolog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1" lang="en-US" sz="2600" spc="-1" strike="noStrike">
                <a:solidFill>
                  <a:srgbClr val="9933ff"/>
                </a:solidFill>
                <a:latin typeface="Times New Roman"/>
              </a:rPr>
              <a:t>Mentor Graphic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companies in IBIS, now 1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flections on IBIS, IBIS Summit Meeting,  Bob Ross January 27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0BACB-33B9-4786-B008-82982582E1DD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IBIS &amp; Other </a:t>
            </a:r>
            <a:r>
              <a:rPr b="1" lang="en-US" sz="3400" spc="-1" strike="noStrike">
                <a:solidFill>
                  <a:srgbClr val="3399ff"/>
                </a:solidFill>
                <a:latin typeface="Arial"/>
              </a:rPr>
              <a:t>Organizations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Documents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EIA (GEIA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 ANS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 IEC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for IBIS standardiz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DIF 4 0 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includes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BIS 2.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uffers &amp; packa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JEI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M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- expanded table model (Japa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JED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IBIS Tables in various specif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NCITS/T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SCSI document references IB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IEC, U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C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- IBIS and EMC (Franc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XM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raft - </a:t>
            </a: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Apt Software Aven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oth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PI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about 5+? IBIS implement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VHDL-A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Verilog-A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PIC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multi-lingua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CM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SIM3/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under </a:t>
            </a: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GEI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same as </a:t>
            </a: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IBIS Foru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ouchsto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mat (S-parameters) - public under </a:t>
            </a: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IB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flections on IBIS, IBIS Summit Meeting,  Bob Ross January 27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EE919-6AB2-4AD2-A9BD-DCE85E192A7F}" type="slidenum">
              <a:t>6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Industrial IBIS Involvement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IS East Users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uracy Repo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ted Interconnect Specific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IS Quality Committe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 guidelin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pad Muranyi’s IBIS Clas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e SPICE to IBIS, IBIS to SPICE, graphing tools, information tools (from NCSU and companie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okbook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dor, commercial and consultant modeling develop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flections on IBIS, IBIS Summit Meeting,  Bob Ross January 27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D5860-8BBB-441C-9112-775D555F6460}" type="slidenum">
              <a:t>7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Industrial Acceptance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2670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ent SI reflector archives (8351 message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IBI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3399ff"/>
                </a:solidFill>
                <a:latin typeface="Times New Roman"/>
              </a:rPr>
              <a:t>HSPIC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- 36.8%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IBIS - 22.7%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Times New Roman"/>
              </a:rPr>
              <a:t>HSPICE - 21.9%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20033"/>
                </a:solidFill>
                <a:latin typeface="Times New Roman"/>
              </a:rPr>
              <a:t>IBI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200" spc="-1" strike="noStrike">
                <a:solidFill>
                  <a:srgbClr val="a20033"/>
                </a:solidFill>
                <a:latin typeface="Times New Roman"/>
              </a:rPr>
              <a:t> HSPICE - 7.8%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iconductor vendor IBIS models -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70+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vendo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A IBIS support - including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5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PICE vendo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IS reflectors - about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4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orld wi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going magazine article referenc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ks - just starting (Hall ..., Young, ...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flections on IBIS, IBIS Summit Meeting,  Bob Ross January 27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8CDD3-0FFA-4C3D-95DF-6BE2FE354510}" type="slidenum">
              <a:t>8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IBIS not Perfect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8195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99"/>
                </a:solidFill>
                <a:latin typeface="Times New Roman"/>
              </a:rPr>
              <a:t>Featur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Component centric, model types, tables relative to rails, accurate simulation with waveform tables, C_comp included in waveforms, … &amp; </a:t>
            </a:r>
            <a:r>
              <a:rPr b="1" lang="en-US" sz="2400" spc="-1" strike="noStrike">
                <a:solidFill>
                  <a:srgbClr val="00ff99"/>
                </a:solidFill>
                <a:latin typeface="Times New Roman"/>
              </a:rPr>
              <a:t>driven by practical nee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istakes?</a:t>
            </a:r>
            <a:r>
              <a:rPr b="1" lang="en-US" sz="2400" spc="-1" strike="noStrike">
                <a:solidFill>
                  <a:srgbClr val="b3191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I-V table (polarity reversal, ranges, and gaps), C_comp corners by value, specification data relative to absolute voltages, loose syntax guidelines, 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0033"/>
                </a:solidFill>
                <a:latin typeface="Times New Roman"/>
              </a:rPr>
              <a:t>IBIS still solves the industrial modeling problem (IP protection, efficient, vendor neutral format, available, and sufficiently accurat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flections on IBIS, IBIS Summit Meeting,  Bob Ross January 27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2D9D9-7F9B-4684-9EDD-E9A470F02894}" type="slidenum">
              <a:t>9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3T00:05:07Z</dcterms:created>
  <dc:creator>Jorge T Juliano, Jr.</dc:creator>
  <dc:description/>
  <dc:language>en-US</dc:language>
  <cp:lastModifiedBy>Bob Ross</cp:lastModifiedBy>
  <cp:lastPrinted>2002-01-03T01:13:29Z</cp:lastPrinted>
  <dcterms:modified xsi:type="dcterms:W3CDTF">2003-01-24T21:36:33Z</dcterms:modified>
  <cp:revision>369</cp:revision>
  <dc:subject/>
  <dc:title>No Slide Title</dc:title>
</cp:coreProperties>
</file>