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ED6-B6C6-4456-A485-84FE5BAC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AB4-B51B-479D-B65D-B3F1A630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73D-4F1C-4D50-A1A1-00844AC4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414-8C6B-4B2A-94A8-39CF735D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4149-2EBD-4463-ABB5-DD16508F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F515-C197-43DD-9706-1852B5FA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388F-7B0F-4D59-BB17-B518B6EF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2126-9C98-4ADE-8A34-2BA757DD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82BE-270B-46DF-B284-CBB7AA46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093E-FF51-4800-B07A-836719E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626D-611A-4096-B19B-3A315B4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49F-F4EC-4854-8422-69DBD801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E6D0-51E9-4BCF-BC34-9E72569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AC45-DFEA-4510-87DC-9CDFAD6D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CF28-F9D1-456E-BA36-0A384CFE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5FED-C537-40AA-8254-B3F956F6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E154-3414-4B81-9989-6C5EB192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1DA-1C3C-47AD-A40E-02D98368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54A-75A9-4DE2-9ADC-3984A0AA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D0F-8C97-42DE-8B56-7A05BAE0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703-DF34-4C2A-B162-B5693A9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D04-3DB8-4860-8BDD-21CD7218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C67-4BBB-49BE-B91C-CF500E1A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D2D-4440-43E5-81E9-AD29C96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Summit January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D68C-76C2-49B7-B996-D8D8BB6AA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Chair’s Rep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P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Con 2003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E9D3-3DC4-41E7-B2A0-D31ABB8D08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oday's Meeti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/Progress on 4.0 Parser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from J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from the Qualit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n Modeling Data Dependent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M Draft: Status and Propos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 75 Multi-lingual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4.1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d Hoc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E15-35C0-4128-BE12-7706F78978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60696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tus Upda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4.0 parser funding is on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ompanies have been invoiced, 3 more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development is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 (interconnect modeling) parser is on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M parser developer (Kelly Green) is o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received, will be reviewed @ today’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Quality Committee going 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quality levels and generated parser bug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ingual modeling (BIRD75) has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now is to move it into IBIS version 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BIS continues to be a vital part of the industry, and is working to stay tha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D03-8880-4D34-A09F-F8552FE8DF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0486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Upcoming Challeng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he organization 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financial solvency, retain current members (and find new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an author for a trade journal article on IBIS 4.0 modeling adv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Quickly on IBIS4.1 / IBIS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IBIS4.2 ready for ANSI ballot by Sept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multi-lingual modeling, make it an industry 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Interconnect Spec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the ICM parser development with reviews and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improve IBIS Model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model developers to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ality mod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ower users to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dem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ood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track and support EMC and XM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, where appropriate, IBIS to support EMC/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 desire/need for XML based 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587-B093-4D5C-B605-7D25374AC8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sjpeters</dc:creator>
  <dc:description/>
  <dc:language>en-US</dc:language>
  <cp:lastModifiedBy>Bob Ross</cp:lastModifiedBy>
  <dcterms:modified xsi:type="dcterms:W3CDTF">2003-01-21T22:19:03Z</dcterms:modified>
  <cp:revision>28</cp:revision>
  <dc:subject/>
  <dc:title>IBIS Annual Report</dc:title>
</cp:coreProperties>
</file>