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BC8-836C-420B-9ED9-3AA587D0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661-7075-42C0-9B9B-EAC900F5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CAD-448B-44FB-AB53-81D37ED7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8DB-8376-47AC-87D5-054DF0F0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CB52-0BBB-485E-A4CC-28EEC4E2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B491-36A1-4384-9D69-EB3B0420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2564-ABF8-45FB-8370-5283170A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866-F2F7-4DF6-B4B7-BE03AC1E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087-0F0F-40AC-BB35-AFA1FCF9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0091-320C-4F7D-B2E7-F67E68AD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3B7B-A978-45DA-9323-04A35928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6A5-DB21-4A64-B5F4-DF77DE04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4321-B004-4220-97DB-2FD0F704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2C22-6796-4F4A-AE7C-B8D4143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B2D1-25C3-48F7-BEEE-ADD28A6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792C-EB20-4CB0-BBE4-629673EC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D24E-C32B-4A01-94F0-A412CC84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E25-1661-4F2A-9858-314F6F17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E4C-B6B3-4066-B92F-1B0C7495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F2A-49A0-44A0-B3D1-A6373982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E64-4075-45E9-8F41-60C9C4A6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777-2878-42DB-A2A7-3DF76A11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B3B-D2B5-4631-957F-7C8FA17F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C20-BA09-435B-948B-97436EA7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Summit January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6C35-8FFD-4D10-8360-E3C86A65A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Chair’s Rep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P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Con 2003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D592-8508-45D3-8D94-D34E89B312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oday's Meeti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/Progress on 4.0 Parser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from J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from the Qualit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n Modeling Data Dependent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M Draft: Status and Propos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 75 Multi-lingual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4.1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d Hoc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CA3-1C2C-40D4-B513-D6277C7A2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60696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tus Upda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4.0 parser funding is on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companies have been invoiced, 3 more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development is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 (interconnect modeling) parser is on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M parser developer (Kelly Green) is o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received, will be reviewed @ today’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Quality Committee going 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d quality levels and generated parser bug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ingual modeling (BIRD75) has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now is to move it into IBIS version 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BIS continues to be a vital part of the industry, and is working to stay tha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CBB-3BB9-4B83-8AB7-414E6EDC86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04868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Upcoming Challeng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he organization 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financial solvency, retain current members (and find new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an author for a trade journal article on IBIS 4.0 modeling adv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 Quickly on IBIS4.1 / IBIS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IBIS4.2 ready for ANSI ballot by Sept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multi-lingual modeling, make it an industry 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Interconnect Spec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the ICM parser development with reviews and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improve IBIS Model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model developers to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ality mod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ower users to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dem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ood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track and support EMC and XM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, where appropriate, IBIS to support EMC/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 desire/need for XML based 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727-F3AF-4EA7-AA1B-4BE8248B56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sjpeters</dc:creator>
  <dc:description/>
  <dc:language>en-US</dc:language>
  <cp:lastModifiedBy>Bob Ross</cp:lastModifiedBy>
  <dcterms:modified xsi:type="dcterms:W3CDTF">2003-01-21T22:19:03Z</dcterms:modified>
  <cp:revision>28</cp:revision>
  <dc:subject/>
  <dc:title>IBIS Annual Report</dc:title>
</cp:coreProperties>
</file>