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3701-4DF3-4337-BDE7-67688AAAA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A051-3AEF-4DA7-B726-FE5AC37FA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4DD6-1DC2-4245-9038-E38DD22A9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1E1B-4C70-43B4-8FF6-A29345FC7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BB2F-3726-4E4A-87BD-9C6F197761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8AE1-CFEB-4832-8AC8-1FA7E8E2CD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67F5-0926-4B9A-A447-998B33595A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91C8-AA12-40BB-8F23-4715A44A78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8C65-6F34-4459-A14C-AEE31EC0CE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31DD-0C7D-4E30-81EF-CF77CC9C4C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D422-9646-440B-8385-CB85F7589F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DCF0-B7C2-4735-9E92-4849E2239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1E00-1D69-4FAD-8766-F57EB1C615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793B-2445-444F-AEBC-8C84F1CBF7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ED00-24F0-4459-A039-8E898F3B0F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BEE9-1AF0-405D-8BE6-0C5BCAA198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4AD3-D0B6-4B87-B93E-A2ADF9AD3B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C838-5C46-47C2-BA8A-5CAD3C06A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5446-E0B3-4063-8986-F4E983275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386F-6937-4B88-9D17-D56390A19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BC1E-8748-4C01-96F5-B21D2725B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0FE0-7396-4FE2-8DAC-2FDE7FE1B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A3A7-B459-49A2-98C1-305D95A6D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7127-D62F-4F76-A208-2B5F4308F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44328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A0F5-00EF-4558-BDA2-6C5C2CE424EC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43640"/>
            <a:ext cx="86868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4714"/>
          <a:stretch/>
        </p:blipFill>
        <p:spPr>
          <a:xfrm>
            <a:off x="7226280" y="444600"/>
            <a:ext cx="1548000" cy="37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360" y="2819520"/>
            <a:ext cx="8686800" cy="2898720"/>
          </a:xfrm>
          <a:prstGeom prst="rect">
            <a:avLst/>
          </a:prstGeom>
          <a:solidFill>
            <a:srgbClr val="cc00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55760" y="6319800"/>
            <a:ext cx="34718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A36B-AEBD-4DEC-9AB5-66C0117ED1FC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CADENCE DESIGN SYSTEMS, INC.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5791320"/>
            <a:ext cx="8686800" cy="838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5360" y="228600"/>
            <a:ext cx="8686800" cy="2514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4825"/>
          <a:stretch/>
        </p:blipFill>
        <p:spPr>
          <a:xfrm>
            <a:off x="6946920" y="573120"/>
            <a:ext cx="1700280" cy="411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936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631800" algn="ctr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966960" algn="ctr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 BIRD 75 Multi-lingual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ynne Gre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4730760"/>
            <a:ext cx="6719760" cy="851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BIS Summi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FFC03-B874-4AF7-81DA-81534098EF0E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alling the SPICE Model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List of pin/port nam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in same order as in SPI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orts A_signal A_puref core A_pdre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Convert analog core signal to digital core sign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A_to_D d_port        port1   port2      vlow  vhigh  corner_name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_to_D   D_receive  core    A_pdref  0.8    2.0      Typ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End External Mode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FBA5-21D9-4506-9E16-984739E687C5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alling the VHDL-AMS Model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 fontScale="94000"/>
          </a:bodyPr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Model] ExBufferA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odel_type Inpu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inh = 2.0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inl = 0.8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Voltage Range]   3.3     3.0    3.6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External Mode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anguage VHDL-A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rner    Typ         rcvr_typ.vhd  Rcv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rner    Min         rcvr_min.vhd  Rcv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rner    Max         rcvr_max.vhd  Rcv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1FF9-94CA-48D2-B415-5BC494AA140D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alling the VHDL-AMS Model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Parameters are allowe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rameters TempC cap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List of pin/port nam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in same order as in VHDL-A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orts A_signal A_puref core A_pdre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End External Mode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5960-78D2-45E4-B823-495C17BDC3C6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0" r="11872" b="35878"/>
          <a:stretch/>
        </p:blipFill>
        <p:spPr>
          <a:xfrm>
            <a:off x="2895480" y="2895480"/>
            <a:ext cx="3581640" cy="10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FCF1-9E81-44D6-BE1B-33856E2D63F0}" type="slidenum">
              <a:t>13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Multi-Lingual Example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mple receiv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PI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HDL-A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alling in IBIS 4.x Fi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1666-29C3-4889-BC4B-DFFA44D98407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Simple Receiver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ir of clamp diod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put capacitan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o package parasitic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572000"/>
            <a:ext cx="609480" cy="609480"/>
          </a:xfrm>
          <a:prstGeom prst="borderCallout3">
            <a:avLst/>
          </a:prstGeom>
          <a:solidFill>
            <a:srgbClr val="0192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3048120"/>
            <a:ext cx="609480" cy="609480"/>
          </a:xfrm>
          <a:prstGeom prst="borderCallout3">
            <a:avLst/>
          </a:prstGeom>
          <a:solidFill>
            <a:srgbClr val="0192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4648320"/>
            <a:ext cx="600120" cy="533160"/>
          </a:xfrm>
          <a:prstGeom prst="triangle">
            <a:avLst>
              <a:gd name="adj" fmla="val 50000"/>
            </a:avLst>
          </a:prstGeom>
          <a:solidFill>
            <a:srgbClr val="0192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3048120"/>
            <a:ext cx="600120" cy="533160"/>
          </a:xfrm>
          <a:prstGeom prst="triangle">
            <a:avLst>
              <a:gd name="adj" fmla="val 50000"/>
            </a:avLst>
          </a:prstGeom>
          <a:solidFill>
            <a:srgbClr val="0192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411480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36576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4680" y="35812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03848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3657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1148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21337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1337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5181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5181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213372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609588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4572000"/>
            <a:ext cx="609480" cy="609480"/>
          </a:xfrm>
          <a:prstGeom prst="borderCallout3">
            <a:avLst/>
          </a:prstGeom>
          <a:solidFill>
            <a:srgbClr val="0192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048120"/>
            <a:ext cx="609480" cy="609480"/>
          </a:xfrm>
          <a:prstGeom prst="borderCallout3">
            <a:avLst/>
          </a:prstGeom>
          <a:solidFill>
            <a:srgbClr val="0192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41148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1337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5181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36576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191120"/>
            <a:ext cx="9144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in/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30000" y="4172040"/>
            <a:ext cx="494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D2E8-9F8D-4E9E-AE34-C9216F9EDB7C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Simple Receiver in SPICE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.subckt Rcvr 1 2 4 5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1 1 2 D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2 5 1 D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1 1 3 2 2 P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2 1 3 5 5 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3 3 4 2 2 P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4 3 4 5 5 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.model DD d Cj0 2p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.model N nmo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.model P pmo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.end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nalog input and outpu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KCL and KVL at all nod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30000" y="4172040"/>
            <a:ext cx="494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8120" y="1828800"/>
            <a:ext cx="5257800" cy="4286160"/>
            <a:chOff x="3048120" y="1828800"/>
            <a:chExt cx="5257800" cy="4286160"/>
          </a:xfrm>
        </p:grpSpPr>
        <p:sp>
          <p:nvSpPr>
            <p:cNvPr id="119" name=""/>
            <p:cNvSpPr/>
            <p:nvPr/>
          </p:nvSpPr>
          <p:spPr>
            <a:xfrm>
              <a:off x="5639040" y="4591080"/>
              <a:ext cx="609480" cy="609480"/>
            </a:xfrm>
            <a:prstGeom prst="borderCallout3">
              <a:avLst/>
            </a:prstGeom>
            <a:solidFill>
              <a:srgbClr val="0192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39040" y="3067200"/>
              <a:ext cx="609480" cy="609480"/>
            </a:xfrm>
            <a:prstGeom prst="borderCallout3">
              <a:avLst/>
            </a:prstGeom>
            <a:solidFill>
              <a:srgbClr val="0192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9720" y="4667400"/>
              <a:ext cx="600120" cy="533160"/>
            </a:xfrm>
            <a:prstGeom prst="triangle">
              <a:avLst>
                <a:gd name="adj" fmla="val 50000"/>
              </a:avLst>
            </a:prstGeom>
            <a:solidFill>
              <a:srgbClr val="0192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720" y="3067200"/>
              <a:ext cx="600120" cy="533160"/>
            </a:xfrm>
            <a:prstGeom prst="triangle">
              <a:avLst>
                <a:gd name="adj" fmla="val 50000"/>
              </a:avLst>
            </a:prstGeom>
            <a:solidFill>
              <a:srgbClr val="0192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53040" y="413388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62720" y="367668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19600" y="3600360"/>
              <a:ext cx="0" cy="106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4057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3600" y="367668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43600" y="41338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3600" y="21528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640" y="21528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3600" y="520056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24640" y="520056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4640" y="2152800"/>
              <a:ext cx="25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4640" y="6114960"/>
              <a:ext cx="25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10640" y="4591080"/>
              <a:ext cx="609480" cy="609480"/>
            </a:xfrm>
            <a:prstGeom prst="borderCallout3">
              <a:avLst/>
            </a:prstGeom>
            <a:solidFill>
              <a:srgbClr val="0192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640" y="3067200"/>
              <a:ext cx="609480" cy="609480"/>
            </a:xfrm>
            <a:prstGeom prst="borderCallout3">
              <a:avLst/>
            </a:prstGeom>
            <a:solidFill>
              <a:srgbClr val="0192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5200" y="367668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5200" y="41338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15200" y="21528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15200" y="520056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34320" y="367668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48120" y="4210200"/>
              <a:ext cx="9144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Pin/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53040" y="3828960"/>
              <a:ext cx="380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9040" y="1828800"/>
              <a:ext cx="2286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840" y="3828960"/>
              <a:ext cx="2286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48720" y="3828960"/>
              <a:ext cx="304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9040" y="5810400"/>
              <a:ext cx="2286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F9F2-DE8D-4E85-8D8A-712E02BE60A3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Simple Receiver in VHDL-AM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5334120" cy="51037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ibrary IEEE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use IEEE.math_real.all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use IEEE.std_logic_1164.all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ibrary IEEE_proposed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use IEEE_proposed.electrical_systems.all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use IEEE_proposed.energy_systems.all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ntity Rcvr 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generic(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empC : real := 25.0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ap : capacitance :=2.0e-12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inh :voltage :=2.0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inl : voltage :=0.8)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ort (terminal v_pad, v_pwr, v_gnd : electrical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gnal core : out std_logic)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nd entity Rcvr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3124080"/>
            <a:ext cx="2743200" cy="12193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137160" anchor="t">
            <a:normAutofit/>
          </a:bodyPr>
          <a:p>
            <a:pPr marL="16524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KCL and KVL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t analog n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E930-B316-4E82-A16A-9B2AFFFBFDFD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Simple Receiver in VHDL-AM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rchitecture linear of Rcvr 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nstant vt : real := K*(TempC + 273.0)/Q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nstant isat : current := 1.0e-15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nstant delay1 :time :=3.5 ps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quantity v_cap across i_cap through v_pad to v_gnd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quantity v_gc across i_gc through v_gnd to v_pad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quantity v_pc across i_pc through v_pad to v_pwr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C73B-7489-4EE1-85EB-3E5ED89E9AE6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Simple Receiver in VHDL-AM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 fontScale="91000"/>
          </a:bodyPr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rocess (v_cap'above(Vinh), V_cap'above(Vinl)) 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f  v_cap'above(Vinh) the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re &lt;= '1' after delay1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lsif not v_cap'above(Vinl) then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re &lt;= '0' after delay1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ls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re &lt;= 'X' after delay1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nd if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nd process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_cap==cap*v_cap'dot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_gc == isat*(exp(v_gc/vt) - 1.0)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_pc == isat*(exp(v_pc/vt) - 1.0)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0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nd architecture linear;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24A1-C2B4-4DDB-AC5F-4F00C8DCEF3C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alling the External Model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+----------+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D_enable---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|---A_pure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     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|\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|---A_pcre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D_drive----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| &gt;----+--|--A_sign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     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|/   /|   |  |---A_gcre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D_receive--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&lt; |--+ |---A_pdre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     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  \|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|---A_gn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     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  |---A_extre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          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+---------+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A9FF-C3CD-4E79-817E-415FE8B82BE8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alling the SPICE Model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 fontScale="94000"/>
          </a:bodyPr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Model] ExBufferSPI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odel_type Inpu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inh = 2.0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inl = 0.8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Voltage Range]   3.3     3.0    3.6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[External Mode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anguage SPIC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rner    Typ         rcvr_typ.spi  Rcv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rner    Min         rcvr_min.spi  Rcv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55160" indent="0">
              <a:lnSpc>
                <a:spcPct val="8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rner    Max        rcvr_max.spi  Rcv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2AC8-33A2-410F-BB30-EAE403F46FDE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23:02Z</dcterms:created>
  <dc:creator>administrator</dc:creator>
  <dc:description/>
  <dc:language>en-US</dc:language>
  <cp:lastModifiedBy>Bob Ross</cp:lastModifiedBy>
  <cp:lastPrinted>2001-02-02T22:51:20Z</cp:lastPrinted>
  <dcterms:modified xsi:type="dcterms:W3CDTF">2003-01-21T21:28:27Z</dcterms:modified>
  <cp:revision>9</cp:revision>
  <dc:subject/>
  <dc:title>CORPORATE TEMPLATE</dc:title>
</cp:coreProperties>
</file>