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8847-F180-4D52-8E9B-C85226526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756C-53AF-4203-89C6-C76B07318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59D5-E6EF-4BC1-951E-648C9C5ED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E5EE-37EF-43ED-BE5E-9571B110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4D8A-5381-4F76-9BC7-11CF70CAC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E971-3ABB-4398-9C11-5592A3FAC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062-4D3A-4186-9271-9A338EEFB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D872-4F85-49DE-ACEB-044E24782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E3CF-CB55-457F-840A-67167AD1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515E-F4B6-47E8-9F06-B82EA8D7E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E3F3-80BD-4BEA-82CE-312B554D2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35AD-0882-425E-9E85-E8B50F91C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1/20/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7EE35B-076A-4A6B-9D3C-904F50BF8D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209680" y="1371600"/>
          <a:ext cx="571500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571500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19320" y="10663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BIS Interconnect Specification (ICM)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and Proposed Cha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elly Green, Independent Contra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Mirmak, Intel Corpo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Summit at Design Con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7,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167F-453A-44A0-A9FF-A6E8F595AE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 of Proposed Chang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 Proposed Changes in 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Editorial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mpact to functionality of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mmatical and spelling corre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rrection of keyword misuse in examp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consistent spelling: "Un-ordered“ vs. Un_ordered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Clar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stricter interpretation of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force consistent use of white space &amp; tab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force consistent use of “=“ with subparamet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w use of non-one denominator in SG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hanges to be considered only after Draft 1.0 approved by Open For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F7D3-9929-4D0B-978D-8517DA3FA3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arser Overview &amp; Statu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I C prototype in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issues with 1.0 specification EA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widely available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xical processor (FLEX) –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mmar (YACC/BISON) –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 analysis – NOT STA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ready operational at level of gramm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pending approval of proposed changes, but expect golden code by M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encumbered Open Source deli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istic Test Models 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C952-F5D6-4960-AE81-CFDF9BF78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hort-Term Fu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s to be presented to IBIS Futures Sub-committ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hange is numbered and can be considered and voted upon independ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likely in early February (shortly before IBIS Open Forum telecon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IS Open Foru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ocument, with changes, is pres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Forum votes to approve or disappr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s: Feb. 14, March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52EF-7F09-4B3A-A538-FE75CBCE5F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technical issues may be considered after Draft 1.0 is appr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ultiple types of data within a single [Begin ICM Model]/[End ICM Model] p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Include S-paramet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x dat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frequency-dependence in matrix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Matrix parameters for 1 MHz, 100 MHz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mixed-mode S-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SDC12 vs. S12 – coupled pair insertion loss is described in terms of common-mode excitation and differential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: on-die interconnec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CEF2-32E2-41E4-8502-0519EBE4F9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 &amp;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e Discu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876A-AB65-4542-B956-4061C406C4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1A70-3939-49DA-A08E-A9CD6AC7C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143000"/>
            <a:ext cx="7543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BIS ICM Model Ver] 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Name]           iconm_hdi_202.i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File Rev]            1.0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ate]                January 20, 2003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ource]              Results from fiel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Notes]               This is a test model on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isclaimer]          This information is for modeli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purposes only, and is not guarante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opyright]           Copyright 2003, XYZ Corp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Support]             http://www.VendorNameIbisModel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]      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edistribution Text] This file is freely redistribu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Head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C2A0-B529-4948-817A-4B1353BE71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2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143000"/>
            <a:ext cx="754380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Family]    High_Speed_Inter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Manufacturer]        XYZ Incorpo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Family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square pin connector for use on IEEE 99999 bu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Li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Name                 Mating      Min_Slew_Tim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                 Mated          100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UnMatedA        Unmated_side_A 100ps  HDI_202_UnMatedA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SMT_to_Cable    Mated           25ps  HDI_TEST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DI_202_SMT_to_ThruHole Mated           25ps  HDI_202_Mated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5573-E68D-4045-BA69-104A7FE61E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3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 Description]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igh Density 0.1 center square pin with PCB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==============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Model] MyModelExample3        | Has a stub fork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CM_Model_Type M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Tree Path Descripti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MyModelPinMa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tubSection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_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tion Mult=1 Section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el_PinMap MyModelPinMap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Mode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9947-139B-406E-84C8-0EB8A1FE5D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4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143000"/>
            <a:ext cx="7543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CM Pin Map] Baseboard_s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n_order = row_ord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columns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um_of_row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Pin 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1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2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3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4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1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2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3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4  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Family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F966-C04B-452D-A090-E3B65544CE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r Changes in Draft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ser Overview &amp;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Futures Sub-committee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Forum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Upd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technical improve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: Example Model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BCEC-F4EC-478B-8370-3F3DA1A35B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5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143000"/>
            <a:ext cx="754380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Derivation Method] Lum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Begin ICM Section] ExampleMatrix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Inductance Matrix] Full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6.12191e-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     1.33807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04859e-07      4.73185e-08      1.3428e-08     7.35469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.74022e-07      7.35469e-08     2.73201e-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CB01-0ECE-430F-B6C8-81A951142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Example (6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143000"/>
            <a:ext cx="75438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The capacitance matrix has sparse coupl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Capacitance Matrix] Sparse_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      2.48227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-1.56651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9.54158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-7.15684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Row] 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       2.51798e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       -1.56552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5       -6.85199e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6        -9.0486e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|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 ICM Section] ExampleMatrix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E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8701-042E-4E82-B259-D9A3820AA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ICM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= IBIS Interconnect Specif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: to establish a human-readable standard format for exchanging interconnect modeling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connect” can be connector, cable, PCB traces or even an IC packa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s designed to b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&amp; easily parsed b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le with current means of representing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-parameter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L, G &amp; C matric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ths,” trees, node list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-like (keyword-driv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18FC-B57F-4274-AC71-1765F0BF1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Hist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0663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concept developed from 1995 - 1997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llee Crisafulli, Hyperl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o (Gus) Panella, Mo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through IBIS Connector Sub-commit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 0.31 issued in Jan.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d in Jan. 1999 IBIS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from connectors to interconnects beg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 0.92 issued in Nov.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ions 0.93 - 0.99901 issued 2000 -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“Argument,” Even &amp; Odd Mode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Swath trea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orial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 1.0 released Sept. 19,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9C3C-CE41-41BB-92EB-FEE6094612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Begin Header] &amp; [End Header]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. 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name &amp; Re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, Notes, Disclaimer &amp; Copy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Fami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model “family” or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of models in the “famil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321A-D456-4114-9344-56CA1EBC47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Model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 (SLM, S-parameter, MLM_*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-to-ground ratio &amp; (optionally) reference 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s groups of signals through cascaded “sections” of mod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d to describe one-to-one connections between sections and ports or endpoints of the interconn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s “forks” with same number of condu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s sections of model data through input &amp; output nodes per s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s need not be one-to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ws internal “dangling nodes”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 that Nodal and Tree Path Descriptio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mutually exclu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29A5-790A-4537-A298-DE99D7FBC1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ICM Constr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Pin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s connector pins to Tree Path Descri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Node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s connector pins to Nodal Path Descri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block for model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is in RLGC matrix or s-parameter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rices include self-inductance, capacitance, conductance, loss, etc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3" marL="17524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ilar format to IBIS package model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ection is referenced by at least one Tree or Nodal Path Descri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E12D-1A8D-4365-8AF8-1F9ECBE62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CM Structure (continued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 Sw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minimal, economical description to be used for larger connectors or interconn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electrical parameter matrices can be repeatedly mapped over a larger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s the [ICM Swath Description] and [ICM Swath Pin Numbers]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mple ICM model is included in Back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ta is taken from ICM specification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B799-19C5-48E3-9375-023C2CFDD8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for Changes in Draft 1.0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1.0 text needs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readability &amp;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mall errors have survived revis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riting style of several sections may produce confusion in re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ase software par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ructures are defined in an ambiguous way and create a risk of conflicting “interpretations” by individual vendor software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tructures are not compliant with the Lex/YACC format used as the standard for creating compilers and par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25B3-9E37-4506-8733-23826EF25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 &amp; Quoc B. Le</dc:creator>
  <dc:description/>
  <dc:language>en-US</dc:language>
  <cp:lastModifiedBy>Bob Ross</cp:lastModifiedBy>
  <cp:lastPrinted>1998-11-04T21:31:56Z</cp:lastPrinted>
  <dcterms:modified xsi:type="dcterms:W3CDTF">2003-02-03T18:29:30Z</dcterms:modified>
  <cp:revision>472</cp:revision>
  <dc:subject>Trace Routing Analysis</dc:subject>
  <dc:title>Serial ATA Initial Layout Simulation Results</dc:title>
</cp:coreProperties>
</file>