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9480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3"/>
          </p:nvPr>
        </p:nvSpPr>
        <p:spPr>
          <a:xfrm>
            <a:off x="393660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64960" y="691920"/>
            <a:ext cx="4616280" cy="3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25200" y="4386240"/>
            <a:ext cx="509580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4"/>
          </p:nvPr>
        </p:nvSpPr>
        <p:spPr>
          <a:xfrm>
            <a:off x="-360" y="877068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5"/>
          </p:nvPr>
        </p:nvSpPr>
        <p:spPr>
          <a:xfrm>
            <a:off x="3936600" y="877068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C0920B47-5286-48A3-BEB3-1477CDE8B3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25200" y="4386240"/>
            <a:ext cx="509580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S: I can’t see what I am typing when I enter the presenter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 &amp; tit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0000"/>
                </a:solidFill>
                <a:latin typeface="Arial"/>
              </a:rPr>
              <a:t>This is an issue with PowerPoint. Here is the current work around, not the most elegant solution but it work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ff0000"/>
                </a:solidFill>
                <a:latin typeface="Arial"/>
              </a:rPr>
              <a:t>- Select the area/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ff0000"/>
                </a:solidFill>
                <a:latin typeface="Arial"/>
              </a:rPr>
              <a:t>- Type a wor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0000"/>
                </a:solidFill>
                <a:latin typeface="Arial"/>
              </a:rPr>
              <a:t>- Highlight the word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0000"/>
                </a:solidFill>
                <a:latin typeface="Arial"/>
              </a:rPr>
              <a:t>- Change font color to back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0000"/>
                </a:solidFill>
                <a:latin typeface="Arial"/>
              </a:rPr>
              <a:t>- Finish typ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0000"/>
                </a:solidFill>
                <a:latin typeface="Arial"/>
              </a:rPr>
              <a:t>- Select al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0000"/>
                </a:solidFill>
                <a:latin typeface="Arial"/>
              </a:rPr>
              <a:t>- Change font color to whit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484EE1-0BEB-4317-8D5C-278CCABAF4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4448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93A0E2-924D-4A19-AE00-4C9562D1B6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444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444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056C46-1201-40B6-AB62-5B2CE5E89E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4448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4448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4448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70B756-D4FF-4542-9069-9B0C30008F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7631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3444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6A2EA-DF97-4B62-A25A-86ACCBE599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3444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34448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34448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3444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3444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34448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34448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34448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A529C6-BE90-41E2-BDF9-B67AF9439B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4B1C87-D384-416F-B8EA-29577AF226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E319D0-9886-499A-A3C8-0A74B39F2B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7631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BEF207-91CF-4700-9FFF-8CAD52DBF1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444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3FECA0-6FCF-4641-BF83-6F5DB76FFA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4448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5A40F0-6B4A-4D12-9C3F-A59877ECDE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4448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70632B-73B6-45A8-A0C5-15A16C2BE0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Bar-white" descr=""/>
          <p:cNvPicPr/>
          <p:nvPr/>
        </p:nvPicPr>
        <p:blipFill>
          <a:blip r:embed="rId2"/>
          <a:stretch/>
        </p:blipFill>
        <p:spPr>
          <a:xfrm>
            <a:off x="0" y="6091200"/>
            <a:ext cx="9145440" cy="766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49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49"/>
              </a:spcBef>
              <a:buClr>
                <a:srgbClr val="0000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49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828800" y="6553080"/>
            <a:ext cx="510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580AC-D40A-47F6-9B39-6E99E635255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791320" y="6553080"/>
            <a:ext cx="3047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Copyright ©1999-2002, Mentor Graphic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Title%20Page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SzPct val="65000"/>
              <a:buFont typeface="Times New Roman"/>
              <a:buChar char="—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ffffff"/>
                </a:solidFill>
                <a:latin typeface="Arial Black"/>
              </a:rPr>
              <a:t>Multi-lingual Model Support within IBIS</a:t>
            </a:r>
            <a:br>
              <a:rPr sz="4700"/>
            </a:br>
            <a:br>
              <a:rPr sz="3600"/>
            </a:br>
            <a:r>
              <a:rPr b="0" i="1" lang="en-US" sz="2600" spc="-1" strike="noStrike">
                <a:solidFill>
                  <a:srgbClr val="ffffff"/>
                </a:solidFill>
                <a:latin typeface="Arial Black"/>
              </a:rPr>
              <a:t>Bob Ross, Vice Chair.</a:t>
            </a:r>
            <a:br>
              <a:rPr sz="2600"/>
            </a:br>
            <a:r>
              <a:rPr b="0" i="1" lang="en-US" sz="2600" spc="-1" strike="noStrike">
                <a:solidFill>
                  <a:srgbClr val="ffffff"/>
                </a:solidFill>
                <a:latin typeface="Arial Black"/>
              </a:rPr>
              <a:t>January 28, 2002</a:t>
            </a:r>
            <a:br>
              <a:rPr sz="2600"/>
            </a:br>
            <a:br>
              <a:rPr sz="2600"/>
            </a:br>
            <a:r>
              <a:rPr b="0" i="1" lang="en-US" sz="2600" spc="-1" strike="noStrike">
                <a:solidFill>
                  <a:srgbClr val="ffffff"/>
                </a:solidFill>
                <a:latin typeface="Arial Black"/>
              </a:rPr>
              <a:t>IBIS Summit, Santa Clara, CA</a:t>
            </a:r>
            <a:br>
              <a:rPr sz="2600"/>
            </a:br>
            <a:endParaRPr b="0" lang="en-US" sz="2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28600" y="175212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Arial"/>
              </a:rPr>
              <a:t>Existing IBIS or [External Model]s</a:t>
            </a: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7760" y="1295280"/>
            <a:ext cx="5715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External Model] under [Model] &lt;model_name&gt;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External Model]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nguage &lt;selection&gt;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rner &lt;typ,min,max files and model names&gt;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rts &lt;analog and digital port list&gt;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_to_A &lt;digital signals to Spice ramps&gt;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_to_D &lt;Spice thresholds to digital signals&gt;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l or external reference supplie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rect connection or interconnection syntax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685800" y="1143000"/>
          <a:ext cx="6781680" cy="411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143000"/>
                    <a:ext cx="67816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ulti-lingual Model Support within IBIS, Bob Ros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713415-1A95-4FD8-822E-C1C0C5282C62}" type="slidenum">
              <a:t>10</a:t>
            </a:fld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Arial"/>
              </a:rPr>
              <a:t>Controlled Model &amp; [External Circuit]</a:t>
            </a: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419720" y="12952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451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External Circuit] &lt;circuit_name&gt;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51"/>
              </a:spcBef>
              <a:buClr>
                <a:srgbClr val="0000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nguage &lt;selection&gt;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51"/>
              </a:spcBef>
              <a:buClr>
                <a:srgbClr val="0000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rner &lt;typ, min, max files, names&gt;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51"/>
              </a:spcBef>
              <a:buClr>
                <a:srgbClr val="0000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rts &lt;port list&gt;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51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External Model] and [External Circuit] connected using internal and die nodes: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51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Node Declarations]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51"/>
              </a:spcBef>
              <a:buClr>
                <a:srgbClr val="0000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internal node list&gt;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51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Circuit Call] &lt;model or circuit name&gt;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51"/>
              </a:spcBef>
              <a:buClr>
                <a:srgbClr val="0000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rt_map &lt;port to node mapping&gt;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609480" y="1295280"/>
          <a:ext cx="6858000" cy="4191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295280"/>
                    <a:ext cx="685800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ulti-lingual Model Support within IBIS, Bob Ros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84CBB5-665A-4FDA-9DBD-C98F541F6476}" type="slidenum">
              <a:t>11</a:t>
            </a:fld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Arial"/>
              </a:rPr>
              <a:t>Advantages</a:t>
            </a: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49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Fits in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e IBIS completely or at least for pins, package, specification and information content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649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tructural models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rkeley Spice support, BSIM4, etc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mple RLC, diodes, interconnects, etc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649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Behavioral models for extended features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649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P protected models?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HDL-AMS, etc. for behavioral modelin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mon standardized encryption possible for all text-based fil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ulti-lingual Model Support within IBIS, Bob Ros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7D50B2-3B72-436D-961D-FFFCD969B629}" type="slidenum">
              <a:t>12</a:t>
            </a:fld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Arial"/>
              </a:rPr>
              <a:t>Issues</a:t>
            </a: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Multi-lingual complication?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ready being don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49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upport too many languages?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BIS Committee should limit set to open, public, accepted formats (Berkeley Spice, VHDL-AMS, etc.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49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Model support to enable industry?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eap/free tools: Berkeley Spice, “student” Spic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www.vhdl-ams.com/ : SEAMS, spice2ams, JAVA VHDL-AMS frontend, Analyzer, samples, etc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ulti-lingual Model Support within IBIS, Bob Ros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A55590-A942-4F3F-BB2C-54F0C2B96208}" type="slidenum">
              <a:t>13</a:t>
            </a:fld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Arial"/>
              </a:rPr>
              <a:t>What’s Next?</a:t>
            </a: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51051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ulti-lingual extensions - major additions above and more!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IRD7X to describe detail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2057400" y="1143000"/>
          <a:ext cx="4970520" cy="3733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1143000"/>
                    <a:ext cx="4970520" cy="37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"/>
          <p:cNvSpPr/>
          <p:nvPr/>
        </p:nvSpPr>
        <p:spPr>
          <a:xfrm>
            <a:off x="6400800" y="1447920"/>
            <a:ext cx="685800" cy="3352680"/>
          </a:xfrm>
          <a:prstGeom prst="ellipse">
            <a:avLst/>
          </a:prstGeom>
          <a:noFill/>
          <a:ln w="76320">
            <a:solidFill>
              <a:srgbClr val="a2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562720" y="2590920"/>
            <a:ext cx="380880" cy="1143000"/>
          </a:xfrm>
          <a:prstGeom prst="ellipse">
            <a:avLst/>
          </a:prstGeom>
          <a:noFill/>
          <a:ln w="76320">
            <a:solidFill>
              <a:srgbClr val="a2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362320" y="1371600"/>
            <a:ext cx="914400" cy="914400"/>
          </a:xfrm>
          <a:prstGeom prst="ellipse">
            <a:avLst/>
          </a:prstGeom>
          <a:noFill/>
          <a:ln w="76320">
            <a:solidFill>
              <a:srgbClr val="a2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438280" y="2362320"/>
            <a:ext cx="914400" cy="914400"/>
          </a:xfrm>
          <a:prstGeom prst="ellipse">
            <a:avLst/>
          </a:prstGeom>
          <a:noFill/>
          <a:ln w="76320">
            <a:solidFill>
              <a:srgbClr val="a2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438280" y="3352680"/>
            <a:ext cx="914400" cy="914400"/>
          </a:xfrm>
          <a:prstGeom prst="ellipse">
            <a:avLst/>
          </a:prstGeom>
          <a:noFill/>
          <a:ln w="76320">
            <a:solidFill>
              <a:srgbClr val="a2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429000" y="1219320"/>
            <a:ext cx="2590920" cy="3352680"/>
          </a:xfrm>
          <a:prstGeom prst="rect">
            <a:avLst/>
          </a:prstGeom>
          <a:noFill/>
          <a:ln w="7632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ulti-lingual Model Support within IBIS, Bob Ros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F0F87D-0925-43E6-86DD-E083C6291687}" type="slidenum">
              <a:t>14</a:t>
            </a:fld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Arial"/>
              </a:rPr>
              <a:t>Benefits of Multi-lingual Support</a:t>
            </a: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49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Model advances beyond IBIS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ue differential buffers, current buffer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SI driver/terminator advanc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detailed over-clocked buffer detai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SO effects and gate modula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de based modelin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649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Die interconnect advances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e interconnect and complex package modelin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ternal voltage rail, power integrity interactio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ternal buffer strength contro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649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Closer digital and analog analysis (AMS)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ulti-lingual Model Support within IBIS, Bob Ros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4BF43B-BBBD-4EF9-8211-89CC46486500}" type="slidenum">
              <a:t>2</a:t>
            </a:fld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Arial"/>
              </a:rPr>
              <a:t>Complex Application within IBIS</a:t>
            </a: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1828800" y="1066680"/>
          <a:ext cx="5475240" cy="4784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066680"/>
                    <a:ext cx="5475240" cy="478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"/>
          <p:cNvSpPr/>
          <p:nvPr/>
        </p:nvSpPr>
        <p:spPr>
          <a:xfrm>
            <a:off x="6095880" y="1066680"/>
            <a:ext cx="838440" cy="4876920"/>
          </a:xfrm>
          <a:prstGeom prst="rect">
            <a:avLst/>
          </a:prstGeom>
          <a:noFill/>
          <a:ln w="936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276720" y="1066680"/>
            <a:ext cx="2819160" cy="4343400"/>
          </a:xfrm>
          <a:prstGeom prst="rect">
            <a:avLst/>
          </a:prstGeom>
          <a:noFill/>
          <a:ln w="936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371600" y="838080"/>
            <a:ext cx="65530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600200" y="1066680"/>
            <a:ext cx="1676520" cy="4038840"/>
          </a:xfrm>
          <a:prstGeom prst="rect">
            <a:avLst/>
          </a:prstGeom>
          <a:noFill/>
          <a:ln w="936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3520" y="838080"/>
            <a:ext cx="5562360" cy="510552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33520" y="838080"/>
            <a:ext cx="6553080" cy="510552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057400" y="1371600"/>
            <a:ext cx="1143000" cy="1143000"/>
          </a:xfrm>
          <a:prstGeom prst="ellipse">
            <a:avLst/>
          </a:prstGeom>
          <a:noFill/>
          <a:ln w="9360">
            <a:solidFill>
              <a:srgbClr val="b319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057400" y="2666880"/>
            <a:ext cx="1143000" cy="1143000"/>
          </a:xfrm>
          <a:prstGeom prst="ellipse">
            <a:avLst/>
          </a:prstGeom>
          <a:noFill/>
          <a:ln w="9360">
            <a:solidFill>
              <a:srgbClr val="b319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057400" y="3886200"/>
            <a:ext cx="1143000" cy="1143000"/>
          </a:xfrm>
          <a:prstGeom prst="ellipse">
            <a:avLst/>
          </a:prstGeom>
          <a:noFill/>
          <a:ln w="9360">
            <a:solidFill>
              <a:srgbClr val="b319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477120" y="1295280"/>
            <a:ext cx="1143000" cy="4419720"/>
          </a:xfrm>
          <a:prstGeom prst="ellipse">
            <a:avLst/>
          </a:prstGeom>
          <a:noFill/>
          <a:ln w="9360">
            <a:solidFill>
              <a:srgbClr val="b319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2895480"/>
            <a:ext cx="457200" cy="1524240"/>
          </a:xfrm>
          <a:prstGeom prst="ellipse">
            <a:avLst/>
          </a:prstGeom>
          <a:noFill/>
          <a:ln w="9360">
            <a:solidFill>
              <a:srgbClr val="b319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ulti-lingual Model Support within IBIS, Bob Ros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603C0E-2676-4011-83EA-C8BCE77F7425}" type="slidenum">
              <a:t>3</a:t>
            </a:fld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Arial"/>
              </a:rPr>
              <a:t>Die (left) &amp; Component (total)</a:t>
            </a: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828800" y="1066680"/>
          <a:ext cx="5475240" cy="4784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066680"/>
                    <a:ext cx="5475240" cy="478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"/>
          <p:cNvSpPr/>
          <p:nvPr/>
        </p:nvSpPr>
        <p:spPr>
          <a:xfrm>
            <a:off x="6095880" y="1066680"/>
            <a:ext cx="838440" cy="4876920"/>
          </a:xfrm>
          <a:prstGeom prst="rect">
            <a:avLst/>
          </a:prstGeom>
          <a:noFill/>
          <a:ln w="936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1066680"/>
            <a:ext cx="2819160" cy="4343400"/>
          </a:xfrm>
          <a:prstGeom prst="rect">
            <a:avLst/>
          </a:prstGeom>
          <a:noFill/>
          <a:ln w="936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371600" y="838080"/>
            <a:ext cx="65530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1066680"/>
            <a:ext cx="1676520" cy="4038840"/>
          </a:xfrm>
          <a:prstGeom prst="rect">
            <a:avLst/>
          </a:prstGeom>
          <a:noFill/>
          <a:ln w="936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33520" y="838080"/>
            <a:ext cx="5562360" cy="5105520"/>
          </a:xfrm>
          <a:prstGeom prst="rect">
            <a:avLst/>
          </a:prstGeom>
          <a:noFill/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838080"/>
            <a:ext cx="6553080" cy="5105520"/>
          </a:xfrm>
          <a:prstGeom prst="rect">
            <a:avLst/>
          </a:prstGeom>
          <a:noFill/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057400" y="1371600"/>
            <a:ext cx="1143000" cy="1143000"/>
          </a:xfrm>
          <a:prstGeom prst="ellipse">
            <a:avLst/>
          </a:prstGeom>
          <a:noFill/>
          <a:ln w="9360">
            <a:solidFill>
              <a:srgbClr val="b319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057400" y="2666880"/>
            <a:ext cx="1143000" cy="1143000"/>
          </a:xfrm>
          <a:prstGeom prst="ellipse">
            <a:avLst/>
          </a:prstGeom>
          <a:noFill/>
          <a:ln w="9360">
            <a:solidFill>
              <a:srgbClr val="b319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057400" y="3886200"/>
            <a:ext cx="1143000" cy="1143000"/>
          </a:xfrm>
          <a:prstGeom prst="ellipse">
            <a:avLst/>
          </a:prstGeom>
          <a:noFill/>
          <a:ln w="9360">
            <a:solidFill>
              <a:srgbClr val="b319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77120" y="1295280"/>
            <a:ext cx="1143000" cy="4419720"/>
          </a:xfrm>
          <a:prstGeom prst="ellipse">
            <a:avLst/>
          </a:prstGeom>
          <a:noFill/>
          <a:ln w="9360">
            <a:solidFill>
              <a:srgbClr val="b319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715000" y="2895480"/>
            <a:ext cx="457200" cy="1524240"/>
          </a:xfrm>
          <a:prstGeom prst="ellipse">
            <a:avLst/>
          </a:prstGeom>
          <a:noFill/>
          <a:ln w="9360">
            <a:solidFill>
              <a:srgbClr val="b319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ulti-lingual Model Support within IBIS, Bob Ros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51374C-C556-40B5-8031-CC684A1A310D}" type="slidenum">
              <a:t>4</a:t>
            </a:fld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Arial"/>
              </a:rPr>
              <a:t>Models, Die Circuit, Package Model</a:t>
            </a: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1828800" y="1066680"/>
          <a:ext cx="5475240" cy="4784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066680"/>
                    <a:ext cx="5475240" cy="478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6095880" y="1066680"/>
            <a:ext cx="838440" cy="4876920"/>
          </a:xfrm>
          <a:prstGeom prst="rect">
            <a:avLst/>
          </a:prstGeom>
          <a:noFill/>
          <a:ln w="7632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276720" y="1066680"/>
            <a:ext cx="2819160" cy="4343400"/>
          </a:xfrm>
          <a:prstGeom prst="rect">
            <a:avLst/>
          </a:prstGeom>
          <a:noFill/>
          <a:ln w="7632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838080"/>
            <a:ext cx="65530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600200" y="1066680"/>
            <a:ext cx="1676520" cy="4038840"/>
          </a:xfrm>
          <a:prstGeom prst="rect">
            <a:avLst/>
          </a:prstGeom>
          <a:noFill/>
          <a:ln w="7632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33520" y="838080"/>
            <a:ext cx="5562360" cy="510552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33520" y="838080"/>
            <a:ext cx="6553080" cy="510552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057400" y="1371600"/>
            <a:ext cx="1143000" cy="1143000"/>
          </a:xfrm>
          <a:prstGeom prst="ellipse">
            <a:avLst/>
          </a:prstGeom>
          <a:noFill/>
          <a:ln w="9360">
            <a:solidFill>
              <a:srgbClr val="b319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057400" y="2666880"/>
            <a:ext cx="1143000" cy="1143000"/>
          </a:xfrm>
          <a:prstGeom prst="ellipse">
            <a:avLst/>
          </a:prstGeom>
          <a:noFill/>
          <a:ln w="9360">
            <a:solidFill>
              <a:srgbClr val="b319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057400" y="3886200"/>
            <a:ext cx="1143000" cy="1143000"/>
          </a:xfrm>
          <a:prstGeom prst="ellipse">
            <a:avLst/>
          </a:prstGeom>
          <a:noFill/>
          <a:ln w="9360">
            <a:solidFill>
              <a:srgbClr val="b319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477120" y="1295280"/>
            <a:ext cx="1143000" cy="4419720"/>
          </a:xfrm>
          <a:prstGeom prst="ellipse">
            <a:avLst/>
          </a:prstGeom>
          <a:noFill/>
          <a:ln w="9360">
            <a:solidFill>
              <a:srgbClr val="b319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715000" y="2895480"/>
            <a:ext cx="457200" cy="1524240"/>
          </a:xfrm>
          <a:prstGeom prst="ellipse">
            <a:avLst/>
          </a:prstGeom>
          <a:noFill/>
          <a:ln w="9360">
            <a:solidFill>
              <a:srgbClr val="b319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ulti-lingual Model Support within IBIS, Bob Ros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846475-5563-4850-9CE7-C38DA9A73D2A}" type="slidenum">
              <a:t>5</a:t>
            </a:fld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Arial"/>
              </a:rPr>
              <a:t>Diff., Single-ended, Controlled Buffers</a:t>
            </a: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1828800" y="1066680"/>
          <a:ext cx="5475240" cy="4784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066680"/>
                    <a:ext cx="5475240" cy="478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"/>
          <p:cNvSpPr/>
          <p:nvPr/>
        </p:nvSpPr>
        <p:spPr>
          <a:xfrm>
            <a:off x="6095880" y="1066680"/>
            <a:ext cx="838440" cy="4876920"/>
          </a:xfrm>
          <a:prstGeom prst="rect">
            <a:avLst/>
          </a:prstGeom>
          <a:noFill/>
          <a:ln w="936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276720" y="1066680"/>
            <a:ext cx="2819160" cy="4343400"/>
          </a:xfrm>
          <a:prstGeom prst="rect">
            <a:avLst/>
          </a:prstGeom>
          <a:noFill/>
          <a:ln w="936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371600" y="838080"/>
            <a:ext cx="65530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0200" y="1066680"/>
            <a:ext cx="1676520" cy="4038840"/>
          </a:xfrm>
          <a:prstGeom prst="rect">
            <a:avLst/>
          </a:prstGeom>
          <a:noFill/>
          <a:ln w="936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33520" y="838080"/>
            <a:ext cx="5562360" cy="510552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33520" y="838080"/>
            <a:ext cx="6553080" cy="510552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057400" y="1371600"/>
            <a:ext cx="1143000" cy="1143000"/>
          </a:xfrm>
          <a:prstGeom prst="ellipse">
            <a:avLst/>
          </a:prstGeom>
          <a:noFill/>
          <a:ln w="76320">
            <a:solidFill>
              <a:srgbClr val="b319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57400" y="2666880"/>
            <a:ext cx="1143000" cy="1143000"/>
          </a:xfrm>
          <a:prstGeom prst="ellipse">
            <a:avLst/>
          </a:prstGeom>
          <a:noFill/>
          <a:ln w="76320">
            <a:solidFill>
              <a:srgbClr val="b319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057400" y="3886200"/>
            <a:ext cx="1143000" cy="1143000"/>
          </a:xfrm>
          <a:prstGeom prst="ellipse">
            <a:avLst/>
          </a:prstGeom>
          <a:noFill/>
          <a:ln w="76320">
            <a:solidFill>
              <a:srgbClr val="b319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477120" y="1295280"/>
            <a:ext cx="1143000" cy="4419720"/>
          </a:xfrm>
          <a:prstGeom prst="ellipse">
            <a:avLst/>
          </a:prstGeom>
          <a:noFill/>
          <a:ln w="9360">
            <a:solidFill>
              <a:srgbClr val="b319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715000" y="2895480"/>
            <a:ext cx="457200" cy="1524240"/>
          </a:xfrm>
          <a:prstGeom prst="ellipse">
            <a:avLst/>
          </a:prstGeom>
          <a:noFill/>
          <a:ln w="9360">
            <a:solidFill>
              <a:srgbClr val="b319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ulti-lingual Model Support within IBIS, Bob Ros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422037-C43C-4217-9F50-C5CE6406BB8F}" type="slidenum">
              <a:t>6</a:t>
            </a:fld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Arial"/>
              </a:rPr>
              <a:t>Coupled Pins &amp; Rails, Split Package</a:t>
            </a: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1828800" y="1066680"/>
          <a:ext cx="5475240" cy="4784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066680"/>
                    <a:ext cx="5475240" cy="4784760"/>
                  </a:xfrm>
                  <a:prstGeom prst="rect">
                    <a:avLst/>
                  </a:prstGeom>
                  <a:ln w="9360">
                    <a:solidFill>
                      <a:srgbClr val="ffff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51" name=""/>
          <p:cNvSpPr/>
          <p:nvPr/>
        </p:nvSpPr>
        <p:spPr>
          <a:xfrm>
            <a:off x="6095880" y="1066680"/>
            <a:ext cx="838440" cy="4876920"/>
          </a:xfrm>
          <a:prstGeom prst="rect">
            <a:avLst/>
          </a:prstGeom>
          <a:noFill/>
          <a:ln w="936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1066680"/>
            <a:ext cx="2819160" cy="4343400"/>
          </a:xfrm>
          <a:prstGeom prst="rect">
            <a:avLst/>
          </a:prstGeom>
          <a:noFill/>
          <a:ln w="936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371600" y="838080"/>
            <a:ext cx="65530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600200" y="1066680"/>
            <a:ext cx="1676520" cy="4038840"/>
          </a:xfrm>
          <a:prstGeom prst="rect">
            <a:avLst/>
          </a:prstGeom>
          <a:noFill/>
          <a:ln w="936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33520" y="838080"/>
            <a:ext cx="5562360" cy="510552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838080"/>
            <a:ext cx="6553080" cy="510552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057400" y="1371600"/>
            <a:ext cx="1143000" cy="1143000"/>
          </a:xfrm>
          <a:prstGeom prst="ellipse">
            <a:avLst/>
          </a:prstGeom>
          <a:noFill/>
          <a:ln w="9360">
            <a:solidFill>
              <a:srgbClr val="b319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57400" y="2666880"/>
            <a:ext cx="1143000" cy="1143000"/>
          </a:xfrm>
          <a:prstGeom prst="ellipse">
            <a:avLst/>
          </a:prstGeom>
          <a:noFill/>
          <a:ln w="9360">
            <a:solidFill>
              <a:srgbClr val="b319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057400" y="3886200"/>
            <a:ext cx="1143000" cy="1143000"/>
          </a:xfrm>
          <a:prstGeom prst="ellipse">
            <a:avLst/>
          </a:prstGeom>
          <a:noFill/>
          <a:ln w="9360">
            <a:solidFill>
              <a:srgbClr val="b319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477120" y="1295280"/>
            <a:ext cx="1143000" cy="4419720"/>
          </a:xfrm>
          <a:prstGeom prst="ellipse">
            <a:avLst/>
          </a:prstGeom>
          <a:noFill/>
          <a:ln w="76320">
            <a:solidFill>
              <a:srgbClr val="b319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715000" y="2895480"/>
            <a:ext cx="457200" cy="1524240"/>
          </a:xfrm>
          <a:prstGeom prst="ellipse">
            <a:avLst/>
          </a:prstGeom>
          <a:noFill/>
          <a:ln w="76320">
            <a:solidFill>
              <a:srgbClr val="b319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ulti-lingual Model Support within IBIS, Bob Ros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1AA61C-0EE3-46A9-802E-9E712BAAD206}" type="slidenum">
              <a:t>7</a:t>
            </a:fld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Arial"/>
              </a:rPr>
              <a:t>Why/How Multi-Lingual Modeling?</a:t>
            </a: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49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Leverages existing IBIS, Spice, VHDL-AMS, Verilog-AMS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ill use IBIS where appropriat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tension uses IBIS for Pinout, Pkg., Info. &amp; Spec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ecutes external code fil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649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Multi-lingual EDA tools from many companies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ntor, Cadence, Avanti, …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649"/>
              </a:spcBef>
              <a:buClr>
                <a:srgbClr val="0000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Faster response to industry - IBIS &amp; few keywords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External Model]: Buffer level external model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External Circuit]: Die circuitr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SzPct val="65000"/>
              <a:buFont typeface="Times New Roman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Node Declarations], [Circuit Call]: Interconnec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ulti-lingual Model Support within IBIS, Bob Ros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0C174F-BE15-45AA-B4FF-DBD3FCA9A0E4}" type="slidenum">
              <a:t>8</a:t>
            </a:fld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7631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Arial"/>
              </a:rPr>
              <a:t>Digital (logic) and Analog Ports and Reference Models for I/O Buffers</a:t>
            </a:r>
            <a:endParaRPr b="1" lang="en-US" sz="3400" spc="-1" strike="noStrike">
              <a:solidFill>
                <a:srgbClr val="0000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4343400" y="2057400"/>
          <a:ext cx="6553080" cy="2514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3400" y="2057400"/>
                    <a:ext cx="655308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"/>
          <p:cNvGraphicFramePr/>
          <p:nvPr/>
        </p:nvGraphicFramePr>
        <p:xfrm>
          <a:off x="0" y="2057400"/>
          <a:ext cx="6400800" cy="27432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2057400"/>
                    <a:ext cx="640080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ulti-lingual Model Support within IBIS, Bob Ros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C6CAF3-DA10-4276-BA6D-A0CA9823F67B}" type="slidenum">
              <a:t>9</a:t>
            </a:fld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03T00:05:07Z</dcterms:created>
  <dc:creator>Jorge T Juliano, Jr.</dc:creator>
  <dc:description/>
  <dc:language>en-US</dc:language>
  <cp:lastModifiedBy>bobr</cp:lastModifiedBy>
  <cp:lastPrinted>2002-01-03T01:13:29Z</cp:lastPrinted>
  <dcterms:modified xsi:type="dcterms:W3CDTF">2002-01-22T21:43:30Z</dcterms:modified>
  <cp:revision>179</cp:revision>
  <dc:subject/>
  <dc:title>No Slide Title</dc:title>
</cp:coreProperties>
</file>