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DE4-4F41-416C-9644-E35BA3ED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759-2C74-4406-8164-D2A864D9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495-B086-4732-865B-6CFA44A6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61D-D919-4885-8582-DBC19BD9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E3C-58D3-464F-950D-8CF4EC3C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E3F-B6C4-4218-B986-0191E66F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B94-5611-4CA5-818F-A8F1542D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7A6-E3D9-4BD8-AA75-E7E9CCD2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936-CFE4-4468-B436-652E2944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C3B-6A2D-431F-80B9-3341303A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6A5-1D36-4ACC-B66F-5D120050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890-FA60-4F01-8CF8-2E65A79F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9BA7-D691-42B1-976A-3D3157C71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582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Version 4.0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or Graphics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Con 2002 IBIS Summit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ta Clar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8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Version 4.0 - 10 More BIRD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62.6 - Receiver Threshold spec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ceiver Thresholds] -Vinh/l_ac/dc and differential thresholds offsets from Vth, Tslew, sensi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xternal Reference] - External voltag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64.4 - [Alternate Package Model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65.2 - C_comp split to any four voltage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66, BIRD71 [Model Spec] ad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Timing test load subparameter extensions, PCI, PCI-X support (separate rising, falling loa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67 - 1000 V-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BIRDs Continued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68.1 - Clarify V-T table rising and falling edges al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70.5 - Golden Wave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Test Data], [Test Load], and other keywords and subparameters to define golden waveforms (near, far, single-ended, differential, typ/min/max) and general test load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72.3 - PMOS/NMOS series switch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s definition of series MOSFET to PMOS, NMOS and combinations - no syntax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73.4 - Fall Back sub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the Fall_back submodel for AVC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cation and corrections to Bus_hold sub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Ratification Pla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copy uploaded under “Ver 4.0 Work In Progress” link of IBIS hom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tee review/vote on Version 4.0 to stabilize syntax and resolve any interacti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ibischk4 parser project - another review and possible clarification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tee review/vote Version 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and submit for EIA letter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months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 formally to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ccessful, ratify as ANSI/EIA-656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1T23:17:32Z</dcterms:created>
  <dc:creator/>
  <dc:description/>
  <dc:language>en-US</dc:language>
  <cp:lastModifiedBy>bobr</cp:lastModifiedBy>
  <cp:lastPrinted>2000-09-07T22:47:07Z</cp:lastPrinted>
  <dcterms:modified xsi:type="dcterms:W3CDTF">2002-01-22T01:51:34Z</dcterms:modified>
  <cp:revision>158</cp:revision>
  <dc:subject/>
  <dc:title>IBIS ACCURACY</dc:title>
</cp:coreProperties>
</file>