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982-2E56-4F58-B4E5-F0E05E97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135-935A-4BB3-A774-9E3E40FF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5FF8-0B22-4539-A917-5C97779E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A4C-5ADF-40E0-95B9-6ED9AF4D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895D-2AB6-4793-9623-3FE7C5D2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10C1-DBDD-47AF-BFF7-9A87D54E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13F2-DDB4-41C8-9E7C-F1807D9E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6976-436A-48EA-9B99-7132B218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9D64-067C-47B6-AA10-6E68B7C6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AC97-1751-4AA8-8602-8AABE0B3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29EC-2BF6-4A29-A20D-58A10872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85F8-3B5B-4964-A08E-28B24A66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1216-8A25-46E6-A740-E391FBF9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E7E0-095F-48F7-AC38-AB736C72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677B-E155-4477-8100-B5210DCE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A74C-38C1-49DA-A3B7-01EB938B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3E1A-BADC-44FD-A67D-8AF38BDD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EB4-09C3-480D-892B-A244237C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273-A708-477A-9AF2-0B305EF0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9B9-F4DF-40FA-A3AB-01F452E7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691-B17C-43CF-9F54-40D59525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ED2E-6233-4480-998B-7E4BFFDA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5916-20BB-4D2C-B80F-85E019CC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24A-4FBD-4D43-B077-A64D3A6E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IBIS Summit – Jan ‘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E277-DCF7-475F-83E2-EF994FBAF82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4F2F-1F44-424E-A1F4-48687D62269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5206-AEE9-49C7-A0F7-130B6EEC73D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gress and Issues in IBIS-X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tephen Peters,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tel Corp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 Statu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BIS Macro Language Specification is now at revision 0.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asic syntax, language rules and circuit elements are defined and documente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dded support for describing controlled sources using equation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-lines syntax &amp; usage are now formally documented (matrixes are being documented by the connector committee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cus now is on describing IBIS 3.2 buffer in IBIS-ML, “complex” buffers and BIRDS for 4.0 (see issues list for detail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BIS-ML parser prototyping activity is on hold (no develop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sed on current progress, expect to see revision 1.0 of the IBIS-ML specification end of this yea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88F0-C0D1-4403-8E6E-E969222F31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 Iss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upport for [Model Spec] type key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oes model itself contain the code that checks for signal violations as documented by the [Model spec] type keywords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f it does, what language support is required?  Do we approach it with complex circuit elements (sample-holds, triggers, etc.) or do we create a full blown programming language (if-then-else, while loops, variables, etc.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‘driver’ element good enough for the first releas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 ‘driver’ element is a black box containing a vendors IBIS 3.2 algorithm… has inputs for I/V and V/T tabl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dvantage: shortcut to 1.0, quick adoption by industr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isadvantage: not expandable, still need to do basic work to insure that approach/definition is powerful enough to model differential, etc. buffer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ill need method for adding package models into compon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7D4-7EDA-43DF-8808-E212D3B976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s &amp; activities (short and mid term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IBIS 3.2 in IBIS-ML without using ‘driver’ el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complex I/O in IBIS-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fferential drivers and receiv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rivers w/pre-emphasis (SCSI, 3GIO, etc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rivers with fallbac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proposed IBIS 4.0 bir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D692-1807-4CC8-868B-D5014FD81C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5T23:57:15Z</dcterms:created>
  <dc:creator>sjpeters</dc:creator>
  <dc:description/>
  <dc:language>en-US</dc:language>
  <cp:lastModifiedBy>bobr</cp:lastModifiedBy>
  <cp:lastPrinted>2002-01-22T19:46:40Z</cp:lastPrinted>
  <dcterms:modified xsi:type="dcterms:W3CDTF">2002-01-22T19:47:40Z</dcterms:modified>
  <cp:revision>54</cp:revision>
  <dc:subject/>
  <dc:title>IBIS Futures Group  Update on IBIS-X</dc:title>
</cp:coreProperties>
</file>