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CF9-291F-4E1D-8DB8-579183CC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9DF-968A-4A1F-A44D-A4241D58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C97-A54B-4183-A142-7B2D150F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263-AEFC-4399-8D5D-D7360E6E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C8E-67BC-4495-A6EE-7F8C2F99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AB55-AB80-41C2-A0C5-FF44A4BC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C832-EB8B-428C-963A-53217F2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5FFB-7733-44A4-BB5C-14A37504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0160-DEDE-4246-9123-2DE50971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26D-9E8A-4810-84FC-AF7D91E8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1D1B-171D-450D-85FC-094E298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6C7-7EDC-41D4-BD55-0A9A771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C22-0765-4E81-8202-CA94430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788C-15A0-49E5-8AE1-062301EF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6923-B0D2-49A4-9667-110D05E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0BF2-3A10-42EF-B189-59360C9F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2DA4-8897-47F6-824B-FFE4F4A6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EE9-B430-4CFB-A80A-954ADCF7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DCA-6428-4F99-9118-CB7B994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EA5-2318-4FD6-8D4D-A635B599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80A-B7F1-4D62-8E5B-748E9BB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BF7-10D8-4721-9A4E-F4E4DF4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D53-8916-48FC-ABF9-BE73AE5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F07-BED4-44B5-8B1A-9190307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66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161-5CC5-40B1-9D9D-EAA92B3959C8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10177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17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9259" t="29630" r="9259" b="22840"/>
          <a:stretch/>
        </p:blipFill>
        <p:spPr>
          <a:xfrm>
            <a:off x="7772400" y="6458040"/>
            <a:ext cx="1371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9320" y="0"/>
          <a:ext cx="101736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0" y="0"/>
                    <a:ext cx="101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66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1978-0874-4697-BA7F-62D33F628DB3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0177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17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rcRect l="9259" t="29630" r="9259" b="22840"/>
          <a:stretch/>
        </p:blipFill>
        <p:spPr>
          <a:xfrm>
            <a:off x="7772400" y="6458040"/>
            <a:ext cx="1371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9320" y="0"/>
          <a:ext cx="101736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0" y="0"/>
                    <a:ext cx="101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aniel Nilss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617220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Delay Variation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79440" y="1461960"/>
          <a:ext cx="755964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1461960"/>
                    <a:ext cx="755964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Delay Variations, slow proces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78168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Steps to Design Success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using IBIS model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/O Characteriz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Understand I/O behavior over operating condi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Model Qualific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results needs to be correlated to transistor level simulation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Conclusion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Using IBIS models allows us to run a larger solution space analysi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reating good IBIS models requires significant effor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Using IBIS for High-Speed Interfaces requires validated and correlated mod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 many cases IBIS models can be used for designing 600+ MHz interfac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9259" t="29630" r="9259" b="22840"/>
          <a:stretch/>
        </p:blipFill>
        <p:spPr>
          <a:xfrm>
            <a:off x="7772400" y="6458040"/>
            <a:ext cx="1371600" cy="39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9259" t="29630" r="9259" b="22840"/>
          <a:stretch/>
        </p:blipFill>
        <p:spPr>
          <a:xfrm>
            <a:off x="3282840" y="2644920"/>
            <a:ext cx="3429000" cy="100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62920" y="617220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4800" y="2285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The Bitter-Sweet Experiences of using IBIS Model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High-Speed Design Challenge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n Board Data Ra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ommonly 133MHz - 500MHz; moving to 1GHz+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etailed Signal Integrity and Timing analysis requir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ust simulate over Process,  Voltage, and Temperatur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nter Symbol Interferenc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imultaneous Switching Output Noise and Crosstal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Pre-Layout Solution Space analysi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Post-Layout Verific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Large number of simulations requir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IBIS Benefit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Performanc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10 -100x faster than transistor level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Encapsulates large amount of information for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Waveform analysis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Timing Analysi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ystem Verific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an be as accurate as transistor level mod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No proprietary transistor level inform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Generating good models is hard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Requires significant effor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orrectly converting transistor level models to IBIS is a complicated proces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imulate transistor level and IBIS models into representative topologi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Review I-V and V-T dat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Check results in different process corn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Various frequencies of oper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Good models result in good correl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Hspice vs. IBIS correlation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70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However…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Effects not currently captured by IBIS mod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Frequency dependent delay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elay variation as a function of slew-rat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ignal amplitude delay varia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entury Gothic"/>
              </a:rPr>
              <a:t>Delay Variations</a:t>
            </a:r>
            <a:endParaRPr b="1" lang="en-US" sz="3200" spc="-1" strike="noStrike">
              <a:solidFill>
                <a:srgbClr val="336699"/>
              </a:solidFill>
              <a:latin typeface="Century Gothic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79440" y="1461960"/>
          <a:ext cx="755964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1461960"/>
                    <a:ext cx="755964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01:51:27Z</dcterms:created>
  <dc:creator>Daniel Nilsson</dc:creator>
  <dc:description/>
  <dc:language>en-US</dc:language>
  <cp:lastModifiedBy>Adam Kustin</cp:lastModifiedBy>
  <dcterms:modified xsi:type="dcterms:W3CDTF">2002-01-28T03:43:59Z</dcterms:modified>
  <cp:revision>60</cp:revision>
  <dc:subject/>
  <dc:title>The Bitter-Sweet Experiences of using IBIS Models</dc:title>
</cp:coreProperties>
</file>