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8080" cy="346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26640" y="4386240"/>
            <a:ext cx="50929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77068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935160" y="877068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5A06-DCDC-45F4-9AEC-1CB1A012841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35160" y="877068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C53C-C597-431B-B3C4-E8BAE3ED2EF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77068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351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6640" y="4386240"/>
            <a:ext cx="50929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804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3804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39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564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39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564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804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804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804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3804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804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shindengen.co.jp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News Gothic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News Gothic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News Gothic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News Gothic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News Gothic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 Gothic M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" name=""/>
          <p:cNvSpPr/>
          <p:nvPr/>
        </p:nvSpPr>
        <p:spPr>
          <a:xfrm>
            <a:off x="674280" y="555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cc"/>
                </a:solidFill>
                <a:latin typeface="News Gothic M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48840" y="555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cc"/>
                </a:solidFill>
                <a:latin typeface="News Gothic M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34720" y="555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cc"/>
                </a:solidFill>
                <a:latin typeface="News Gothic M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72520" y="55548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cc"/>
                </a:solidFill>
                <a:latin typeface="News Gothic MT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66688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ecalsjeitalogo" descr=""/>
          <p:cNvPicPr/>
          <p:nvPr/>
        </p:nvPicPr>
        <p:blipFill>
          <a:blip r:embed="rId2"/>
          <a:stretch/>
        </p:blipFill>
        <p:spPr>
          <a:xfrm>
            <a:off x="228600" y="142920"/>
            <a:ext cx="2819520" cy="5284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662840" y="6477120"/>
            <a:ext cx="634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Right © 2002 by the Japan Electronics &amp; Information Technology Industries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logo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192240"/>
            <a:ext cx="144792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be  model of Circuit 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365724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anuary  28,  2002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IBIS SUMMIT at Santa Clara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Tsuyoshi Horigome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INDENGEN ELECTRIC MFG.CO.,LTD.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origome@shindengen.co.jp</a:t>
            </a: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523880"/>
            <a:ext cx="815328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51000" y="3006720"/>
            <a:ext cx="289584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560" y="1311120"/>
            <a:ext cx="2535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 Development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uit Development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2480" y="1295280"/>
            <a:ext cx="2349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Sales 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95240" y="1295280"/>
            <a:ext cx="1011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30320" y="3678120"/>
            <a:ext cx="1160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7440" y="3676680"/>
            <a:ext cx="1217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og 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48560" y="3676680"/>
            <a:ext cx="19821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e/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2320" y="3676680"/>
            <a:ext cx="96084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3844800"/>
            <a:ext cx="762120" cy="152640"/>
          </a:xfrm>
          <a:prstGeom prst="leftRightArrow">
            <a:avLst>
              <a:gd name="adj1" fmla="val 50000"/>
              <a:gd name="adj2" fmla="val 9939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6840" y="3844800"/>
            <a:ext cx="685800" cy="165240"/>
          </a:xfrm>
          <a:prstGeom prst="leftRightArrow">
            <a:avLst>
              <a:gd name="adj1" fmla="val 50000"/>
              <a:gd name="adj2" fmla="val 826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2680" y="3044880"/>
            <a:ext cx="195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Designs Consul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057400" y="1914120"/>
            <a:ext cx="1069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914480"/>
            <a:ext cx="1069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13120" y="160956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41720" y="160956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337000" y="168588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5600" y="168588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791320" y="1685520"/>
            <a:ext cx="17524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022800" y="1685880"/>
            <a:ext cx="182592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5840" y="762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 b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680" y="4343400"/>
            <a:ext cx="671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Simulation(Thermal Model,Noise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ness of obtaining EDA MODEL,Design 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velopment of Device Modeling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8600" y="5715000"/>
            <a:ext cx="693216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design environment (Digital,Analog,High frequenc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luding EDA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9320" y="1305000"/>
            <a:ext cx="1387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549440"/>
            <a:ext cx="8305560" cy="4546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0280" y="8380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 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Simulation(SPICE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MVC-012S" descr=""/>
          <p:cNvPicPr/>
          <p:nvPr/>
        </p:nvPicPr>
        <p:blipFill>
          <a:blip r:embed="rId2"/>
          <a:stretch/>
        </p:blipFill>
        <p:spPr>
          <a:xfrm>
            <a:off x="4038480" y="4876920"/>
            <a:ext cx="1981440" cy="1485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200400" y="5486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181480" cy="244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943600" y="8985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Vds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Id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，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Vgs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Q101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09680" y="3747960"/>
          <a:ext cx="4745160" cy="19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747960"/>
                    <a:ext cx="474516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172200" y="3352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us/d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334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us/d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3840" y="1473120"/>
            <a:ext cx="10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V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A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V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22080" y="3733920"/>
            <a:ext cx="10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0V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A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5V/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520" y="83808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shapes of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Using SPIC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4920" y="5775480"/>
            <a:ext cx="72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alytical consequence is goo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it took circuit desig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lot of time to obtain EDA MODEL(SPICE MODEL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02840" y="9144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29400" y="3029040"/>
            <a:ext cx="6686640" cy="45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Electronic parts of IBIS and IBIS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7000" y="1581120"/>
            <a:ext cx="8254800" cy="8254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design environment (Digital,Analog,High frequenc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luding EDA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4192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1400" y="4343400"/>
            <a:ext cx="2686320" cy="1922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alog 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otocou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PI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Equivalent circu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0440" y="37339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11920" y="4343400"/>
            <a:ext cx="3431520" cy="1922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nalog 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otocou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BIS-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Using Macro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28800" y="1832040"/>
            <a:ext cx="5715000" cy="365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060640"/>
            <a:ext cx="7619760" cy="4416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1400" y="930240"/>
            <a:ext cx="86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IC(Shunt Regulator): SPICE MODEL(Equivalent circu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1600200"/>
            <a:ext cx="6705360" cy="472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595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8440" y="777960"/>
            <a:ext cx="68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otocoupler : SPICE MODEL(Equivalent circu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6480" y="1828800"/>
            <a:ext cx="821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aim at the unified desig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(Digital,Analog,High freque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luding EDA MOD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asiness obtai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A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04:32:53Z</dcterms:created>
  <dc:creator>Itoh </dc:creator>
  <dc:description/>
  <dc:language>en-US</dc:language>
  <cp:lastModifiedBy>bobr</cp:lastModifiedBy>
  <cp:lastPrinted>2002-01-22T16:20:54Z</cp:lastPrinted>
  <dcterms:modified xsi:type="dcterms:W3CDTF">2002-01-22T16:23:01Z</dcterms:modified>
  <cp:revision>255</cp:revision>
  <dc:subject/>
  <dc:title>IBIS Summit</dc:title>
</cp:coreProperties>
</file>