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1CD0-F85F-40BE-A5DD-C8847337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E403-B945-488F-AEBF-246361FE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1D4-DE85-450E-9BEF-A0401312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9DBF-9F73-450F-9CA8-3E6EF0C2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E333-1E8D-4E5B-BB2B-CDCE77DF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F0AF-1CB3-4F2D-8FD6-C70C9C07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245D-74CC-455A-B351-9BB71398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F6DA-3B0B-4C33-B1BC-B32D3E43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048D-8460-4141-B8B4-ACDE0189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7E76-495A-4CB1-8BDF-F81E7BA0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3578-C86E-4DFB-B27A-446D1B8D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7A01-4DE1-48EA-B0D9-6FB6D9BB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7676-B84D-44D5-AD47-76132FDF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6600-2C86-4C6C-B7D2-E4C0CE53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57DD-65F8-4494-9A33-E8FDC4BD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3DF6-8816-4C7F-B665-DAC118FE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6415-90B0-4F16-8DDF-3A692355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4B2F-CD43-47B0-AFA9-39EB9FBB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7DF9-6BB5-4DEC-A345-6E1AB5F4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3799-CD88-4A12-B03D-991D5D6E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90E3-88E8-424C-9200-E014C905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573A-8E8E-48B4-A0A4-DDB0D38F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EB4B-8C2E-40AD-A691-7CC299A5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9B47-609B-44F6-83B7-08C4E795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92C7-BB0E-4456-9012-3374E02390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DA11-9487-4EA3-87E0-2DBA493832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BIS Accuracy at IB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eg Edlun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DesignCon 2002 IBIS Summi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01/28/02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rting Advice to IBIS Users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it in the purchase spec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 out the IBIS checkli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 Golden Wavefor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Past Four Yea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/9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BIS User’s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1/9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/O Buffer Accuracy Hand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1/9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9/0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831 Accuracy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/0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k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5/0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BIS and SPICE check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8/0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D 70, Golden Wave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BM:  IBIS Produc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y that leads the indu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X2IBIS batch proces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avioral vs. circuit model corre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raction of C_comp from circuit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raction of Vinl and Vinh from dc transfer cu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ts off to Jerry Hayes of IBM Microelectronics in Burlington, V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SX2IBIS Process Flow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666880"/>
            <a:ext cx="1219320" cy="137160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K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3048120"/>
            <a:ext cx="990360" cy="6094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4572000"/>
            <a:ext cx="1143000" cy="990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2590920"/>
            <a:ext cx="1218960" cy="13716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2590920"/>
            <a:ext cx="1218960" cy="13716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419720"/>
            <a:ext cx="1218960" cy="13716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1981080"/>
            <a:ext cx="5791320" cy="221004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07880" y="144792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Arial"/>
              </a:rPr>
              <a:t>ASX2IB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335268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098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3352680"/>
            <a:ext cx="10670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3657600"/>
            <a:ext cx="0" cy="91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396252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22860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2286000"/>
            <a:ext cx="4038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228600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4840" y="6272280"/>
            <a:ext cx="88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X=CKT SIM; FOM=FIGURE OF MERIT; BIO=BEHAVIORAL I/O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Vinl and Vinh Extrac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41560" y="2057400"/>
            <a:ext cx="686412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BM:  IBIS Consum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undry List of Common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sing min and max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gus C_comp values (not extracted from SP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sing Vinl and Vin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gus Vinl and Vinh values (0.8 V and 2.0 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sing Cref, Rref, Vref, and Vm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 AC Endpoints not within v of (v,t) on VI cur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sing VT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Hall of Horrors:  The Goo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31840" y="2055960"/>
            <a:ext cx="68738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Hall of Horrors:  The Ba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28600" y="2055960"/>
            <a:ext cx="688356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Hall of Horrors:  The Ugl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33640" y="2055960"/>
            <a:ext cx="68738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00:48:18Z</dcterms:created>
  <dc:creator>Greg Edlund</dc:creator>
  <dc:description/>
  <dc:language>en-US</dc:language>
  <cp:lastModifiedBy>Greg Edlund</cp:lastModifiedBy>
  <cp:lastPrinted>2002-01-15T00:53:34Z</cp:lastPrinted>
  <dcterms:modified xsi:type="dcterms:W3CDTF">2002-01-23T04:38:16Z</dcterms:modified>
  <cp:revision>22</cp:revision>
  <dc:subject/>
  <dc:title>IBIS Accuracy at IBM</dc:title>
</cp:coreProperties>
</file>