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DD6-79A4-427E-97CA-2416DA5F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8F7-0116-4028-B4EE-2188E4A3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D36-73A1-4C96-9295-3DFD5C82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39A-6000-40CE-9317-1F26D34A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119-7ECA-4A6E-A272-6E408751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D64-E30C-4218-87B0-0B49F4D6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A50-FD4A-4747-AB4E-4889374E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AD0-7752-48E4-82A6-0BB8B2A5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848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0B2-C796-4A31-ADFE-E8763E67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CE6-FF3E-41A1-BF6F-B119301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5EB-D473-434C-A1EC-C15E74CF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9C4-3E06-4263-A671-526D4B52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5D80-4582-4D62-A5C6-28464436F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341360"/>
            <a:ext cx="9132840" cy="57240"/>
            <a:chOff x="0" y="1341360"/>
            <a:chExt cx="9132840" cy="57240"/>
          </a:xfrm>
        </p:grpSpPr>
        <p:sp>
          <p:nvSpPr>
            <p:cNvPr id="4" name=""/>
            <p:cNvSpPr/>
            <p:nvPr/>
          </p:nvSpPr>
          <p:spPr>
            <a:xfrm>
              <a:off x="0" y="1341360"/>
              <a:ext cx="9132840" cy="288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384200"/>
              <a:ext cx="9132840" cy="144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14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759120" y="6324480"/>
            <a:ext cx="388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The Interconnect Modeling Company™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427880" y="6248520"/>
            <a:ext cx="1866960" cy="86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y Line Characterization and Modeling for SPICE and IB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ve Cor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A Systems, In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ality in TEM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basic physics, the real and imaginary parts of the dielectric constant are tightly related to ensure causal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e is true of the permeability constant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EM modeling, this means that R and L are related, and G and C are rel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based on RLGC data should address this iss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Model Extraction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equ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ct/Optimize loss parameters: 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resulting model in various form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ump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tributed with paramet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tributed with RLGC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76520" y="2185920"/>
                <a:ext cx="29718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</m:e>
                        </m:ra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  <m:e>
                        <m:r>
                          <m:t xml:space="preserve">Y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Extrac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Lossy%20Model%20Extraction" descr=""/>
          <p:cNvPicPr/>
          <p:nvPr/>
        </p:nvPicPr>
        <p:blipFill>
          <a:blip r:embed="rId1"/>
          <a:stretch/>
        </p:blipFill>
        <p:spPr>
          <a:xfrm>
            <a:off x="1490760" y="1676520"/>
            <a:ext cx="6162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 Lumped 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LumpedSimulation" descr=""/>
          <p:cNvPicPr/>
          <p:nvPr/>
        </p:nvPicPr>
        <p:blipFill>
          <a:blip r:embed="rId1"/>
          <a:stretch/>
        </p:blipFill>
        <p:spPr>
          <a:xfrm>
            <a:off x="1600200" y="1733400"/>
            <a:ext cx="59436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Parameterized 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aramSimulation" descr=""/>
          <p:cNvPicPr/>
          <p:nvPr/>
        </p:nvPicPr>
        <p:blipFill>
          <a:blip r:embed="rId1"/>
          <a:stretch/>
        </p:blipFill>
        <p:spPr>
          <a:xfrm>
            <a:off x="1600200" y="1733400"/>
            <a:ext cx="59436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RLGC Data 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DataSimulation" descr=""/>
          <p:cNvPicPr/>
          <p:nvPr/>
        </p:nvPicPr>
        <p:blipFill>
          <a:blip r:embed="rId1"/>
          <a:stretch/>
        </p:blipFill>
        <p:spPr>
          <a:xfrm>
            <a:off x="1600200" y="1809720"/>
            <a:ext cx="59436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y needs lossy line models for board-level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pability exists for accurate 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umped elements, parameters, RLGC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r modeling approach is based on TDR measur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 is required to ensure that models are physical and algorithms are s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is Talk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lo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loss mat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basis for lo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 modeling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 Example: Time Dom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ime%20Domain%20Loss" descr=""/>
          <p:cNvPicPr/>
          <p:nvPr/>
        </p:nvPicPr>
        <p:blipFill>
          <a:blip r:embed="rId1"/>
          <a:stretch/>
        </p:blipFill>
        <p:spPr>
          <a:xfrm>
            <a:off x="1928880" y="2048040"/>
            <a:ext cx="52862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 Example:  Frequency Dom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Frequency%20Domain%20Loss" descr=""/>
          <p:cNvPicPr/>
          <p:nvPr/>
        </p:nvPicPr>
        <p:blipFill>
          <a:blip r:embed="rId1"/>
          <a:stretch/>
        </p:blipFill>
        <p:spPr>
          <a:xfrm>
            <a:off x="1914480" y="2133720"/>
            <a:ext cx="531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Loss Mat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ing loss can cause design fail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rates too hig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ivers too wea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estimating loss can result in overly conservative desig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wer than necessa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onger drive than necessa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Loss is a “Recent” 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 is only recently significant in common digital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er rise times and data rat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rrower tra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ame old materials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 has long been significant in analo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quency-Domain analysis metho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targeted toward broadband model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Basis for Lo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ance in me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rying skin depth causes frequency-dependent resista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gnetic flux internal to metal causes frequency-dependent inducta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ance in dielectr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stant non-zero loss tangent causes frequency-dependent conducta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arges moving within dielectric cause frequency-dependent capacita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TEM Modeling Approa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mp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ined for all frequenc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w for long lin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sed on parameters (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ski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G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dielectri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110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for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110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sed on RLGC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110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for quasi-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110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defined for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 Modeling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uracy of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ined for sufficient range of frequenc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ity of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nnot generate ener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ired for use in a time-domain simulator which handles feedb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ires model to be causa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bility of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table algorithms can cause passive models to blow 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2T21:12:04Z</dcterms:created>
  <dc:creator>Dima Smolyansky</dc:creator>
  <dc:description/>
  <dc:language>en-US</dc:language>
  <cp:lastModifiedBy>bobr</cp:lastModifiedBy>
  <cp:lastPrinted>1999-08-24T16:46:37Z</cp:lastPrinted>
  <dcterms:modified xsi:type="dcterms:W3CDTF">2002-01-24T00:04:54Z</dcterms:modified>
  <cp:revision>145</cp:revision>
  <dc:subject/>
  <dc:title>Interconnect Modeling From TDR Measurements</dc:title>
</cp:coreProperties>
</file>