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embeddings/oleObject4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5.wmf" ContentType="image/x-wmf"/>
  <Override PartName="/ppt/media/image14.jpeg" ContentType="image/jpeg"/>
  <Override PartName="/ppt/media/image12.wmf" ContentType="image/x-wmf"/>
  <Override PartName="/ppt/media/image8.png" ContentType="image/png"/>
  <Override PartName="/ppt/media/image38.png" ContentType="image/png"/>
  <Override PartName="/ppt/media/image39.jpeg" ContentType="image/jpeg"/>
  <Override PartName="/ppt/media/image4.wmf" ContentType="image/x-wmf"/>
  <Override PartName="/ppt/media/image9.png" ContentType="image/png"/>
  <Override PartName="/ppt/media/image34.png" ContentType="image/png"/>
  <Override PartName="/ppt/media/image40.jpeg" ContentType="image/jpeg"/>
  <Override PartName="/ppt/media/image32.png" ContentType="image/png"/>
  <Override PartName="/ppt/media/image35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.wmf" ContentType="image/x-wmf"/>
  <Override PartName="/ppt/media/image29.png" ContentType="image/png"/>
  <Override PartName="/ppt/media/image5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1.wmf" ContentType="image/x-wmf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889-E401-4F8D-8D0E-CAC67833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9268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DE3-B19F-4CC6-B7E0-7D1D66C6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9140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21F-EE90-4132-8A33-77276603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364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8692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364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8692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32E-6517-4F94-8846-1A9EBC36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564-78FB-4823-9ED4-0879EA96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825-4552-4468-A700-E4C68AA3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DB2-64A7-43CA-B3B5-622CD8B4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C41-3836-4D5A-9146-DBD5DB1D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760-2C4E-416B-A68D-E82D1C78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35A-53E2-471E-8E0E-CDB192C2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9140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1CE-9157-4B18-BF88-D2037761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90E-33AF-4C0F-BED1-36B2B584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35E18B-5F7E-4731-9AD1-7D4D53B62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5bf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5bfc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560" y="6561000"/>
            <a:ext cx="279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 20021 - IBIS Summit Santa C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384720" y="66600"/>
          <a:ext cx="34653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84720" y="66600"/>
                    <a:ext cx="34653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54160" y="838080"/>
            <a:ext cx="9486720" cy="7164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25.wmf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92776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91540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175bfc"/>
                </a:solidFill>
                <a:latin typeface="Arial"/>
              </a:rPr>
              <a:t>Advances on the ICEM model </a:t>
            </a:r>
            <a:endParaRPr b="0" lang="en-US" sz="4400" spc="-1" strike="noStrike">
              <a:solidFill>
                <a:srgbClr val="175bfc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175bfc"/>
                </a:solidFill>
                <a:latin typeface="Arial"/>
              </a:rPr>
              <a:t>for Emission of Integrated Circuits</a:t>
            </a:r>
            <a:endParaRPr b="0" lang="en-US" sz="44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352680"/>
            <a:ext cx="670536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bastien Cal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Arial"/>
              </a:rPr>
              <a:t>sebastien.calvet@motorola.c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Arial"/>
              </a:rPr>
              <a:t>sebastien.calvet@insa-tlse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Courier New"/>
              </a:rPr>
              <a:t>http://intrage.insa-tlse.fr/~et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924680" y="5761080"/>
          <a:ext cx="1371600" cy="7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5761080"/>
                    <a:ext cx="1371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838280" y="540828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ienne SI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8000" y="5439960"/>
            <a:ext cx="1711440" cy="1008360"/>
            <a:chOff x="108000" y="5439960"/>
            <a:chExt cx="1711440" cy="1008360"/>
          </a:xfrm>
        </p:grpSpPr>
        <p:grpSp>
          <p:nvGrpSpPr>
            <p:cNvPr id="55" name=""/>
            <p:cNvGrpSpPr/>
            <p:nvPr/>
          </p:nvGrpSpPr>
          <p:grpSpPr>
            <a:xfrm>
              <a:off x="244440" y="5792760"/>
              <a:ext cx="1575000" cy="655560"/>
              <a:chOff x="244440" y="5792760"/>
              <a:chExt cx="1575000" cy="655560"/>
            </a:xfrm>
          </p:grpSpPr>
          <p:graphicFrame>
            <p:nvGraphicFramePr>
              <p:cNvPr id="56" name=""/>
              <p:cNvGraphicFramePr/>
              <p:nvPr/>
            </p:nvGraphicFramePr>
            <p:xfrm>
              <a:off x="264960" y="5792760"/>
              <a:ext cx="1529280" cy="437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64960" y="5792760"/>
                        <a:ext cx="1529280" cy="43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244440" y="6173280"/>
                <a:ext cx="1575000" cy="27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OMOTIVE 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108000" y="5439960"/>
              <a:ext cx="170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ristian MAR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434680" y="5439960"/>
            <a:ext cx="2329560" cy="1008360"/>
            <a:chOff x="2434680" y="5439960"/>
            <a:chExt cx="2329560" cy="100836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2597040" y="5854680"/>
              <a:ext cx="2006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434680" y="5439960"/>
              <a:ext cx="23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ré PEYRE LAVIG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559480" y="5384520"/>
            <a:ext cx="1351080" cy="1119600"/>
            <a:chOff x="5559480" y="5384520"/>
            <a:chExt cx="1351080" cy="1119600"/>
          </a:xfrm>
        </p:grpSpPr>
        <p:sp>
          <p:nvSpPr>
            <p:cNvPr id="64" name=""/>
            <p:cNvSpPr/>
            <p:nvPr/>
          </p:nvSpPr>
          <p:spPr>
            <a:xfrm>
              <a:off x="5561640" y="538452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ude HU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559480" y="5737320"/>
            <a:ext cx="1351080" cy="766800"/>
          </p:xfrm>
          <a:graphic>
            <a:graphicData uri="http://schemas.openxmlformats.org/presentationml/2006/ole">
              <p:oleObj progId="Word.Document.12" r:id="rId6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59480" y="5737320"/>
                      <a:ext cx="135108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C7F-ED8D-45D8-BA93-F4955D6103A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s22" descr=""/>
          <p:cNvPicPr/>
          <p:nvPr/>
        </p:nvPicPr>
        <p:blipFill>
          <a:blip r:embed="rId1"/>
          <a:stretch/>
        </p:blipFill>
        <p:spPr>
          <a:xfrm>
            <a:off x="561960" y="2376360"/>
            <a:ext cx="3019320" cy="21700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6160" y="178740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rget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98000" y="493776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C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307560" y="2244600"/>
            <a:ext cx="3123720" cy="3852360"/>
            <a:chOff x="6307560" y="2244600"/>
            <a:chExt cx="3123720" cy="3852360"/>
          </a:xfrm>
        </p:grpSpPr>
        <p:pic>
          <p:nvPicPr>
            <p:cNvPr id="541" name="" descr=""/>
            <p:cNvPicPr/>
            <p:nvPr/>
          </p:nvPicPr>
          <p:blipFill>
            <a:blip r:embed="rId2"/>
            <a:stretch/>
          </p:blipFill>
          <p:spPr>
            <a:xfrm>
              <a:off x="6477120" y="3292560"/>
              <a:ext cx="27716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6477120" y="2244600"/>
              <a:ext cx="2209680" cy="81756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With IBIS a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core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07560" y="5393160"/>
              <a:ext cx="312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Good forecast of radiat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766440" y="5975280"/>
            <a:ext cx="81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A core model is mandatory for accurate emission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352680" y="2244600"/>
            <a:ext cx="2959200" cy="3628440"/>
            <a:chOff x="3352680" y="2244600"/>
            <a:chExt cx="2959200" cy="3628440"/>
          </a:xfrm>
        </p:grpSpPr>
        <p:sp>
          <p:nvSpPr>
            <p:cNvPr id="546" name=""/>
            <p:cNvSpPr/>
            <p:nvPr/>
          </p:nvSpPr>
          <p:spPr>
            <a:xfrm>
              <a:off x="3416400" y="2244600"/>
              <a:ext cx="2895480" cy="6238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With IB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52680" y="5169240"/>
              <a:ext cx="295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Wrong prediction of the radiated e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8" name="ScanMarot2" descr=""/>
            <p:cNvPicPr/>
            <p:nvPr/>
          </p:nvPicPr>
          <p:blipFill>
            <a:blip r:embed="rId3"/>
            <a:stretch/>
          </p:blipFill>
          <p:spPr>
            <a:xfrm>
              <a:off x="3949560" y="2958840"/>
              <a:ext cx="2362320" cy="19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AAA-A81E-42FC-AA97-7E6A8B8578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3520" y="160596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European Research Centre on Electronics for Transportation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identifies and co-ordinate co-operative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97000" y="2470320"/>
            <a:ext cx="6864120" cy="2213280"/>
            <a:chOff x="2097000" y="2470320"/>
            <a:chExt cx="6864120" cy="2213280"/>
          </a:xfrm>
        </p:grpSpPr>
        <p:sp>
          <p:nvSpPr>
            <p:cNvPr id="552" name=""/>
            <p:cNvSpPr/>
            <p:nvPr/>
          </p:nvSpPr>
          <p:spPr>
            <a:xfrm>
              <a:off x="3223800" y="3154680"/>
              <a:ext cx="4536720" cy="13244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3" name=""/>
            <p:cNvGraphicFramePr/>
            <p:nvPr/>
          </p:nvGraphicFramePr>
          <p:xfrm>
            <a:off x="4337640" y="3477960"/>
            <a:ext cx="2174040" cy="79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37640" y="3477960"/>
                      <a:ext cx="2174040" cy="79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5" name=""/>
            <p:cNvGraphicFramePr/>
            <p:nvPr/>
          </p:nvGraphicFramePr>
          <p:xfrm>
            <a:off x="6486840" y="2742480"/>
            <a:ext cx="189144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86840" y="2742480"/>
                      <a:ext cx="18914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7" name=""/>
            <p:cNvGraphicFramePr/>
            <p:nvPr/>
          </p:nvGraphicFramePr>
          <p:xfrm>
            <a:off x="2119680" y="3901320"/>
            <a:ext cx="1734120" cy="48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9680" y="3901320"/>
                      <a:ext cx="1734120" cy="48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9" name=""/>
            <p:cNvGraphicFramePr/>
            <p:nvPr/>
          </p:nvGraphicFramePr>
          <p:xfrm>
            <a:off x="4816080" y="2572200"/>
            <a:ext cx="1278720" cy="64872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16080" y="2572200"/>
                      <a:ext cx="1278720" cy="64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1" name=""/>
            <p:cNvSpPr/>
            <p:nvPr/>
          </p:nvSpPr>
          <p:spPr>
            <a:xfrm>
              <a:off x="6606000" y="3912480"/>
              <a:ext cx="2355120" cy="4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9"/>
            <a:stretch/>
          </p:blipFill>
          <p:spPr>
            <a:xfrm>
              <a:off x="6540840" y="3947400"/>
              <a:ext cx="2209320" cy="5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2487240" y="3471120"/>
              <a:ext cx="89316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AIR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00120" y="4408560"/>
              <a:ext cx="126864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TOUL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97000" y="4319640"/>
              <a:ext cx="178488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AUTOMOTIVE 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6" name=""/>
            <p:cNvGraphicFramePr/>
            <p:nvPr/>
          </p:nvGraphicFramePr>
          <p:xfrm>
            <a:off x="2554200" y="2470320"/>
            <a:ext cx="1185480" cy="1123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54200" y="2470320"/>
                      <a:ext cx="1185480" cy="112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8" name=""/>
          <p:cNvSpPr/>
          <p:nvPr/>
        </p:nvSpPr>
        <p:spPr>
          <a:xfrm>
            <a:off x="228600" y="4591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Definition and validation of a model to be used in PCB CAD tools to guarantee the EMC of electronic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ne model from 1MHz to 1GHz, for conducted </a:t>
            </a: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radiated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2711160"/>
            <a:ext cx="1411200" cy="119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EMC for 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11440" y="3033720"/>
            <a:ext cx="582480" cy="438120"/>
          </a:xfrm>
          <a:prstGeom prst="rightArrow">
            <a:avLst>
              <a:gd name="adj1" fmla="val 50000"/>
              <a:gd name="adj2" fmla="val 332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2AD-0A1B-40FA-B077-1788B94679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909800"/>
            <a:ext cx="7010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175bfc"/>
                </a:solidFill>
                <a:latin typeface="Arial"/>
              </a:rPr>
              <a:t>ICEM (</a:t>
            </a:r>
            <a:r>
              <a:rPr b="0" i="1" lang="en-US" sz="2400" spc="-1" strike="noStrike">
                <a:solidFill>
                  <a:srgbClr val="175bfc"/>
                </a:solidFill>
                <a:latin typeface="Arial"/>
              </a:rPr>
              <a:t>Integrated Circuit Electromagnetic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8600" y="3477960"/>
            <a:ext cx="151128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echnical work at IERSET Toulouse,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8640" y="50839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997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05120" y="3963960"/>
            <a:ext cx="457200" cy="379440"/>
          </a:xfrm>
          <a:prstGeom prst="rightArrow">
            <a:avLst>
              <a:gd name="adj1" fmla="val 50000"/>
              <a:gd name="adj2" fmla="val 3012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70320" y="2640960"/>
            <a:ext cx="1511280" cy="120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aft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38160" y="38440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2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14760" y="2759040"/>
            <a:ext cx="457200" cy="379440"/>
          </a:xfrm>
          <a:prstGeom prst="rightArrow">
            <a:avLst>
              <a:gd name="adj1" fmla="val 50000"/>
              <a:gd name="adj2" fmla="val 30123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249960" y="61351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1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81480" y="2764440"/>
            <a:ext cx="3581640" cy="36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ee Draft for Voting at I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470320" y="4471560"/>
            <a:ext cx="151128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C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k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ersion 1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ug.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38160" y="57682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8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4320" y="613512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</a:rPr>
              <a:t>Document on the UTE web www.ute-f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8040" y="3290040"/>
            <a:ext cx="578808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cd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cd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cd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cd"/>
                </a:solidFill>
                <a:latin typeface="Arial-BoldMT"/>
              </a:rPr>
              <a:t>UT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PERRIN Jean Claude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HUET Claude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EADS AIR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LEVANT Jean Luc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ATM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MAROT Christian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SIEMENS AUTOMO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MAURICE Olivier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VAL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PERRAUD Richard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EADS</a:t>
            </a:r>
            <a:r>
              <a:rPr b="1" lang="en-US" sz="1200" spc="-1" strike="noStrike">
                <a:solidFill>
                  <a:srgbClr val="000000"/>
                </a:solidFill>
                <a:latin typeface="Arial-Bold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C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SAINTOT Pierre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-Bold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MICRO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SOUBEYRAN Amaury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EADS</a:t>
            </a:r>
            <a:r>
              <a:rPr b="1" lang="en-US" sz="1200" spc="-1" strike="noStrike">
                <a:solidFill>
                  <a:srgbClr val="000000"/>
                </a:solidFill>
                <a:latin typeface="Arial-Bold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M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SICARD Etienne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I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RAMDANI Mohamed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ES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LUBINEAU Marc 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-BoldMT"/>
              </a:rPr>
              <a:t>IER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77920" y="357876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919191"/>
                </a:solidFill>
                <a:latin typeface="Arial-BoldMT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53440" y="38437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919191"/>
                </a:solidFill>
                <a:latin typeface="Arial-BoldMT"/>
              </a:rPr>
              <a:t>Me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9680" y="52567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919191"/>
                </a:solidFill>
                <a:latin typeface="Arial-BoldMT"/>
              </a:rPr>
              <a:t>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EA2-1B8C-4BC5-8C58-B6A55FEAAC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062080"/>
            <a:ext cx="90680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75bfc"/>
                </a:solidFill>
                <a:latin typeface="Arial"/>
              </a:rPr>
              <a:t>ICEM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175bfc"/>
                </a:solidFill>
                <a:latin typeface="Arial"/>
              </a:rPr>
              <a:t>Now draft technical report 93/146 CD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CDV93-146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5148000" cy="3159000"/>
          </a:xfrm>
          <a:prstGeom prst="rect">
            <a:avLst/>
          </a:prstGeom>
          <a:ln w="9360">
            <a:solidFill>
              <a:srgbClr val="618ffd"/>
            </a:solidFill>
            <a:miter/>
          </a:ln>
        </p:spPr>
      </p:pic>
      <p:pic>
        <p:nvPicPr>
          <p:cNvPr id="590" name="FouDeBassan" descr=""/>
          <p:cNvPicPr/>
          <p:nvPr/>
        </p:nvPicPr>
        <p:blipFill>
          <a:blip r:embed="rId2"/>
          <a:stretch/>
        </p:blipFill>
        <p:spPr>
          <a:xfrm>
            <a:off x="6629400" y="2209680"/>
            <a:ext cx="2852640" cy="1774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6877800" y="41439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u de Bassan © J.C Per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B43-6E7B-4C63-88BA-A5A23E09E8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5227560" y="2362320"/>
            <a:ext cx="0" cy="3298680"/>
          </a:xfrm>
          <a:prstGeom prst="line">
            <a:avLst/>
          </a:prstGeom>
          <a:ln w="3816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182600" y="2289240"/>
            <a:ext cx="0" cy="3700440"/>
          </a:xfrm>
          <a:prstGeom prst="line">
            <a:avLst/>
          </a:prstGeom>
          <a:ln w="3816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981920" y="2362320"/>
            <a:ext cx="0" cy="3298680"/>
          </a:xfrm>
          <a:prstGeom prst="line">
            <a:avLst/>
          </a:prstGeom>
          <a:ln w="3816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91080" y="2286000"/>
            <a:ext cx="0" cy="3138480"/>
          </a:xfrm>
          <a:prstGeom prst="line">
            <a:avLst/>
          </a:prstGeom>
          <a:ln w="381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2600" y="3200400"/>
            <a:ext cx="9200880" cy="533520"/>
          </a:xfrm>
          <a:custGeom>
            <a:avLst/>
            <a:gdLst>
              <a:gd name="textAreaLeft" fmla="*/ 1437480 w 9200880"/>
              <a:gd name="textAreaRight" fmla="*/ 8388720 w 9200880"/>
              <a:gd name="textAreaTop" fmla="*/ 122040 h 533520"/>
              <a:gd name="textAreaBottom" fmla="*/ 41148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950"/>
                </a:moveTo>
                <a:lnTo>
                  <a:pt x="18079" y="4950"/>
                </a:lnTo>
                <a:lnTo>
                  <a:pt x="18079" y="0"/>
                </a:lnTo>
                <a:lnTo>
                  <a:pt x="21600" y="10800"/>
                </a:lnTo>
                <a:lnTo>
                  <a:pt x="18079" y="21600"/>
                </a:lnTo>
                <a:lnTo>
                  <a:pt x="18079" y="16650"/>
                </a:lnTo>
                <a:lnTo>
                  <a:pt x="3375" y="16650"/>
                </a:lnTo>
                <a:close/>
              </a:path>
              <a:path w="21600" h="21600">
                <a:moveTo>
                  <a:pt x="0" y="4950"/>
                </a:moveTo>
                <a:lnTo>
                  <a:pt x="675" y="4950"/>
                </a:lnTo>
                <a:lnTo>
                  <a:pt x="675" y="16650"/>
                </a:lnTo>
                <a:lnTo>
                  <a:pt x="0" y="16650"/>
                </a:lnTo>
                <a:close/>
              </a:path>
              <a:path w="21600" h="21600">
                <a:moveTo>
                  <a:pt x="1350" y="4950"/>
                </a:moveTo>
                <a:lnTo>
                  <a:pt x="2700" y="4950"/>
                </a:lnTo>
                <a:lnTo>
                  <a:pt x="2700" y="16650"/>
                </a:lnTo>
                <a:lnTo>
                  <a:pt x="1350" y="1665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513560" y="4917240"/>
            <a:ext cx="1473120" cy="73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EMC co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oul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06440" y="6023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09/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38560" y="2286000"/>
            <a:ext cx="0" cy="3738600"/>
          </a:xfrm>
          <a:prstGeom prst="line">
            <a:avLst/>
          </a:prstGeom>
          <a:ln w="3816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85960" y="5430960"/>
            <a:ext cx="1123920" cy="58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IBIS  Men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03600" y="5270040"/>
            <a:ext cx="1333800" cy="34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ate 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987800" y="6003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04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88080" y="2362320"/>
            <a:ext cx="0" cy="3298680"/>
          </a:xfrm>
          <a:prstGeom prst="line">
            <a:avLst/>
          </a:prstGeom>
          <a:ln w="3816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243480" y="5078520"/>
            <a:ext cx="1067040" cy="58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EMC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48320" y="6003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07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86360" y="4606920"/>
            <a:ext cx="1219320" cy="58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CEM Greno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78200" y="5677920"/>
            <a:ext cx="1266840" cy="34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IBIS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39000" y="6038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10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418520" y="5692320"/>
            <a:ext cx="1266840" cy="34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IBIS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19320" y="1833480"/>
            <a:ext cx="90676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75bfc"/>
                </a:solidFill>
                <a:latin typeface="Arial"/>
              </a:rPr>
              <a:t>Presentations of IC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68520" y="6044400"/>
            <a:ext cx="702000" cy="3682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1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6200" y="129528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3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38560" y="4368960"/>
            <a:ext cx="86976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33680" y="3587760"/>
            <a:ext cx="187308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 Narrow"/>
              </a:rPr>
              <a:t>Paper IEEE P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64120" y="3587760"/>
            <a:ext cx="1873440" cy="6094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aper IEEE E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97400" y="4286160"/>
            <a:ext cx="268452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81240" y="5396040"/>
            <a:ext cx="1422360" cy="58716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IS Design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2600" y="5396040"/>
            <a:ext cx="1081080" cy="58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IBIS Mun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92000" y="6038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03/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436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8124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6688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2268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658-6247-418E-B2C1-76F61CA30A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3990960" y="3048120"/>
            <a:ext cx="4876920" cy="35128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1905120"/>
            <a:ext cx="810576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re noise of ICs:  3 modes of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conducted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radiated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7894800" y="1905120"/>
          <a:ext cx="178272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94800" y="1905120"/>
                    <a:ext cx="1782720" cy="1352520"/>
                  </a:xfrm>
                  <a:prstGeom prst="rect">
                    <a:avLst/>
                  </a:prstGeom>
                  <a:ln w="12600">
                    <a:solidFill>
                      <a:srgbClr val="00ae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6248520" y="21322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Origin of parasitic emission in CMO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gate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B89-6079-4072-A77C-98240708D6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231840" y="2695680"/>
            <a:ext cx="4152960" cy="2697840"/>
            <a:chOff x="231840" y="2695680"/>
            <a:chExt cx="4152960" cy="2697840"/>
          </a:xfrm>
        </p:grpSpPr>
        <p:sp>
          <p:nvSpPr>
            <p:cNvPr id="632" name=""/>
            <p:cNvSpPr/>
            <p:nvPr/>
          </p:nvSpPr>
          <p:spPr>
            <a:xfrm>
              <a:off x="1641600" y="2763720"/>
              <a:ext cx="2743200" cy="21034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3290040" y="3130560"/>
              <a:ext cx="718560" cy="1101600"/>
              <a:chOff x="3290040" y="3130560"/>
              <a:chExt cx="718560" cy="1101600"/>
            </a:xfrm>
          </p:grpSpPr>
          <p:sp>
            <p:nvSpPr>
              <p:cNvPr id="634" name=""/>
              <p:cNvSpPr/>
              <p:nvPr/>
            </p:nvSpPr>
            <p:spPr>
              <a:xfrm>
                <a:off x="3290040" y="35193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3653640" y="3130560"/>
                <a:ext cx="354960" cy="1101600"/>
                <a:chOff x="3653640" y="3130560"/>
                <a:chExt cx="354960" cy="11016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825000" y="3130560"/>
                  <a:ext cx="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3653640" y="3478680"/>
                  <a:ext cx="354960" cy="343080"/>
                  <a:chOff x="3653640" y="3478680"/>
                  <a:chExt cx="354960" cy="34308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3653640" y="3478680"/>
                    <a:ext cx="354960" cy="3430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679920" y="35712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802320" y="35712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1" name=""/>
                <p:cNvSpPr/>
                <p:nvPr/>
              </p:nvSpPr>
              <p:spPr>
                <a:xfrm flipV="1">
                  <a:off x="3825000" y="3817440"/>
                  <a:ext cx="0" cy="41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 rot="5400000">
              <a:off x="2279160" y="2949480"/>
              <a:ext cx="18756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25720" y="270180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1460160" y="3130560"/>
              <a:ext cx="603360" cy="1096560"/>
              <a:chOff x="1460160" y="3130560"/>
              <a:chExt cx="603360" cy="1096560"/>
            </a:xfrm>
          </p:grpSpPr>
          <p:sp>
            <p:nvSpPr>
              <p:cNvPr id="645" name=""/>
              <p:cNvSpPr/>
              <p:nvPr/>
            </p:nvSpPr>
            <p:spPr>
              <a:xfrm>
                <a:off x="1811520" y="3597120"/>
                <a:ext cx="25200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811520" y="3683880"/>
                <a:ext cx="245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460160" y="36054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C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935360" y="3130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935360" y="36788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1001880" y="313056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550880" y="42274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56000" y="313056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2828520" y="2949480"/>
              <a:ext cx="187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76240" y="26956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5400000">
              <a:off x="2278440" y="4047120"/>
              <a:ext cx="18900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01880" y="422748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56000" y="422748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5400000">
              <a:off x="2827800" y="4047120"/>
              <a:ext cx="18900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00960" y="45068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9960" y="450684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05000" y="31305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05000" y="42274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2741040" y="3130560"/>
              <a:ext cx="602280" cy="1096560"/>
              <a:chOff x="2741040" y="3130560"/>
              <a:chExt cx="602280" cy="1096560"/>
            </a:xfrm>
          </p:grpSpPr>
          <p:sp>
            <p:nvSpPr>
              <p:cNvPr id="664" name=""/>
              <p:cNvSpPr/>
              <p:nvPr/>
            </p:nvSpPr>
            <p:spPr>
              <a:xfrm>
                <a:off x="3091680" y="35971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091680" y="36838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741040" y="36054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15160" y="3130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215160" y="36788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1573200" y="309564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92280" y="418932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1840" y="2701800"/>
              <a:ext cx="13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8440" y="4414680"/>
              <a:ext cx="129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87680" y="50562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120" y="1909800"/>
            <a:ext cx="81057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CEM includes a simple core model, not handled by 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6172200" y="2577960"/>
          <a:ext cx="3124080" cy="104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577960"/>
                    <a:ext cx="3124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8" name=""/>
          <p:cNvGrpSpPr/>
          <p:nvPr/>
        </p:nvGrpSpPr>
        <p:grpSpPr>
          <a:xfrm>
            <a:off x="1272600" y="5011560"/>
            <a:ext cx="3111840" cy="1557360"/>
            <a:chOff x="1272600" y="5011560"/>
            <a:chExt cx="3111840" cy="1557360"/>
          </a:xfrm>
        </p:grpSpPr>
        <p:sp>
          <p:nvSpPr>
            <p:cNvPr id="679" name=""/>
            <p:cNvSpPr/>
            <p:nvPr/>
          </p:nvSpPr>
          <p:spPr>
            <a:xfrm>
              <a:off x="1344960" y="5011560"/>
              <a:ext cx="3039480" cy="1557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84840" y="503712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44960" y="5819760"/>
              <a:ext cx="30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94560" y="519984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sic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13440" y="51998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d, 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272600" y="6025320"/>
              <a:ext cx="179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anced pa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63400" y="603324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L,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816440" y="2792520"/>
            <a:ext cx="46101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16440" y="579600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16440" y="512748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16440" y="479412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16440" y="4459320"/>
            <a:ext cx="4605480" cy="1440"/>
          </a:xfrm>
          <a:prstGeom prst="line">
            <a:avLst/>
          </a:prstGeom>
          <a:ln w="1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6440" y="412596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816440" y="379404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6440" y="346068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16440" y="312732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16440" y="279252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7832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4976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405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896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120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11496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20244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2816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1372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851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2756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4246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4704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5000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374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81668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487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6202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8138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9614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0820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1854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27252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520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5148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8832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4251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16440" y="2792520"/>
            <a:ext cx="4610160" cy="30049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164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781520" y="579600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781520" y="546084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81520" y="512748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81520" y="479412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781520" y="445932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81520" y="412596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781520" y="379404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81520" y="346068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81520" y="312732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81520" y="279252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16440" y="546084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816440" y="5460840"/>
            <a:ext cx="180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6351480" y="5460840"/>
            <a:ext cx="180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7888320" y="5460840"/>
            <a:ext cx="144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572000" y="5721480"/>
            <a:ext cx="22536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92880" y="57243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668840" y="5388120"/>
            <a:ext cx="1238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93680" y="5391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08360" y="5054760"/>
            <a:ext cx="189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630680" y="5056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608360" y="472284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30680" y="4722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08360" y="438948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30680" y="4389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608360" y="405432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30680" y="4057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608360" y="372096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630680" y="3724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08360" y="3387600"/>
            <a:ext cx="189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30680" y="3389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608360" y="305280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30680" y="3056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08360" y="271944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30680" y="2722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88000" y="5891040"/>
            <a:ext cx="12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10320" y="58910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292800" y="589104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11520" y="58910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00840" y="5891040"/>
            <a:ext cx="250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14160" y="589104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306000" y="5891040"/>
            <a:ext cx="3157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319680" y="58910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88320" y="5859360"/>
            <a:ext cx="48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97320" y="5861160"/>
            <a:ext cx="42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000" y="2879640"/>
            <a:ext cx="29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Bµ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64240" y="5084640"/>
            <a:ext cx="2427120" cy="711360"/>
          </a:xfrm>
          <a:prstGeom prst="rect">
            <a:avLst/>
          </a:prstGeom>
          <a:solidFill>
            <a:srgbClr val="eaeaea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5738760" y="5237280"/>
            <a:ext cx="649440" cy="19080"/>
            <a:chOff x="5738760" y="5237280"/>
            <a:chExt cx="649440" cy="19080"/>
          </a:xfrm>
        </p:grpSpPr>
        <p:sp>
          <p:nvSpPr>
            <p:cNvPr id="772" name=""/>
            <p:cNvSpPr/>
            <p:nvPr/>
          </p:nvSpPr>
          <p:spPr>
            <a:xfrm>
              <a:off x="573876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75480" y="52372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1184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5000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8636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2452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61240" y="52372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99760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576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721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1028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4664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8336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215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5788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9604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33240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3691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6467400" y="5135400"/>
            <a:ext cx="9572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55160" y="5137200"/>
            <a:ext cx="98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5746680" y="5418000"/>
            <a:ext cx="669960" cy="20880"/>
            <a:chOff x="5746680" y="5418000"/>
            <a:chExt cx="669960" cy="20880"/>
          </a:xfrm>
        </p:grpSpPr>
        <p:sp>
          <p:nvSpPr>
            <p:cNvPr id="793" name=""/>
            <p:cNvSpPr/>
            <p:nvPr/>
          </p:nvSpPr>
          <p:spPr>
            <a:xfrm>
              <a:off x="5746680" y="5418000"/>
              <a:ext cx="1494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951520" y="5418000"/>
              <a:ext cx="190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26040" y="5418000"/>
              <a:ext cx="1494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30880" y="5418000"/>
              <a:ext cx="1764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305400" y="5418000"/>
              <a:ext cx="11124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6467400" y="5337000"/>
            <a:ext cx="1623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437160" y="5340240"/>
            <a:ext cx="1540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mulation Cd, I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419960" y="2697120"/>
            <a:ext cx="100332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404840" y="2698920"/>
            <a:ext cx="107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ak harmoni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248520" y="2970360"/>
            <a:ext cx="1925640" cy="145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99080" y="4154400"/>
            <a:ext cx="13384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568200" y="4156200"/>
            <a:ext cx="126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 reso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589960" y="3516480"/>
            <a:ext cx="108756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807040" y="3513240"/>
            <a:ext cx="71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816760" y="3678120"/>
            <a:ext cx="70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507520" y="3881520"/>
            <a:ext cx="1089000" cy="91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746680" y="5600880"/>
            <a:ext cx="66996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477120" y="5557680"/>
            <a:ext cx="1623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460560" y="5560920"/>
            <a:ext cx="975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 parame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248520" y="2957400"/>
            <a:ext cx="3192480" cy="2106720"/>
          </a:xfrm>
          <a:custGeom>
            <a:avLst/>
            <a:gdLst/>
            <a:ahLst/>
            <a:rect l="l" t="t" r="r" b="b"/>
            <a:pathLst>
              <a:path w="2011" h="1327">
                <a:moveTo>
                  <a:pt x="0" y="229"/>
                </a:moveTo>
                <a:lnTo>
                  <a:pt x="0" y="247"/>
                </a:lnTo>
                <a:lnTo>
                  <a:pt x="264" y="247"/>
                </a:lnTo>
                <a:lnTo>
                  <a:pt x="264" y="237"/>
                </a:lnTo>
                <a:lnTo>
                  <a:pt x="259" y="245"/>
                </a:lnTo>
                <a:lnTo>
                  <a:pt x="417" y="360"/>
                </a:lnTo>
                <a:lnTo>
                  <a:pt x="422" y="360"/>
                </a:lnTo>
                <a:lnTo>
                  <a:pt x="428" y="358"/>
                </a:lnTo>
                <a:lnTo>
                  <a:pt x="429" y="357"/>
                </a:lnTo>
                <a:lnTo>
                  <a:pt x="587" y="13"/>
                </a:lnTo>
                <a:lnTo>
                  <a:pt x="580" y="8"/>
                </a:lnTo>
                <a:lnTo>
                  <a:pt x="574" y="14"/>
                </a:lnTo>
                <a:lnTo>
                  <a:pt x="580" y="16"/>
                </a:lnTo>
                <a:lnTo>
                  <a:pt x="586" y="14"/>
                </a:lnTo>
                <a:lnTo>
                  <a:pt x="574" y="13"/>
                </a:lnTo>
                <a:lnTo>
                  <a:pt x="732" y="242"/>
                </a:lnTo>
                <a:lnTo>
                  <a:pt x="738" y="237"/>
                </a:lnTo>
                <a:lnTo>
                  <a:pt x="731" y="241"/>
                </a:lnTo>
                <a:lnTo>
                  <a:pt x="783" y="413"/>
                </a:lnTo>
                <a:lnTo>
                  <a:pt x="785" y="416"/>
                </a:lnTo>
                <a:lnTo>
                  <a:pt x="790" y="419"/>
                </a:lnTo>
                <a:lnTo>
                  <a:pt x="843" y="419"/>
                </a:lnTo>
                <a:lnTo>
                  <a:pt x="949" y="419"/>
                </a:lnTo>
                <a:lnTo>
                  <a:pt x="949" y="409"/>
                </a:lnTo>
                <a:lnTo>
                  <a:pt x="943" y="416"/>
                </a:lnTo>
                <a:lnTo>
                  <a:pt x="943" y="413"/>
                </a:lnTo>
                <a:lnTo>
                  <a:pt x="1048" y="699"/>
                </a:lnTo>
                <a:lnTo>
                  <a:pt x="1048" y="703"/>
                </a:lnTo>
                <a:lnTo>
                  <a:pt x="1054" y="704"/>
                </a:lnTo>
                <a:lnTo>
                  <a:pt x="1060" y="703"/>
                </a:lnTo>
                <a:lnTo>
                  <a:pt x="1061" y="699"/>
                </a:lnTo>
                <a:lnTo>
                  <a:pt x="1114" y="527"/>
                </a:lnTo>
                <a:lnTo>
                  <a:pt x="1107" y="524"/>
                </a:lnTo>
                <a:lnTo>
                  <a:pt x="1101" y="531"/>
                </a:lnTo>
                <a:lnTo>
                  <a:pt x="1107" y="532"/>
                </a:lnTo>
                <a:lnTo>
                  <a:pt x="1112" y="531"/>
                </a:lnTo>
                <a:lnTo>
                  <a:pt x="1099" y="527"/>
                </a:lnTo>
                <a:lnTo>
                  <a:pt x="1152" y="699"/>
                </a:lnTo>
                <a:lnTo>
                  <a:pt x="1153" y="703"/>
                </a:lnTo>
                <a:lnTo>
                  <a:pt x="1159" y="706"/>
                </a:lnTo>
                <a:lnTo>
                  <a:pt x="1212" y="706"/>
                </a:lnTo>
                <a:lnTo>
                  <a:pt x="1212" y="696"/>
                </a:lnTo>
                <a:lnTo>
                  <a:pt x="1206" y="703"/>
                </a:lnTo>
                <a:lnTo>
                  <a:pt x="1205" y="698"/>
                </a:lnTo>
                <a:lnTo>
                  <a:pt x="1257" y="927"/>
                </a:lnTo>
                <a:lnTo>
                  <a:pt x="1259" y="932"/>
                </a:lnTo>
                <a:lnTo>
                  <a:pt x="1265" y="934"/>
                </a:lnTo>
                <a:lnTo>
                  <a:pt x="1270" y="932"/>
                </a:lnTo>
                <a:lnTo>
                  <a:pt x="1272" y="930"/>
                </a:lnTo>
                <a:lnTo>
                  <a:pt x="1377" y="701"/>
                </a:lnTo>
                <a:lnTo>
                  <a:pt x="1370" y="696"/>
                </a:lnTo>
                <a:lnTo>
                  <a:pt x="1363" y="696"/>
                </a:lnTo>
                <a:lnTo>
                  <a:pt x="1364" y="703"/>
                </a:lnTo>
                <a:lnTo>
                  <a:pt x="1370" y="704"/>
                </a:lnTo>
                <a:lnTo>
                  <a:pt x="1376" y="703"/>
                </a:lnTo>
                <a:lnTo>
                  <a:pt x="1363" y="696"/>
                </a:lnTo>
                <a:lnTo>
                  <a:pt x="1363" y="926"/>
                </a:lnTo>
                <a:lnTo>
                  <a:pt x="1363" y="926"/>
                </a:lnTo>
                <a:lnTo>
                  <a:pt x="1364" y="932"/>
                </a:lnTo>
                <a:lnTo>
                  <a:pt x="1370" y="934"/>
                </a:lnTo>
                <a:lnTo>
                  <a:pt x="1376" y="932"/>
                </a:lnTo>
                <a:lnTo>
                  <a:pt x="1377" y="929"/>
                </a:lnTo>
                <a:lnTo>
                  <a:pt x="1430" y="757"/>
                </a:lnTo>
                <a:lnTo>
                  <a:pt x="1423" y="754"/>
                </a:lnTo>
                <a:lnTo>
                  <a:pt x="1417" y="760"/>
                </a:lnTo>
                <a:lnTo>
                  <a:pt x="1423" y="762"/>
                </a:lnTo>
                <a:lnTo>
                  <a:pt x="1428" y="760"/>
                </a:lnTo>
                <a:lnTo>
                  <a:pt x="1417" y="758"/>
                </a:lnTo>
                <a:lnTo>
                  <a:pt x="1469" y="873"/>
                </a:lnTo>
                <a:lnTo>
                  <a:pt x="1469" y="875"/>
                </a:lnTo>
                <a:lnTo>
                  <a:pt x="1475" y="876"/>
                </a:lnTo>
                <a:lnTo>
                  <a:pt x="1481" y="875"/>
                </a:lnTo>
                <a:lnTo>
                  <a:pt x="1484" y="868"/>
                </a:lnTo>
                <a:lnTo>
                  <a:pt x="1484" y="811"/>
                </a:lnTo>
                <a:lnTo>
                  <a:pt x="1475" y="811"/>
                </a:lnTo>
                <a:lnTo>
                  <a:pt x="1469" y="817"/>
                </a:lnTo>
                <a:lnTo>
                  <a:pt x="1475" y="819"/>
                </a:lnTo>
                <a:lnTo>
                  <a:pt x="1481" y="817"/>
                </a:lnTo>
                <a:lnTo>
                  <a:pt x="1469" y="816"/>
                </a:lnTo>
                <a:lnTo>
                  <a:pt x="1575" y="988"/>
                </a:lnTo>
                <a:lnTo>
                  <a:pt x="1575" y="989"/>
                </a:lnTo>
                <a:lnTo>
                  <a:pt x="1581" y="991"/>
                </a:lnTo>
                <a:lnTo>
                  <a:pt x="1586" y="989"/>
                </a:lnTo>
                <a:lnTo>
                  <a:pt x="1639" y="932"/>
                </a:lnTo>
                <a:lnTo>
                  <a:pt x="1633" y="926"/>
                </a:lnTo>
                <a:lnTo>
                  <a:pt x="1633" y="935"/>
                </a:lnTo>
                <a:lnTo>
                  <a:pt x="1686" y="935"/>
                </a:lnTo>
                <a:lnTo>
                  <a:pt x="1686" y="926"/>
                </a:lnTo>
                <a:lnTo>
                  <a:pt x="1680" y="930"/>
                </a:lnTo>
                <a:lnTo>
                  <a:pt x="1733" y="1045"/>
                </a:lnTo>
                <a:lnTo>
                  <a:pt x="1733" y="1047"/>
                </a:lnTo>
                <a:lnTo>
                  <a:pt x="1739" y="1048"/>
                </a:lnTo>
                <a:lnTo>
                  <a:pt x="1744" y="1047"/>
                </a:lnTo>
                <a:lnTo>
                  <a:pt x="1746" y="1044"/>
                </a:lnTo>
                <a:lnTo>
                  <a:pt x="1799" y="872"/>
                </a:lnTo>
                <a:lnTo>
                  <a:pt x="1791" y="868"/>
                </a:lnTo>
                <a:lnTo>
                  <a:pt x="1785" y="875"/>
                </a:lnTo>
                <a:lnTo>
                  <a:pt x="1791" y="876"/>
                </a:lnTo>
                <a:lnTo>
                  <a:pt x="1797" y="875"/>
                </a:lnTo>
                <a:lnTo>
                  <a:pt x="1784" y="870"/>
                </a:lnTo>
                <a:lnTo>
                  <a:pt x="1837" y="1099"/>
                </a:lnTo>
                <a:lnTo>
                  <a:pt x="1838" y="1104"/>
                </a:lnTo>
                <a:lnTo>
                  <a:pt x="1844" y="1106"/>
                </a:lnTo>
                <a:lnTo>
                  <a:pt x="1850" y="1104"/>
                </a:lnTo>
                <a:lnTo>
                  <a:pt x="1851" y="1103"/>
                </a:lnTo>
                <a:lnTo>
                  <a:pt x="1904" y="988"/>
                </a:lnTo>
                <a:lnTo>
                  <a:pt x="1897" y="983"/>
                </a:lnTo>
                <a:lnTo>
                  <a:pt x="1891" y="989"/>
                </a:lnTo>
                <a:lnTo>
                  <a:pt x="1897" y="991"/>
                </a:lnTo>
                <a:lnTo>
                  <a:pt x="1902" y="989"/>
                </a:lnTo>
                <a:lnTo>
                  <a:pt x="1889" y="986"/>
                </a:lnTo>
                <a:lnTo>
                  <a:pt x="1942" y="1158"/>
                </a:lnTo>
                <a:lnTo>
                  <a:pt x="1943" y="1160"/>
                </a:lnTo>
                <a:lnTo>
                  <a:pt x="1996" y="1275"/>
                </a:lnTo>
                <a:lnTo>
                  <a:pt x="2002" y="1270"/>
                </a:lnTo>
                <a:lnTo>
                  <a:pt x="1995" y="1270"/>
                </a:lnTo>
                <a:lnTo>
                  <a:pt x="1995" y="1327"/>
                </a:lnTo>
                <a:lnTo>
                  <a:pt x="2011" y="1327"/>
                </a:lnTo>
                <a:lnTo>
                  <a:pt x="2011" y="1270"/>
                </a:lnTo>
                <a:lnTo>
                  <a:pt x="2009" y="1270"/>
                </a:lnTo>
                <a:lnTo>
                  <a:pt x="2009" y="1267"/>
                </a:lnTo>
                <a:lnTo>
                  <a:pt x="1957" y="1152"/>
                </a:lnTo>
                <a:lnTo>
                  <a:pt x="1949" y="1155"/>
                </a:lnTo>
                <a:lnTo>
                  <a:pt x="1957" y="1154"/>
                </a:lnTo>
                <a:lnTo>
                  <a:pt x="1904" y="981"/>
                </a:lnTo>
                <a:lnTo>
                  <a:pt x="1902" y="977"/>
                </a:lnTo>
                <a:lnTo>
                  <a:pt x="1897" y="975"/>
                </a:lnTo>
                <a:lnTo>
                  <a:pt x="1891" y="977"/>
                </a:lnTo>
                <a:lnTo>
                  <a:pt x="1891" y="980"/>
                </a:lnTo>
                <a:lnTo>
                  <a:pt x="1838" y="1095"/>
                </a:lnTo>
                <a:lnTo>
                  <a:pt x="1850" y="1091"/>
                </a:lnTo>
                <a:lnTo>
                  <a:pt x="1844" y="1090"/>
                </a:lnTo>
                <a:lnTo>
                  <a:pt x="1838" y="1091"/>
                </a:lnTo>
                <a:lnTo>
                  <a:pt x="1844" y="1098"/>
                </a:lnTo>
                <a:lnTo>
                  <a:pt x="1851" y="1096"/>
                </a:lnTo>
                <a:lnTo>
                  <a:pt x="1799" y="867"/>
                </a:lnTo>
                <a:lnTo>
                  <a:pt x="1797" y="862"/>
                </a:lnTo>
                <a:lnTo>
                  <a:pt x="1791" y="860"/>
                </a:lnTo>
                <a:lnTo>
                  <a:pt x="1785" y="862"/>
                </a:lnTo>
                <a:lnTo>
                  <a:pt x="1784" y="868"/>
                </a:lnTo>
                <a:lnTo>
                  <a:pt x="1784" y="867"/>
                </a:lnTo>
                <a:lnTo>
                  <a:pt x="1731" y="1039"/>
                </a:lnTo>
                <a:lnTo>
                  <a:pt x="1744" y="1034"/>
                </a:lnTo>
                <a:lnTo>
                  <a:pt x="1739" y="1032"/>
                </a:lnTo>
                <a:lnTo>
                  <a:pt x="1733" y="1034"/>
                </a:lnTo>
                <a:lnTo>
                  <a:pt x="1731" y="1040"/>
                </a:lnTo>
                <a:lnTo>
                  <a:pt x="1739" y="1040"/>
                </a:lnTo>
                <a:lnTo>
                  <a:pt x="1746" y="1037"/>
                </a:lnTo>
                <a:lnTo>
                  <a:pt x="1693" y="922"/>
                </a:lnTo>
                <a:lnTo>
                  <a:pt x="1692" y="919"/>
                </a:lnTo>
                <a:lnTo>
                  <a:pt x="1686" y="918"/>
                </a:lnTo>
                <a:lnTo>
                  <a:pt x="1633" y="918"/>
                </a:lnTo>
                <a:lnTo>
                  <a:pt x="1633" y="918"/>
                </a:lnTo>
                <a:lnTo>
                  <a:pt x="1627" y="919"/>
                </a:lnTo>
                <a:lnTo>
                  <a:pt x="1575" y="977"/>
                </a:lnTo>
                <a:lnTo>
                  <a:pt x="1586" y="977"/>
                </a:lnTo>
                <a:lnTo>
                  <a:pt x="1581" y="975"/>
                </a:lnTo>
                <a:lnTo>
                  <a:pt x="1581" y="983"/>
                </a:lnTo>
                <a:lnTo>
                  <a:pt x="1586" y="978"/>
                </a:lnTo>
                <a:lnTo>
                  <a:pt x="1481" y="806"/>
                </a:lnTo>
                <a:lnTo>
                  <a:pt x="1481" y="805"/>
                </a:lnTo>
                <a:lnTo>
                  <a:pt x="1475" y="803"/>
                </a:lnTo>
                <a:lnTo>
                  <a:pt x="1469" y="805"/>
                </a:lnTo>
                <a:lnTo>
                  <a:pt x="1468" y="811"/>
                </a:lnTo>
                <a:lnTo>
                  <a:pt x="1468" y="811"/>
                </a:lnTo>
                <a:lnTo>
                  <a:pt x="1468" y="868"/>
                </a:lnTo>
                <a:lnTo>
                  <a:pt x="1481" y="862"/>
                </a:lnTo>
                <a:lnTo>
                  <a:pt x="1475" y="860"/>
                </a:lnTo>
                <a:lnTo>
                  <a:pt x="1469" y="862"/>
                </a:lnTo>
                <a:lnTo>
                  <a:pt x="1468" y="868"/>
                </a:lnTo>
                <a:lnTo>
                  <a:pt x="1475" y="868"/>
                </a:lnTo>
                <a:lnTo>
                  <a:pt x="1483" y="865"/>
                </a:lnTo>
                <a:lnTo>
                  <a:pt x="1430" y="750"/>
                </a:lnTo>
                <a:lnTo>
                  <a:pt x="1428" y="747"/>
                </a:lnTo>
                <a:lnTo>
                  <a:pt x="1423" y="746"/>
                </a:lnTo>
                <a:lnTo>
                  <a:pt x="1417" y="747"/>
                </a:lnTo>
                <a:lnTo>
                  <a:pt x="1415" y="754"/>
                </a:lnTo>
                <a:lnTo>
                  <a:pt x="1415" y="752"/>
                </a:lnTo>
                <a:lnTo>
                  <a:pt x="1363" y="924"/>
                </a:lnTo>
                <a:lnTo>
                  <a:pt x="1377" y="926"/>
                </a:lnTo>
                <a:lnTo>
                  <a:pt x="1376" y="919"/>
                </a:lnTo>
                <a:lnTo>
                  <a:pt x="1370" y="918"/>
                </a:lnTo>
                <a:lnTo>
                  <a:pt x="1364" y="919"/>
                </a:lnTo>
                <a:lnTo>
                  <a:pt x="1363" y="926"/>
                </a:lnTo>
                <a:lnTo>
                  <a:pt x="1370" y="926"/>
                </a:lnTo>
                <a:lnTo>
                  <a:pt x="1379" y="926"/>
                </a:lnTo>
                <a:lnTo>
                  <a:pt x="1379" y="696"/>
                </a:lnTo>
                <a:lnTo>
                  <a:pt x="1377" y="696"/>
                </a:lnTo>
                <a:lnTo>
                  <a:pt x="1376" y="690"/>
                </a:lnTo>
                <a:lnTo>
                  <a:pt x="1370" y="688"/>
                </a:lnTo>
                <a:lnTo>
                  <a:pt x="1364" y="690"/>
                </a:lnTo>
                <a:lnTo>
                  <a:pt x="1364" y="693"/>
                </a:lnTo>
                <a:lnTo>
                  <a:pt x="1259" y="922"/>
                </a:lnTo>
                <a:lnTo>
                  <a:pt x="1270" y="919"/>
                </a:lnTo>
                <a:lnTo>
                  <a:pt x="1265" y="918"/>
                </a:lnTo>
                <a:lnTo>
                  <a:pt x="1259" y="919"/>
                </a:lnTo>
                <a:lnTo>
                  <a:pt x="1265" y="926"/>
                </a:lnTo>
                <a:lnTo>
                  <a:pt x="1272" y="924"/>
                </a:lnTo>
                <a:lnTo>
                  <a:pt x="1219" y="695"/>
                </a:lnTo>
                <a:lnTo>
                  <a:pt x="1218" y="690"/>
                </a:lnTo>
                <a:lnTo>
                  <a:pt x="1212" y="688"/>
                </a:lnTo>
                <a:lnTo>
                  <a:pt x="1159" y="688"/>
                </a:lnTo>
                <a:lnTo>
                  <a:pt x="1165" y="690"/>
                </a:lnTo>
                <a:lnTo>
                  <a:pt x="1159" y="696"/>
                </a:lnTo>
                <a:lnTo>
                  <a:pt x="1167" y="695"/>
                </a:lnTo>
                <a:lnTo>
                  <a:pt x="1114" y="523"/>
                </a:lnTo>
                <a:lnTo>
                  <a:pt x="1112" y="518"/>
                </a:lnTo>
                <a:lnTo>
                  <a:pt x="1107" y="516"/>
                </a:lnTo>
                <a:lnTo>
                  <a:pt x="1101" y="518"/>
                </a:lnTo>
                <a:lnTo>
                  <a:pt x="1099" y="524"/>
                </a:lnTo>
                <a:lnTo>
                  <a:pt x="1099" y="523"/>
                </a:lnTo>
                <a:lnTo>
                  <a:pt x="1047" y="695"/>
                </a:lnTo>
                <a:lnTo>
                  <a:pt x="1060" y="690"/>
                </a:lnTo>
                <a:lnTo>
                  <a:pt x="1054" y="688"/>
                </a:lnTo>
                <a:lnTo>
                  <a:pt x="1048" y="690"/>
                </a:lnTo>
                <a:lnTo>
                  <a:pt x="1047" y="696"/>
                </a:lnTo>
                <a:lnTo>
                  <a:pt x="1054" y="696"/>
                </a:lnTo>
                <a:lnTo>
                  <a:pt x="1061" y="693"/>
                </a:lnTo>
                <a:lnTo>
                  <a:pt x="956" y="406"/>
                </a:lnTo>
                <a:lnTo>
                  <a:pt x="954" y="403"/>
                </a:lnTo>
                <a:lnTo>
                  <a:pt x="949" y="401"/>
                </a:lnTo>
                <a:lnTo>
                  <a:pt x="843" y="401"/>
                </a:lnTo>
                <a:lnTo>
                  <a:pt x="790" y="401"/>
                </a:lnTo>
                <a:lnTo>
                  <a:pt x="796" y="403"/>
                </a:lnTo>
                <a:lnTo>
                  <a:pt x="790" y="409"/>
                </a:lnTo>
                <a:lnTo>
                  <a:pt x="798" y="408"/>
                </a:lnTo>
                <a:lnTo>
                  <a:pt x="745" y="236"/>
                </a:lnTo>
                <a:lnTo>
                  <a:pt x="744" y="233"/>
                </a:lnTo>
                <a:lnTo>
                  <a:pt x="586" y="3"/>
                </a:lnTo>
                <a:lnTo>
                  <a:pt x="586" y="2"/>
                </a:lnTo>
                <a:lnTo>
                  <a:pt x="580" y="0"/>
                </a:lnTo>
                <a:lnTo>
                  <a:pt x="574" y="2"/>
                </a:lnTo>
                <a:lnTo>
                  <a:pt x="574" y="5"/>
                </a:lnTo>
                <a:lnTo>
                  <a:pt x="416" y="349"/>
                </a:lnTo>
                <a:lnTo>
                  <a:pt x="422" y="344"/>
                </a:lnTo>
                <a:lnTo>
                  <a:pt x="416" y="346"/>
                </a:lnTo>
                <a:lnTo>
                  <a:pt x="422" y="352"/>
                </a:lnTo>
                <a:lnTo>
                  <a:pt x="426" y="346"/>
                </a:lnTo>
                <a:lnTo>
                  <a:pt x="268" y="231"/>
                </a:lnTo>
                <a:lnTo>
                  <a:pt x="264" y="229"/>
                </a:lnTo>
                <a:lnTo>
                  <a:pt x="0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242040" y="2970360"/>
            <a:ext cx="3191040" cy="2073240"/>
            <a:chOff x="6242040" y="2970360"/>
            <a:chExt cx="3191040" cy="2073240"/>
          </a:xfrm>
        </p:grpSpPr>
        <p:grpSp>
          <p:nvGrpSpPr>
            <p:cNvPr id="814" name=""/>
            <p:cNvGrpSpPr/>
            <p:nvPr/>
          </p:nvGrpSpPr>
          <p:grpSpPr>
            <a:xfrm>
              <a:off x="6242040" y="2970360"/>
              <a:ext cx="2286000" cy="1466640"/>
              <a:chOff x="6242040" y="2970360"/>
              <a:chExt cx="2286000" cy="1466640"/>
            </a:xfrm>
          </p:grpSpPr>
          <p:sp>
            <p:nvSpPr>
              <p:cNvPr id="815" name=""/>
              <p:cNvSpPr/>
              <p:nvPr/>
            </p:nvSpPr>
            <p:spPr>
              <a:xfrm>
                <a:off x="6242040" y="3597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3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26256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1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286680" y="3549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308640" y="35244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32400" y="34988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356520" y="3473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78480" y="34480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02240" y="342252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26360" y="3397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48320" y="3371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469200" y="33498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92960" y="33289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504120" y="33624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516720" y="3395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529320" y="3427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541920" y="3460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553080" y="3494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64240" y="35258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576840" y="355932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589800" y="35924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602400" y="3625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613560" y="3657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624720" y="3691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637320" y="3724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51720" y="37558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62880" y="3772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676920" y="3741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692760" y="370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707160" y="3678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719760" y="36450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734160" y="3614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750000" y="3581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764400" y="355140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778800" y="3519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792840" y="34894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08680" y="3456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823080" y="3425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832440" y="34434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838920" y="3476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848640" y="3511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854760" y="35449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864480" y="3579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872400" y="3614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878520" y="36482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888240" y="3683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894360" y="37162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04080" y="3751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10560" y="37767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23160" y="3741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32520" y="370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40440" y="367524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953400" y="36399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7"/>
                    </a:moveTo>
                    <a:lnTo>
                      <a:pt x="1" y="10"/>
                    </a:lnTo>
                    <a:lnTo>
                      <a:pt x="4" y="13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1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962760" y="3606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7"/>
                    </a:move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97392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83280" y="3541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994440" y="3506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04160" y="3473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13520" y="3440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024680" y="34084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8"/>
                    </a:lnTo>
                    <a:lnTo>
                      <a:pt x="4" y="11"/>
                    </a:lnTo>
                    <a:lnTo>
                      <a:pt x="9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34040" y="337176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045200" y="3340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054920" y="3306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066080" y="32716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075440" y="3238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85160" y="3205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95960" y="31719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105680" y="31370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118280" y="3103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126200" y="30718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4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139160" y="3035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148520" y="3003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56440" y="29703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165800" y="2987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74080" y="30211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80200" y="3056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88120" y="3090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194600" y="3124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201080" y="31590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209000" y="31957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15120" y="3227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221600" y="326376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229520" y="3298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236000" y="33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243920" y="3367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250040" y="3402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256520" y="34354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264440" y="3470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270920" y="3506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278840" y="3538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28496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291440" y="3610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299360" y="3643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308720" y="3678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315200" y="37130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321680" y="3746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329600" y="3780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334280" y="3743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7"/>
                    </a:moveTo>
                    <a:lnTo>
                      <a:pt x="1" y="10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340760" y="3711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346880" y="367524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54800" y="36399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359480" y="36050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365960" y="3571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373880" y="3537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380360" y="3502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385040" y="3465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391520" y="34322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399440" y="3397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405560" y="33624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410600" y="33274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6"/>
                    </a:moveTo>
                    <a:lnTo>
                      <a:pt x="1" y="9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1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21400" y="33577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431120" y="3389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440480" y="3422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451640" y="34574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461360" y="3490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472520" y="35244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481880" y="35575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494480" y="3592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12120" y="35798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535880" y="3554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559640" y="3529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580160" y="35114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6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596360" y="3544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10400" y="3576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24800" y="3606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2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40640" y="36399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55040" y="3670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72320" y="36781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93200" y="36561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716960" y="3630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40720" y="3605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756560" y="36226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72400" y="3656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786800" y="368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800840" y="37195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6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815240" y="3749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831080" y="3781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845480" y="3811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858080" y="38448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872480" y="3875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888320" y="3908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902720" y="3938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918560" y="39560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942320" y="39304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966080" y="3905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988400" y="3881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005680" y="3890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"/>
                    </a:moveTo>
                    <a:lnTo>
                      <a:pt x="5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02152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035920" y="395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2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048520" y="3986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066160" y="401940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078760" y="4049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101080" y="4032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123400" y="4006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147160" y="3981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167680" y="3971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177040" y="400536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186760" y="4037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197920" y="4073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207280" y="41054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218440" y="41385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228160" y="4173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238960" y="42069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248680" y="42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256600" y="41972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264520" y="41641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272440" y="4129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278920" y="40957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288280" y="4060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294760" y="40244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7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304120" y="39924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4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312040" y="395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31852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327880" y="38876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334360" y="38908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34408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352000" y="39592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358120" y="3992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367840" y="40273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373960" y="4060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383680" y="40957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389800" y="4130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397720" y="416412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407440" y="4199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413920" y="42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16800" y="42037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416800" y="41688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416800" y="41338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416800" y="40989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416800" y="40622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420040" y="40798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429760" y="41133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439120" y="4148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448840" y="4181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458200" y="42163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467560" y="42498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477280" y="42847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483760" y="43178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493120" y="43527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502480" y="43862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510760" y="44197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3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8520120" y="445464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529480" y="448776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537400" y="452268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545680" y="45561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555040" y="45910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564400" y="462456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574120" y="4659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583480" y="46893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89960" y="4654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7880" y="4621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605800" y="458640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613720" y="4551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623440" y="4518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629560" y="4483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637480" y="4449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45400" y="44146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653320" y="4381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663040" y="4346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667720" y="43434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67720" y="4378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667720" y="441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667720" y="4449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667720" y="4484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667720" y="4521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667720" y="45561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667720" y="4591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667720" y="4627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667720" y="46623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667720" y="4697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667720" y="4732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667720" y="4768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674200" y="4764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688240" y="4732200"/>
              <a:ext cx="1620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2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704440" y="4700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718480" y="4670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4" y="11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731080" y="463716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2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748720" y="4603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763120" y="4573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775720" y="454032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2" y="2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9" y="4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79012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2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80596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820000" y="4446720"/>
              <a:ext cx="1620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834400" y="4421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834400" y="44578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834400" y="4492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834400" y="4527720"/>
              <a:ext cx="15840" cy="18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834400" y="4564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834400" y="4599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834400" y="4633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834400" y="4670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834400" y="47052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83440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834400" y="47768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839080" y="4753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84412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85024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85816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864640" y="4616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869320" y="45813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875800" y="4546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88372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889840" y="447840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894880" y="4441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901000" y="44067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908920" y="4371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915400" y="43387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920080" y="43513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926560" y="438624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934480" y="44197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940960" y="4454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945640" y="4491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951760" y="45259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959680" y="455940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966160" y="45943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970840" y="4629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978760" y="4664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985240" y="4697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991720" y="473220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7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996400" y="476892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9004320" y="4761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9009000" y="4727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13680" y="469260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016920" y="46576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4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021600" y="462132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5"/>
                  </a:move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9026640" y="4586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031320" y="4551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9036000" y="45147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7"/>
                  </a:move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039240" y="4483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8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043920" y="4446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9047160" y="441180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051840" y="4376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056520" y="434196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061560" y="430524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9066240" y="42703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9070920" y="42372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9075600" y="42022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9080640" y="4167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9085320" y="4159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090000" y="4194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9094680" y="4229280"/>
              <a:ext cx="15840" cy="18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9099720" y="4265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104400" y="4297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7"/>
                  </a:moveTo>
                  <a:lnTo>
                    <a:pt x="8" y="4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109080" y="43340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5" y="11"/>
                  </a:lnTo>
                  <a:lnTo>
                    <a:pt x="8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9112320" y="43689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9117000" y="4403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7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9121680" y="444024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9126360" y="447516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913140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9136080" y="4543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9140760" y="4578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9145440" y="461484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915048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915516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915984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9164520" y="47563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169560" y="47768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8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17568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9182160" y="47052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186840" y="46702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9194760" y="46371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9201240" y="4602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2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9207360" y="45655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9212400" y="45306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220320" y="4497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9226440" y="4462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9234360" y="4427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9237600" y="43941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9245520" y="43592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9252000" y="4330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9252000" y="4365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9252000" y="4402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9252000" y="4437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9252000" y="4471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9252000" y="4508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9252000" y="4543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9252000" y="4578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252000" y="4614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25200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925200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925200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9252000" y="47563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9252000" y="4773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6136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67840" y="47052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77200" y="46702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9285120" y="463716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291600" y="4602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9301320" y="4568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307440" y="453384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317160" y="4497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325080" y="4465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331200" y="4429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336240" y="44416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336240" y="4478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9336240" y="45133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9336240" y="4548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336240" y="45831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9336240" y="46195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336240" y="4654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9336240" y="4689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356760" y="4667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2" y="2"/>
                  </a:moveTo>
                  <a:lnTo>
                    <a:pt x="0" y="6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380520" y="4641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9402840" y="461628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2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9416880" y="461160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9410760" y="4645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9402840" y="46800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9396360" y="4714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391680" y="47480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9385200" y="4782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7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9377280" y="48196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9371160" y="48546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9366120" y="4888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9360000" y="4923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9352080" y="4957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9345600" y="49942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9340920" y="50259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6242040" y="2957400"/>
            <a:ext cx="3068640" cy="2665440"/>
            <a:chOff x="6242040" y="2957400"/>
            <a:chExt cx="3068640" cy="2665440"/>
          </a:xfrm>
        </p:grpSpPr>
        <p:sp>
          <p:nvSpPr>
            <p:cNvPr id="1192" name=""/>
            <p:cNvSpPr/>
            <p:nvPr/>
          </p:nvSpPr>
          <p:spPr>
            <a:xfrm>
              <a:off x="6242040" y="3549600"/>
              <a:ext cx="174600" cy="15876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0" y="87"/>
                  </a:moveTo>
                  <a:lnTo>
                    <a:pt x="10" y="100"/>
                  </a:lnTo>
                  <a:lnTo>
                    <a:pt x="110" y="13"/>
                  </a:lnTo>
                  <a:lnTo>
                    <a:pt x="99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461280" y="34815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9"/>
                  </a:moveTo>
                  <a:lnTo>
                    <a:pt x="10" y="22"/>
                  </a:lnTo>
                  <a:lnTo>
                    <a:pt x="23" y="13"/>
                  </a:lnTo>
                  <a:lnTo>
                    <a:pt x="1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539040" y="3321000"/>
              <a:ext cx="164880" cy="12708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0" y="67"/>
                  </a:moveTo>
                  <a:lnTo>
                    <a:pt x="11" y="80"/>
                  </a:lnTo>
                  <a:lnTo>
                    <a:pt x="87" y="15"/>
                  </a:lnTo>
                  <a:lnTo>
                    <a:pt x="81" y="8"/>
                  </a:lnTo>
                  <a:lnTo>
                    <a:pt x="75" y="15"/>
                  </a:lnTo>
                  <a:lnTo>
                    <a:pt x="81" y="16"/>
                  </a:lnTo>
                  <a:lnTo>
                    <a:pt x="75" y="13"/>
                  </a:lnTo>
                  <a:lnTo>
                    <a:pt x="91" y="43"/>
                  </a:lnTo>
                  <a:lnTo>
                    <a:pt x="104" y="35"/>
                  </a:lnTo>
                  <a:lnTo>
                    <a:pt x="88" y="5"/>
                  </a:lnTo>
                  <a:lnTo>
                    <a:pt x="87" y="2"/>
                  </a:lnTo>
                  <a:lnTo>
                    <a:pt x="81" y="0"/>
                  </a:lnTo>
                  <a:lnTo>
                    <a:pt x="76" y="2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723000" y="344808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3" y="0"/>
                  </a:moveTo>
                  <a:lnTo>
                    <a:pt x="0" y="8"/>
                  </a:lnTo>
                  <a:lnTo>
                    <a:pt x="9" y="24"/>
                  </a:lnTo>
                  <a:lnTo>
                    <a:pt x="22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77000" y="354492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13" y="0"/>
                  </a:moveTo>
                  <a:lnTo>
                    <a:pt x="0" y="8"/>
                  </a:lnTo>
                  <a:lnTo>
                    <a:pt x="65" y="127"/>
                  </a:lnTo>
                  <a:lnTo>
                    <a:pt x="79" y="1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913440" y="3733920"/>
              <a:ext cx="3204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6"/>
                  </a:moveTo>
                  <a:lnTo>
                    <a:pt x="14" y="21"/>
                  </a:lnTo>
                  <a:lnTo>
                    <a:pt x="20" y="5"/>
                  </a:lnTo>
                  <a:lnTo>
                    <a:pt x="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945480" y="3443400"/>
              <a:ext cx="88560" cy="218880"/>
            </a:xfrm>
            <a:custGeom>
              <a:avLst/>
              <a:gdLst/>
              <a:ahLst/>
              <a:rect l="l" t="t" r="r" b="b"/>
              <a:pathLst>
                <a:path w="56" h="138">
                  <a:moveTo>
                    <a:pt x="0" y="134"/>
                  </a:moveTo>
                  <a:lnTo>
                    <a:pt x="15" y="138"/>
                  </a:lnTo>
                  <a:lnTo>
                    <a:pt x="56" y="5"/>
                  </a:lnTo>
                  <a:lnTo>
                    <a:pt x="41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35840" y="334008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5"/>
                  </a:moveTo>
                  <a:lnTo>
                    <a:pt x="15" y="20"/>
                  </a:lnTo>
                  <a:lnTo>
                    <a:pt x="19" y="4"/>
                  </a:lnTo>
                  <a:lnTo>
                    <a:pt x="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066080" y="3048120"/>
              <a:ext cx="88920" cy="21744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0" y="133"/>
                  </a:moveTo>
                  <a:lnTo>
                    <a:pt x="15" y="137"/>
                  </a:lnTo>
                  <a:lnTo>
                    <a:pt x="56" y="5"/>
                  </a:lnTo>
                  <a:lnTo>
                    <a:pt x="41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56440" y="2957400"/>
              <a:ext cx="3168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6"/>
                  </a:moveTo>
                  <a:lnTo>
                    <a:pt x="15" y="11"/>
                  </a:lnTo>
                  <a:lnTo>
                    <a:pt x="15" y="11"/>
                  </a:lnTo>
                  <a:lnTo>
                    <a:pt x="8" y="8"/>
                  </a:lnTo>
                  <a:lnTo>
                    <a:pt x="2" y="14"/>
                  </a:lnTo>
                  <a:lnTo>
                    <a:pt x="8" y="16"/>
                  </a:lnTo>
                  <a:lnTo>
                    <a:pt x="14" y="14"/>
                  </a:lnTo>
                  <a:lnTo>
                    <a:pt x="0" y="11"/>
                  </a:lnTo>
                  <a:lnTo>
                    <a:pt x="5" y="25"/>
                  </a:lnTo>
                  <a:lnTo>
                    <a:pt x="20" y="21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189920" y="3068640"/>
              <a:ext cx="85680" cy="220680"/>
            </a:xfrm>
            <a:custGeom>
              <a:avLst/>
              <a:gdLst/>
              <a:ahLst/>
              <a:rect l="l" t="t" r="r" b="b"/>
              <a:pathLst>
                <a:path w="54" h="139">
                  <a:moveTo>
                    <a:pt x="15" y="0"/>
                  </a:moveTo>
                  <a:lnTo>
                    <a:pt x="0" y="5"/>
                  </a:lnTo>
                  <a:lnTo>
                    <a:pt x="39" y="139"/>
                  </a:lnTo>
                  <a:lnTo>
                    <a:pt x="54" y="13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278840" y="335916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0"/>
                  </a:moveTo>
                  <a:lnTo>
                    <a:pt x="0" y="5"/>
                  </a:lnTo>
                  <a:lnTo>
                    <a:pt x="4" y="23"/>
                  </a:lnTo>
                  <a:lnTo>
                    <a:pt x="19" y="1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10520" y="3465360"/>
              <a:ext cx="88920" cy="21780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15" y="0"/>
                  </a:moveTo>
                  <a:lnTo>
                    <a:pt x="0" y="5"/>
                  </a:lnTo>
                  <a:lnTo>
                    <a:pt x="41" y="137"/>
                  </a:lnTo>
                  <a:lnTo>
                    <a:pt x="56" y="1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99440" y="37558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0"/>
                  </a:moveTo>
                  <a:lnTo>
                    <a:pt x="0" y="5"/>
                  </a:lnTo>
                  <a:lnTo>
                    <a:pt x="6" y="21"/>
                  </a:lnTo>
                  <a:lnTo>
                    <a:pt x="2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408800" y="3486240"/>
              <a:ext cx="25560" cy="22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16720" y="344016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0"/>
                  </a:moveTo>
                  <a:lnTo>
                    <a:pt x="0" y="7"/>
                  </a:lnTo>
                  <a:lnTo>
                    <a:pt x="6" y="23"/>
                  </a:lnTo>
                  <a:lnTo>
                    <a:pt x="19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454880" y="3544920"/>
              <a:ext cx="96840" cy="214200"/>
            </a:xfrm>
            <a:custGeom>
              <a:avLst/>
              <a:gdLst/>
              <a:ahLst/>
              <a:rect l="l" t="t" r="r" b="b"/>
              <a:pathLst>
                <a:path w="61" h="135">
                  <a:moveTo>
                    <a:pt x="13" y="0"/>
                  </a:moveTo>
                  <a:lnTo>
                    <a:pt x="0" y="6"/>
                  </a:lnTo>
                  <a:lnTo>
                    <a:pt x="48" y="135"/>
                  </a:lnTo>
                  <a:lnTo>
                    <a:pt x="61" y="1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559640" y="382752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5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07160" y="3638520"/>
              <a:ext cx="133560" cy="1983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16"/>
                  </a:moveTo>
                  <a:lnTo>
                    <a:pt x="12" y="125"/>
                  </a:lnTo>
                  <a:lnTo>
                    <a:pt x="84" y="9"/>
                  </a:lnTo>
                  <a:lnTo>
                    <a:pt x="72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751880" y="363996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5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18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775640" y="3749760"/>
              <a:ext cx="74520" cy="21888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4" y="0"/>
                  </a:moveTo>
                  <a:lnTo>
                    <a:pt x="0" y="3"/>
                  </a:lnTo>
                  <a:lnTo>
                    <a:pt x="32" y="138"/>
                  </a:lnTo>
                  <a:lnTo>
                    <a:pt x="47" y="1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845480" y="40449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4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17" y="1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867800" y="4154400"/>
              <a:ext cx="75960" cy="193680"/>
            </a:xfrm>
            <a:custGeom>
              <a:avLst/>
              <a:gdLst/>
              <a:ahLst/>
              <a:rect l="l" t="t" r="r" b="b"/>
              <a:pathLst>
                <a:path w="48" h="122">
                  <a:moveTo>
                    <a:pt x="15" y="0"/>
                  </a:moveTo>
                  <a:lnTo>
                    <a:pt x="0" y="3"/>
                  </a:lnTo>
                  <a:lnTo>
                    <a:pt x="27" y="116"/>
                  </a:lnTo>
                  <a:lnTo>
                    <a:pt x="28" y="121"/>
                  </a:lnTo>
                  <a:lnTo>
                    <a:pt x="34" y="122"/>
                  </a:lnTo>
                  <a:lnTo>
                    <a:pt x="40" y="121"/>
                  </a:lnTo>
                  <a:lnTo>
                    <a:pt x="41" y="118"/>
                  </a:lnTo>
                  <a:lnTo>
                    <a:pt x="48" y="94"/>
                  </a:lnTo>
                  <a:lnTo>
                    <a:pt x="34" y="89"/>
                  </a:lnTo>
                  <a:lnTo>
                    <a:pt x="27" y="113"/>
                  </a:lnTo>
                  <a:lnTo>
                    <a:pt x="40" y="108"/>
                  </a:lnTo>
                  <a:lnTo>
                    <a:pt x="34" y="106"/>
                  </a:lnTo>
                  <a:lnTo>
                    <a:pt x="28" y="108"/>
                  </a:lnTo>
                  <a:lnTo>
                    <a:pt x="27" y="114"/>
                  </a:lnTo>
                  <a:lnTo>
                    <a:pt x="34" y="114"/>
                  </a:lnTo>
                  <a:lnTo>
                    <a:pt x="41" y="1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943760" y="419112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6"/>
                  </a:moveTo>
                  <a:lnTo>
                    <a:pt x="15" y="21"/>
                  </a:lnTo>
                  <a:lnTo>
                    <a:pt x="21" y="5"/>
                  </a:lnTo>
                  <a:lnTo>
                    <a:pt x="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977240" y="4049640"/>
              <a:ext cx="9504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39"/>
                  </a:moveTo>
                  <a:lnTo>
                    <a:pt x="15" y="43"/>
                  </a:lnTo>
                  <a:lnTo>
                    <a:pt x="25" y="11"/>
                  </a:lnTo>
                  <a:lnTo>
                    <a:pt x="18" y="8"/>
                  </a:lnTo>
                  <a:lnTo>
                    <a:pt x="12" y="15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12" y="11"/>
                  </a:lnTo>
                  <a:lnTo>
                    <a:pt x="47" y="109"/>
                  </a:lnTo>
                  <a:lnTo>
                    <a:pt x="60" y="102"/>
                  </a:lnTo>
                  <a:lnTo>
                    <a:pt x="25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078760" y="42908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4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118360" y="439416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13" y="0"/>
                  </a:moveTo>
                  <a:lnTo>
                    <a:pt x="0" y="6"/>
                  </a:lnTo>
                  <a:lnTo>
                    <a:pt x="28" y="81"/>
                  </a:lnTo>
                  <a:lnTo>
                    <a:pt x="28" y="84"/>
                  </a:lnTo>
                  <a:lnTo>
                    <a:pt x="34" y="86"/>
                  </a:lnTo>
                  <a:lnTo>
                    <a:pt x="40" y="84"/>
                  </a:lnTo>
                  <a:lnTo>
                    <a:pt x="41" y="83"/>
                  </a:lnTo>
                  <a:lnTo>
                    <a:pt x="65" y="29"/>
                  </a:lnTo>
                  <a:lnTo>
                    <a:pt x="51" y="21"/>
                  </a:lnTo>
                  <a:lnTo>
                    <a:pt x="28" y="75"/>
                  </a:lnTo>
                  <a:lnTo>
                    <a:pt x="40" y="72"/>
                  </a:lnTo>
                  <a:lnTo>
                    <a:pt x="34" y="70"/>
                  </a:lnTo>
                  <a:lnTo>
                    <a:pt x="28" y="72"/>
                  </a:lnTo>
                  <a:lnTo>
                    <a:pt x="34" y="78"/>
                  </a:lnTo>
                  <a:lnTo>
                    <a:pt x="41" y="7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234280" y="43228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19"/>
                  </a:moveTo>
                  <a:lnTo>
                    <a:pt x="14" y="27"/>
                  </a:lnTo>
                  <a:lnTo>
                    <a:pt x="21" y="13"/>
                  </a:lnTo>
                  <a:lnTo>
                    <a:pt x="14" y="8"/>
                  </a:lnTo>
                  <a:lnTo>
                    <a:pt x="8" y="15"/>
                  </a:lnTo>
                  <a:lnTo>
                    <a:pt x="14" y="16"/>
                  </a:lnTo>
                  <a:lnTo>
                    <a:pt x="19" y="15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269200" y="4414680"/>
              <a:ext cx="88920" cy="21780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15" y="0"/>
                  </a:moveTo>
                  <a:lnTo>
                    <a:pt x="0" y="4"/>
                  </a:lnTo>
                  <a:lnTo>
                    <a:pt x="41" y="137"/>
                  </a:lnTo>
                  <a:lnTo>
                    <a:pt x="56" y="1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358120" y="470232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5" y="0"/>
                  </a:moveTo>
                  <a:lnTo>
                    <a:pt x="0" y="5"/>
                  </a:lnTo>
                  <a:lnTo>
                    <a:pt x="4" y="23"/>
                  </a:lnTo>
                  <a:lnTo>
                    <a:pt x="19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389800" y="4732200"/>
              <a:ext cx="47880" cy="162000"/>
            </a:xfrm>
            <a:custGeom>
              <a:avLst/>
              <a:gdLst/>
              <a:ahLst/>
              <a:rect l="l" t="t" r="r" b="b"/>
              <a:pathLst>
                <a:path w="30" h="102">
                  <a:moveTo>
                    <a:pt x="15" y="48"/>
                  </a:moveTo>
                  <a:lnTo>
                    <a:pt x="0" y="53"/>
                  </a:lnTo>
                  <a:lnTo>
                    <a:pt x="14" y="98"/>
                  </a:lnTo>
                  <a:lnTo>
                    <a:pt x="15" y="101"/>
                  </a:lnTo>
                  <a:lnTo>
                    <a:pt x="21" y="102"/>
                  </a:lnTo>
                  <a:lnTo>
                    <a:pt x="27" y="101"/>
                  </a:lnTo>
                  <a:lnTo>
                    <a:pt x="30" y="94"/>
                  </a:lnTo>
                  <a:lnTo>
                    <a:pt x="30" y="0"/>
                  </a:lnTo>
                  <a:lnTo>
                    <a:pt x="14" y="0"/>
                  </a:lnTo>
                  <a:lnTo>
                    <a:pt x="14" y="94"/>
                  </a:lnTo>
                  <a:lnTo>
                    <a:pt x="27" y="88"/>
                  </a:lnTo>
                  <a:lnTo>
                    <a:pt x="21" y="87"/>
                  </a:lnTo>
                  <a:lnTo>
                    <a:pt x="15" y="88"/>
                  </a:lnTo>
                  <a:lnTo>
                    <a:pt x="14" y="94"/>
                  </a:lnTo>
                  <a:lnTo>
                    <a:pt x="21" y="94"/>
                  </a:lnTo>
                  <a:lnTo>
                    <a:pt x="28" y="93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429760" y="4743360"/>
              <a:ext cx="2988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467560" y="4846680"/>
              <a:ext cx="96840" cy="216000"/>
            </a:xfrm>
            <a:custGeom>
              <a:avLst/>
              <a:gdLst/>
              <a:ahLst/>
              <a:rect l="l" t="t" r="r" b="b"/>
              <a:pathLst>
                <a:path w="61" h="136">
                  <a:moveTo>
                    <a:pt x="13" y="0"/>
                  </a:moveTo>
                  <a:lnTo>
                    <a:pt x="0" y="7"/>
                  </a:lnTo>
                  <a:lnTo>
                    <a:pt x="48" y="136"/>
                  </a:lnTo>
                  <a:lnTo>
                    <a:pt x="61" y="1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72680" y="513072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3" y="0"/>
                  </a:moveTo>
                  <a:lnTo>
                    <a:pt x="0" y="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11" y="24"/>
                  </a:lnTo>
                  <a:lnTo>
                    <a:pt x="17" y="22"/>
                  </a:lnTo>
                  <a:lnTo>
                    <a:pt x="20" y="19"/>
                  </a:lnTo>
                  <a:lnTo>
                    <a:pt x="8" y="6"/>
                  </a:lnTo>
                  <a:lnTo>
                    <a:pt x="5" y="9"/>
                  </a:lnTo>
                  <a:lnTo>
                    <a:pt x="17" y="9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19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639280" y="4960800"/>
              <a:ext cx="145800" cy="141480"/>
            </a:xfrm>
            <a:custGeom>
              <a:avLst/>
              <a:gdLst/>
              <a:ahLst/>
              <a:rect l="l" t="t" r="r" b="b"/>
              <a:pathLst>
                <a:path w="92" h="89">
                  <a:moveTo>
                    <a:pt x="0" y="76"/>
                  </a:moveTo>
                  <a:lnTo>
                    <a:pt x="12" y="89"/>
                  </a:lnTo>
                  <a:lnTo>
                    <a:pt x="80" y="14"/>
                  </a:lnTo>
                  <a:lnTo>
                    <a:pt x="75" y="8"/>
                  </a:lnTo>
                  <a:lnTo>
                    <a:pt x="69" y="14"/>
                  </a:lnTo>
                  <a:lnTo>
                    <a:pt x="75" y="16"/>
                  </a:lnTo>
                  <a:lnTo>
                    <a:pt x="69" y="11"/>
                  </a:lnTo>
                  <a:lnTo>
                    <a:pt x="79" y="43"/>
                  </a:lnTo>
                  <a:lnTo>
                    <a:pt x="92" y="37"/>
                  </a:lnTo>
                  <a:lnTo>
                    <a:pt x="82" y="5"/>
                  </a:lnTo>
                  <a:lnTo>
                    <a:pt x="80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94800" y="509760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831160" y="5199120"/>
              <a:ext cx="98640" cy="217440"/>
            </a:xfrm>
            <a:custGeom>
              <a:avLst/>
              <a:gdLst/>
              <a:ahLst/>
              <a:rect l="l" t="t" r="r" b="b"/>
              <a:pathLst>
                <a:path w="62" h="137">
                  <a:moveTo>
                    <a:pt x="14" y="0"/>
                  </a:moveTo>
                  <a:lnTo>
                    <a:pt x="0" y="6"/>
                  </a:lnTo>
                  <a:lnTo>
                    <a:pt x="49" y="137"/>
                  </a:lnTo>
                  <a:lnTo>
                    <a:pt x="62" y="13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940960" y="5340240"/>
              <a:ext cx="3312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6"/>
                  </a:moveTo>
                  <a:lnTo>
                    <a:pt x="13" y="24"/>
                  </a:lnTo>
                  <a:lnTo>
                    <a:pt x="21" y="8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986680" y="5234040"/>
              <a:ext cx="138240" cy="177840"/>
            </a:xfrm>
            <a:custGeom>
              <a:avLst/>
              <a:gdLst/>
              <a:ahLst/>
              <a:rect l="l" t="t" r="r" b="b"/>
              <a:pathLst>
                <a:path w="87" h="112">
                  <a:moveTo>
                    <a:pt x="0" y="19"/>
                  </a:moveTo>
                  <a:lnTo>
                    <a:pt x="14" y="27"/>
                  </a:lnTo>
                  <a:lnTo>
                    <a:pt x="21" y="13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14" y="16"/>
                  </a:lnTo>
                  <a:lnTo>
                    <a:pt x="19" y="14"/>
                  </a:lnTo>
                  <a:lnTo>
                    <a:pt x="8" y="13"/>
                  </a:lnTo>
                  <a:lnTo>
                    <a:pt x="75" y="112"/>
                  </a:lnTo>
                  <a:lnTo>
                    <a:pt x="87" y="102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9151920" y="546084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2" y="0"/>
                  </a:moveTo>
                  <a:lnTo>
                    <a:pt x="0" y="10"/>
                  </a:lnTo>
                  <a:lnTo>
                    <a:pt x="11" y="24"/>
                  </a:lnTo>
                  <a:lnTo>
                    <a:pt x="22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9212400" y="550692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12" y="27"/>
                  </a:moveTo>
                  <a:lnTo>
                    <a:pt x="0" y="37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30" y="73"/>
                  </a:lnTo>
                  <a:lnTo>
                    <a:pt x="35" y="72"/>
                  </a:lnTo>
                  <a:lnTo>
                    <a:pt x="38" y="65"/>
                  </a:lnTo>
                  <a:lnTo>
                    <a:pt x="38" y="8"/>
                  </a:lnTo>
                  <a:lnTo>
                    <a:pt x="30" y="8"/>
                  </a:lnTo>
                  <a:lnTo>
                    <a:pt x="24" y="14"/>
                  </a:lnTo>
                  <a:lnTo>
                    <a:pt x="30" y="16"/>
                  </a:lnTo>
                  <a:lnTo>
                    <a:pt x="35" y="14"/>
                  </a:lnTo>
                  <a:lnTo>
                    <a:pt x="24" y="14"/>
                  </a:lnTo>
                  <a:lnTo>
                    <a:pt x="50" y="43"/>
                  </a:lnTo>
                  <a:lnTo>
                    <a:pt x="62" y="3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65"/>
                  </a:lnTo>
                  <a:lnTo>
                    <a:pt x="35" y="59"/>
                  </a:lnTo>
                  <a:lnTo>
                    <a:pt x="30" y="57"/>
                  </a:lnTo>
                  <a:lnTo>
                    <a:pt x="24" y="59"/>
                  </a:lnTo>
                  <a:lnTo>
                    <a:pt x="22" y="65"/>
                  </a:lnTo>
                  <a:lnTo>
                    <a:pt x="30" y="65"/>
                  </a:lnTo>
                  <a:lnTo>
                    <a:pt x="35" y="61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48E-84E8-4E1D-850E-B640BBC68E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84280" y="1738440"/>
            <a:ext cx="85341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rameter determination: several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84280" y="2390760"/>
            <a:ext cx="25146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756480" y="2390760"/>
            <a:ext cx="198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735360" y="2390760"/>
            <a:ext cx="243828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5400000">
            <a:off x="1564920" y="312408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rot="5400000">
            <a:off x="7594200" y="312408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rot="5400000">
            <a:off x="4669920" y="312408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84280" y="369108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Before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03440" y="3691080"/>
            <a:ext cx="28195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Measurement set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Arial"/>
              </a:rPr>
              <a:t>After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575400" y="3635280"/>
            <a:ext cx="2543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Standard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Approxim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5262480" y="5153040"/>
            <a:ext cx="425520" cy="1185480"/>
            <a:chOff x="5262480" y="5153040"/>
            <a:chExt cx="425520" cy="1185480"/>
          </a:xfrm>
        </p:grpSpPr>
        <p:sp>
          <p:nvSpPr>
            <p:cNvPr id="1245" name=""/>
            <p:cNvSpPr/>
            <p:nvPr/>
          </p:nvSpPr>
          <p:spPr>
            <a:xfrm>
              <a:off x="5473440" y="5153040"/>
              <a:ext cx="0" cy="40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5262480" y="5558760"/>
              <a:ext cx="425520" cy="316800"/>
              <a:chOff x="5262480" y="5558760"/>
              <a:chExt cx="425520" cy="316800"/>
            </a:xfrm>
          </p:grpSpPr>
          <p:sp>
            <p:nvSpPr>
              <p:cNvPr id="1247" name=""/>
              <p:cNvSpPr/>
              <p:nvPr/>
            </p:nvSpPr>
            <p:spPr>
              <a:xfrm>
                <a:off x="5262480" y="5558760"/>
                <a:ext cx="425520" cy="316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293800" y="5644440"/>
                <a:ext cx="197640" cy="11232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96"/>
                    </a:moveTo>
                    <a:lnTo>
                      <a:pt x="96" y="96"/>
                    </a:lnTo>
                    <a:lnTo>
                      <a:pt x="96" y="0"/>
                    </a:lnTo>
                    <a:lnTo>
                      <a:pt x="144" y="96"/>
                    </a:lnTo>
                    <a:lnTo>
                      <a:pt x="192" y="9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41040" y="5644440"/>
                <a:ext cx="197640" cy="11232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96"/>
                    </a:moveTo>
                    <a:lnTo>
                      <a:pt x="96" y="96"/>
                    </a:lnTo>
                    <a:lnTo>
                      <a:pt x="96" y="0"/>
                    </a:lnTo>
                    <a:lnTo>
                      <a:pt x="144" y="96"/>
                    </a:lnTo>
                    <a:lnTo>
                      <a:pt x="192" y="9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5476680" y="5862600"/>
              <a:ext cx="0" cy="47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5688000" y="549900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qui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urrent generator 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09480" y="4937040"/>
            <a:ext cx="8128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5400000">
            <a:off x="3092400" y="5505480"/>
            <a:ext cx="187200" cy="365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005280" y="5257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19520" y="568656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368520" y="568656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rot="5400000">
            <a:off x="3641760" y="5505480"/>
            <a:ext cx="187200" cy="365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489480" y="5251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917880" y="5686560"/>
            <a:ext cx="1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4282920" y="5153040"/>
            <a:ext cx="601920" cy="1096560"/>
            <a:chOff x="4282920" y="5153040"/>
            <a:chExt cx="601920" cy="1096560"/>
          </a:xfrm>
        </p:grpSpPr>
        <p:sp>
          <p:nvSpPr>
            <p:cNvPr id="1261" name=""/>
            <p:cNvSpPr/>
            <p:nvPr/>
          </p:nvSpPr>
          <p:spPr>
            <a:xfrm>
              <a:off x="4633200" y="5619600"/>
              <a:ext cx="25164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33200" y="5706360"/>
              <a:ext cx="245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282920" y="5627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56680" y="515304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756680" y="57013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60E-0B4E-422F-B001-28D81DA7AC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14400" y="1905120"/>
            <a:ext cx="7238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dd IBIS I/O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276200" y="5235480"/>
            <a:ext cx="5610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Zsub: basically a 1-10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serial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io : decoupling capacitance for IO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O block: reuse of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914400" y="2635200"/>
            <a:ext cx="7041960" cy="2257200"/>
            <a:chOff x="914400" y="2635200"/>
            <a:chExt cx="7041960" cy="2257200"/>
          </a:xfrm>
        </p:grpSpPr>
        <p:sp>
          <p:nvSpPr>
            <p:cNvPr id="1270" name=""/>
            <p:cNvSpPr/>
            <p:nvPr/>
          </p:nvSpPr>
          <p:spPr>
            <a:xfrm>
              <a:off x="2286000" y="2788920"/>
              <a:ext cx="4114800" cy="2103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3934080" y="3155760"/>
              <a:ext cx="718560" cy="1101600"/>
              <a:chOff x="3934080" y="3155760"/>
              <a:chExt cx="718560" cy="1101600"/>
            </a:xfrm>
          </p:grpSpPr>
          <p:sp>
            <p:nvSpPr>
              <p:cNvPr id="1272" name=""/>
              <p:cNvSpPr/>
              <p:nvPr/>
            </p:nvSpPr>
            <p:spPr>
              <a:xfrm>
                <a:off x="3934080" y="35445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3" name=""/>
              <p:cNvGrpSpPr/>
              <p:nvPr/>
            </p:nvGrpSpPr>
            <p:grpSpPr>
              <a:xfrm>
                <a:off x="4297680" y="3155760"/>
                <a:ext cx="354960" cy="1101600"/>
                <a:chOff x="4297680" y="3155760"/>
                <a:chExt cx="354960" cy="110160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4469040" y="3155760"/>
                  <a:ext cx="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5" name=""/>
                <p:cNvGrpSpPr/>
                <p:nvPr/>
              </p:nvGrpSpPr>
              <p:grpSpPr>
                <a:xfrm>
                  <a:off x="4297680" y="3503880"/>
                  <a:ext cx="354960" cy="343080"/>
                  <a:chOff x="4297680" y="3503880"/>
                  <a:chExt cx="354960" cy="34308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>
                    <a:off x="4297680" y="3503880"/>
                    <a:ext cx="354960" cy="3430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43239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44463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9" name=""/>
                <p:cNvSpPr/>
                <p:nvPr/>
              </p:nvSpPr>
              <p:spPr>
                <a:xfrm flipV="1">
                  <a:off x="4469040" y="3842640"/>
                  <a:ext cx="0" cy="41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0" name=""/>
            <p:cNvSpPr/>
            <p:nvPr/>
          </p:nvSpPr>
          <p:spPr>
            <a:xfrm rot="5400000">
              <a:off x="2923560" y="2974680"/>
              <a:ext cx="18756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579760" y="263520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14400" y="2971800"/>
              <a:ext cx="100620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9913" y="10800"/>
                  </a:moveTo>
                  <a:lnTo>
                    <a:pt x="23235" y="8272"/>
                  </a:lnTo>
                </a:path>
                <a:path w="21600" h="21600">
                  <a:moveTo>
                    <a:pt x="23235" y="0"/>
                  </a:moveTo>
                  <a:lnTo>
                    <a:pt x="23235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144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5439" y="809"/>
                  </a:moveTo>
                  <a:lnTo>
                    <a:pt x="23098" y="8317"/>
                  </a:lnTo>
                </a:path>
                <a:path w="21600" h="21600">
                  <a:moveTo>
                    <a:pt x="23098" y="0"/>
                  </a:moveTo>
                  <a:lnTo>
                    <a:pt x="230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03120" y="421452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03120" y="312084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6" name=""/>
            <p:cNvGrpSpPr/>
            <p:nvPr/>
          </p:nvGrpSpPr>
          <p:grpSpPr>
            <a:xfrm>
              <a:off x="2104200" y="3155760"/>
              <a:ext cx="604080" cy="1096560"/>
              <a:chOff x="2104200" y="3155760"/>
              <a:chExt cx="604080" cy="1096560"/>
            </a:xfrm>
          </p:grpSpPr>
          <p:sp>
            <p:nvSpPr>
              <p:cNvPr id="1287" name=""/>
              <p:cNvSpPr/>
              <p:nvPr/>
            </p:nvSpPr>
            <p:spPr>
              <a:xfrm>
                <a:off x="2455920" y="3622320"/>
                <a:ext cx="25236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455920" y="3709080"/>
                <a:ext cx="245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10420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5797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5797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2" name=""/>
            <p:cNvSpPr/>
            <p:nvPr/>
          </p:nvSpPr>
          <p:spPr>
            <a:xfrm>
              <a:off x="2195280" y="31557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1952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200400" y="315576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5400000">
              <a:off x="3472920" y="2974680"/>
              <a:ext cx="187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293280" y="272700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5400000">
              <a:off x="2922840" y="4072320"/>
              <a:ext cx="18900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1952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200400" y="425268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5400000">
              <a:off x="3472200" y="4072320"/>
              <a:ext cx="18900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44280" y="453204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294000" y="4532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49400" y="31557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749400" y="42526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3385440" y="3155760"/>
              <a:ext cx="602280" cy="1096560"/>
              <a:chOff x="3385440" y="3155760"/>
              <a:chExt cx="602280" cy="1096560"/>
            </a:xfrm>
          </p:grpSpPr>
          <p:sp>
            <p:nvSpPr>
              <p:cNvPr id="1306" name=""/>
              <p:cNvSpPr/>
              <p:nvPr/>
            </p:nvSpPr>
            <p:spPr>
              <a:xfrm>
                <a:off x="373608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73608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38544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595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8595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 rot="5400000">
              <a:off x="5298480" y="3423960"/>
              <a:ext cx="923760" cy="549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89720" y="3565440"/>
              <a:ext cx="903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35400" y="3612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580720" y="3617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5670360" y="416052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670360" y="315576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5400000">
              <a:off x="4843800" y="4072320"/>
              <a:ext cx="189000" cy="3650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665240" y="45320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670360" y="425268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492600" y="419868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8580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649" y="1502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858000" y="278892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4702" y="24834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213160" y="3155760"/>
              <a:ext cx="12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02320" y="311760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4738320" y="3155760"/>
              <a:ext cx="601920" cy="1096560"/>
              <a:chOff x="4738320" y="3155760"/>
              <a:chExt cx="601920" cy="1096560"/>
            </a:xfrm>
          </p:grpSpPr>
          <p:sp>
            <p:nvSpPr>
              <p:cNvPr id="1326" name=""/>
              <p:cNvSpPr/>
              <p:nvPr/>
            </p:nvSpPr>
            <p:spPr>
              <a:xfrm>
                <a:off x="508860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8860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738320" y="3630600"/>
                <a:ext cx="47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21208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21208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5340240" y="2727000"/>
              <a:ext cx="895320" cy="1822680"/>
            </a:xfrm>
            <a:prstGeom prst="ellipse">
              <a:avLst/>
            </a:prstGeom>
            <a:noFill/>
            <a:ln w="2844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446360" y="3155760"/>
              <a:ext cx="768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271-8319-4203-BD12-31082F1C40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3520" y="1905120"/>
            <a:ext cx="7238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76200" y="6024600"/>
            <a:ext cx="832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O modify the spectrum at high frequencies (&gt;300MHz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2514600" y="1932120"/>
            <a:ext cx="6705720" cy="393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A75-95C9-4532-A3C9-98F2D1241D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6200" y="1828800"/>
            <a:ext cx="5810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. Context of th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. System design methodology for 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. The IERSET project on EMC for 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. Core emissio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. Emission model with I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6. Adaptation of emiss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7. Emission model in TE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8. Implementation of ICEM in IBIS-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9.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93D-EC04-4FA9-AE7F-4CC2B7E4D24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6. Adaptation of Emission 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3657600" y="2787480"/>
          <a:ext cx="6095880" cy="26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787480"/>
                    <a:ext cx="6095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0" name=""/>
          <p:cNvSpPr/>
          <p:nvPr/>
        </p:nvSpPr>
        <p:spPr>
          <a:xfrm>
            <a:off x="609480" y="1738440"/>
            <a:ext cx="72392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se of multiple supply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1" name=""/>
          <p:cNvGraphicFramePr/>
          <p:nvPr/>
        </p:nvGraphicFramePr>
        <p:xfrm>
          <a:off x="4952880" y="4572000"/>
          <a:ext cx="152892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572000"/>
                    <a:ext cx="1528920" cy="1371600"/>
                  </a:xfrm>
                  <a:prstGeom prst="rect">
                    <a:avLst/>
                  </a:prstGeom>
                  <a:ln w="12600">
                    <a:solidFill>
                      <a:srgbClr val="fc0128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3" name=""/>
          <p:cNvSpPr/>
          <p:nvPr/>
        </p:nvSpPr>
        <p:spPr>
          <a:xfrm>
            <a:off x="5638680" y="433872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647240" y="594288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Substrate imped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52680" y="2390760"/>
            <a:ext cx="0" cy="378144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6" name=""/>
          <p:cNvGraphicFramePr/>
          <p:nvPr/>
        </p:nvGraphicFramePr>
        <p:xfrm>
          <a:off x="1046160" y="4387680"/>
          <a:ext cx="16002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6160" y="4387680"/>
                    <a:ext cx="1600200" cy="1371600"/>
                  </a:xfrm>
                  <a:prstGeom prst="rect">
                    <a:avLst/>
                  </a:prstGeom>
                  <a:ln w="12600">
                    <a:solidFill>
                      <a:srgbClr val="00ae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790560" y="2940120"/>
          <a:ext cx="1981080" cy="13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0560" y="2940120"/>
                    <a:ext cx="1981080" cy="1315800"/>
                  </a:xfrm>
                  <a:prstGeom prst="rect">
                    <a:avLst/>
                  </a:prstGeom>
                  <a:ln w="12600">
                    <a:solidFill>
                      <a:srgbClr val="00ae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0" name=""/>
          <p:cNvSpPr/>
          <p:nvPr/>
        </p:nvSpPr>
        <p:spPr>
          <a:xfrm>
            <a:off x="718560" y="238968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Voltage Reg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947120" y="238968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Separate supply for I/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F36-7C69-4996-B25C-4C285A66FE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7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4408560" y="2860560"/>
            <a:ext cx="4987440" cy="2446560"/>
            <a:chOff x="4408560" y="2860560"/>
            <a:chExt cx="4987440" cy="2446560"/>
          </a:xfrm>
        </p:grpSpPr>
        <p:sp>
          <p:nvSpPr>
            <p:cNvPr id="1354" name=""/>
            <p:cNvSpPr/>
            <p:nvPr/>
          </p:nvSpPr>
          <p:spPr>
            <a:xfrm>
              <a:off x="7333920" y="3317760"/>
              <a:ext cx="771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ie_g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603840" y="468792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5990760" y="3861360"/>
              <a:ext cx="712800" cy="191160"/>
              <a:chOff x="5990760" y="3861360"/>
              <a:chExt cx="712800" cy="191160"/>
            </a:xfrm>
          </p:grpSpPr>
          <p:sp>
            <p:nvSpPr>
              <p:cNvPr id="1357" name=""/>
              <p:cNvSpPr/>
              <p:nvPr/>
            </p:nvSpPr>
            <p:spPr>
              <a:xfrm flipH="1" flipV="1">
                <a:off x="61693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V="1">
                <a:off x="6204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240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627516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6311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6347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63824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63475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6489720" y="3957840"/>
                <a:ext cx="213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flipV="1">
                <a:off x="5990760" y="3957840"/>
                <a:ext cx="178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7" name=""/>
            <p:cNvSpPr/>
            <p:nvPr/>
          </p:nvSpPr>
          <p:spPr>
            <a:xfrm>
              <a:off x="5883120" y="3422520"/>
              <a:ext cx="8568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6968880" y="4050000"/>
              <a:ext cx="364680" cy="639360"/>
              <a:chOff x="6968880" y="4050000"/>
              <a:chExt cx="364680" cy="639360"/>
            </a:xfrm>
          </p:grpSpPr>
          <p:sp>
            <p:nvSpPr>
              <p:cNvPr id="1369" name=""/>
              <p:cNvSpPr/>
              <p:nvPr/>
            </p:nvSpPr>
            <p:spPr>
              <a:xfrm>
                <a:off x="7151040" y="40500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151040" y="44154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68880" y="441504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968880" y="432360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5962320" y="4586760"/>
              <a:ext cx="714240" cy="193320"/>
              <a:chOff x="5962320" y="4586760"/>
              <a:chExt cx="714240" cy="193320"/>
            </a:xfrm>
          </p:grpSpPr>
          <p:sp>
            <p:nvSpPr>
              <p:cNvPr id="1374" name=""/>
              <p:cNvSpPr/>
              <p:nvPr/>
            </p:nvSpPr>
            <p:spPr>
              <a:xfrm flipH="1" flipV="1">
                <a:off x="6140880" y="4586400"/>
                <a:ext cx="142560" cy="19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617580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621216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624708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628344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631980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635472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6319800" y="4586400"/>
                <a:ext cx="142560" cy="19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6462360" y="4683960"/>
                <a:ext cx="2142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 flipV="1">
                <a:off x="5962320" y="4683960"/>
                <a:ext cx="179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5817960" y="4867200"/>
              <a:ext cx="100764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sept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4500000" y="4687920"/>
              <a:ext cx="15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6" name=""/>
            <p:cNvGrpSpPr/>
            <p:nvPr/>
          </p:nvGrpSpPr>
          <p:grpSpPr>
            <a:xfrm>
              <a:off x="5990760" y="3861360"/>
              <a:ext cx="712800" cy="191160"/>
              <a:chOff x="5990760" y="3861360"/>
              <a:chExt cx="712800" cy="191160"/>
            </a:xfrm>
          </p:grpSpPr>
          <p:sp>
            <p:nvSpPr>
              <p:cNvPr id="1387" name=""/>
              <p:cNvSpPr/>
              <p:nvPr/>
            </p:nvSpPr>
            <p:spPr>
              <a:xfrm flipH="1" flipV="1">
                <a:off x="61693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6204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6240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627516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6311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6347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63824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63475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6489720" y="3957840"/>
                <a:ext cx="213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 flipV="1">
                <a:off x="5990760" y="3957840"/>
                <a:ext cx="178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7" name=""/>
            <p:cNvSpPr/>
            <p:nvPr/>
          </p:nvSpPr>
          <p:spPr>
            <a:xfrm flipV="1">
              <a:off x="4443120" y="3668040"/>
              <a:ext cx="123480" cy="563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578120" y="393696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4500360" y="424296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0" name=""/>
            <p:cNvGrpSpPr/>
            <p:nvPr/>
          </p:nvGrpSpPr>
          <p:grpSpPr>
            <a:xfrm>
              <a:off x="4408560" y="3126240"/>
              <a:ext cx="228240" cy="118440"/>
              <a:chOff x="4408560" y="3126240"/>
              <a:chExt cx="228240" cy="118440"/>
            </a:xfrm>
          </p:grpSpPr>
          <p:sp>
            <p:nvSpPr>
              <p:cNvPr id="1401" name=""/>
              <p:cNvSpPr/>
              <p:nvPr/>
            </p:nvSpPr>
            <p:spPr>
              <a:xfrm flipV="1">
                <a:off x="4408560" y="3202200"/>
                <a:ext cx="2282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V="1">
                <a:off x="4453920" y="3168000"/>
                <a:ext cx="114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4488120" y="3126240"/>
                <a:ext cx="65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4504680" y="3201840"/>
                <a:ext cx="3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 flipV="1">
              <a:off x="4500360" y="323640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8832600" y="3669480"/>
              <a:ext cx="123480" cy="5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967600" y="393696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8889840" y="424296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8797680" y="3125520"/>
              <a:ext cx="228240" cy="120600"/>
              <a:chOff x="8797680" y="3125520"/>
              <a:chExt cx="228240" cy="120600"/>
            </a:xfrm>
          </p:grpSpPr>
          <p:sp>
            <p:nvSpPr>
              <p:cNvPr id="1410" name=""/>
              <p:cNvSpPr/>
              <p:nvPr/>
            </p:nvSpPr>
            <p:spPr>
              <a:xfrm flipV="1">
                <a:off x="8797680" y="3202560"/>
                <a:ext cx="228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8843040" y="3168000"/>
                <a:ext cx="114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8877240" y="3125520"/>
                <a:ext cx="65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8893800" y="3202560"/>
                <a:ext cx="3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 flipV="1">
              <a:off x="8889840" y="323820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94200" y="3774960"/>
              <a:ext cx="10062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hip under t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6968880" y="3135600"/>
              <a:ext cx="364680" cy="639360"/>
              <a:chOff x="6968880" y="3135600"/>
              <a:chExt cx="364680" cy="639360"/>
            </a:xfrm>
          </p:grpSpPr>
          <p:sp>
            <p:nvSpPr>
              <p:cNvPr id="1417" name=""/>
              <p:cNvSpPr/>
              <p:nvPr/>
            </p:nvSpPr>
            <p:spPr>
              <a:xfrm>
                <a:off x="7151040" y="31356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151040" y="35010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968880" y="350064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968880" y="340920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7051320" y="3025440"/>
              <a:ext cx="228240" cy="119160"/>
              <a:chOff x="7051320" y="3025440"/>
              <a:chExt cx="228240" cy="119160"/>
            </a:xfrm>
          </p:grpSpPr>
          <p:sp>
            <p:nvSpPr>
              <p:cNvPr id="1422" name=""/>
              <p:cNvSpPr/>
              <p:nvPr/>
            </p:nvSpPr>
            <p:spPr>
              <a:xfrm flipV="1">
                <a:off x="7051320" y="3101400"/>
                <a:ext cx="228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V="1">
                <a:off x="7096680" y="3067200"/>
                <a:ext cx="114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7130880" y="3025440"/>
                <a:ext cx="65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V="1">
                <a:off x="7147440" y="3101400"/>
                <a:ext cx="36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7426080" y="4324320"/>
              <a:ext cx="1096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ie_sept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5962320" y="3227400"/>
              <a:ext cx="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6237000" y="414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322600" y="4322880"/>
              <a:ext cx="1007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Coup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597280" y="2860560"/>
              <a:ext cx="77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 P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1" name=""/>
          <p:cNvGraphicFramePr/>
          <p:nvPr/>
        </p:nvGraphicFramePr>
        <p:xfrm>
          <a:off x="698400" y="2333520"/>
          <a:ext cx="338292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333520"/>
                    <a:ext cx="338292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3" name=""/>
          <p:cNvGrpSpPr/>
          <p:nvPr/>
        </p:nvGrpSpPr>
        <p:grpSpPr>
          <a:xfrm>
            <a:off x="620640" y="4689360"/>
            <a:ext cx="2745000" cy="1719360"/>
            <a:chOff x="620640" y="4689360"/>
            <a:chExt cx="2745000" cy="1719360"/>
          </a:xfrm>
        </p:grpSpPr>
        <p:sp>
          <p:nvSpPr>
            <p:cNvPr id="1434" name=""/>
            <p:cNvSpPr/>
            <p:nvPr/>
          </p:nvSpPr>
          <p:spPr>
            <a:xfrm>
              <a:off x="1297080" y="6060960"/>
              <a:ext cx="7984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i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944720" y="4930920"/>
              <a:ext cx="250920" cy="36360"/>
            </a:xfrm>
            <a:prstGeom prst="rect">
              <a:avLst/>
            </a:prstGeom>
            <a:solidFill>
              <a:srgbClr val="ff66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793440" y="4902120"/>
              <a:ext cx="59220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765520" y="4902120"/>
              <a:ext cx="59364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 flipV="1">
              <a:off x="793440" y="5415120"/>
              <a:ext cx="59220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2765520" y="5415120"/>
              <a:ext cx="59364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384200" y="592776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92080" y="5415120"/>
              <a:ext cx="24177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55640" y="5411880"/>
              <a:ext cx="77760" cy="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90680" y="490212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1422360" y="4901760"/>
              <a:ext cx="32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428840" y="4960800"/>
              <a:ext cx="56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2658960" y="4901760"/>
              <a:ext cx="95400" cy="60840"/>
              <a:chOff x="2658960" y="4901760"/>
              <a:chExt cx="95400" cy="60840"/>
            </a:xfrm>
          </p:grpSpPr>
          <p:sp>
            <p:nvSpPr>
              <p:cNvPr id="1447" name=""/>
              <p:cNvSpPr/>
              <p:nvPr/>
            </p:nvSpPr>
            <p:spPr>
              <a:xfrm flipH="1">
                <a:off x="2724840" y="4902120"/>
                <a:ext cx="295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 flipV="1">
                <a:off x="2719800" y="4901760"/>
                <a:ext cx="180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2658960" y="4960440"/>
                <a:ext cx="56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0" name=""/>
            <p:cNvSpPr/>
            <p:nvPr/>
          </p:nvSpPr>
          <p:spPr>
            <a:xfrm flipH="1">
              <a:off x="2201400" y="4908600"/>
              <a:ext cx="651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457280" y="4905360"/>
              <a:ext cx="396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9600" y="4905360"/>
              <a:ext cx="396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212920" y="5153040"/>
              <a:ext cx="1000080" cy="26820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ip under 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3120" y="5411880"/>
              <a:ext cx="77760" cy="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286080" y="5415120"/>
              <a:ext cx="79560" cy="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79560" y="4905360"/>
              <a:ext cx="651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7" name=""/>
            <p:cNvGrpSpPr/>
            <p:nvPr/>
          </p:nvGrpSpPr>
          <p:grpSpPr>
            <a:xfrm>
              <a:off x="2305080" y="4795920"/>
              <a:ext cx="347760" cy="64800"/>
              <a:chOff x="2305080" y="4795920"/>
              <a:chExt cx="347760" cy="64800"/>
            </a:xfrm>
          </p:grpSpPr>
          <p:sp>
            <p:nvSpPr>
              <p:cNvPr id="1458" name=""/>
              <p:cNvSpPr/>
              <p:nvPr/>
            </p:nvSpPr>
            <p:spPr>
              <a:xfrm>
                <a:off x="2362320" y="4795920"/>
                <a:ext cx="22464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 flipV="1">
                <a:off x="2595240" y="4815000"/>
                <a:ext cx="5760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2305080" y="4815000"/>
                <a:ext cx="5760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1506600" y="4799160"/>
              <a:ext cx="331200" cy="64440"/>
              <a:chOff x="1506600" y="4799160"/>
              <a:chExt cx="331200" cy="64440"/>
            </a:xfrm>
          </p:grpSpPr>
          <p:sp>
            <p:nvSpPr>
              <p:cNvPr id="1462" name=""/>
              <p:cNvSpPr/>
              <p:nvPr/>
            </p:nvSpPr>
            <p:spPr>
              <a:xfrm>
                <a:off x="1560960" y="4799160"/>
                <a:ext cx="21384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 flipV="1">
                <a:off x="1782720" y="4817880"/>
                <a:ext cx="5508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V="1">
                <a:off x="1506600" y="4817880"/>
                <a:ext cx="5508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5" name=""/>
            <p:cNvSpPr/>
            <p:nvPr/>
          </p:nvSpPr>
          <p:spPr>
            <a:xfrm>
              <a:off x="1450800" y="4902120"/>
              <a:ext cx="1212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454040" y="488952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457280" y="487692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54040" y="486720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0640" y="5411880"/>
              <a:ext cx="676440" cy="825480"/>
            </a:xfrm>
            <a:custGeom>
              <a:avLst/>
              <a:gdLst/>
              <a:ahLst/>
              <a:rect l="l" t="t" r="r" b="b"/>
              <a:pathLst>
                <a:path w="1065" h="1300">
                  <a:moveTo>
                    <a:pt x="214" y="0"/>
                  </a:moveTo>
                  <a:cubicBezTo>
                    <a:pt x="107" y="137"/>
                    <a:pt x="0" y="275"/>
                    <a:pt x="10" y="460"/>
                  </a:cubicBezTo>
                  <a:cubicBezTo>
                    <a:pt x="20" y="645"/>
                    <a:pt x="97" y="968"/>
                    <a:pt x="273" y="1108"/>
                  </a:cubicBezTo>
                  <a:cubicBezTo>
                    <a:pt x="449" y="1248"/>
                    <a:pt x="976" y="1270"/>
                    <a:pt x="1065" y="13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27200" y="4689360"/>
              <a:ext cx="350640" cy="2444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1841400" y="5006880"/>
              <a:ext cx="184320" cy="3668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762120" y="190980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posed model: capacitance &amp; inductanc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DFD-AAA6-459C-823A-0706FB48DC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/>
          <p:nvPr/>
        </p:nvSpPr>
        <p:spPr>
          <a:xfrm>
            <a:off x="38088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7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315200" y="28195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odel fits correctly up to 4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t high frequencies, close from noise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609480" y="2496960"/>
            <a:ext cx="6705720" cy="3886200"/>
          </a:xfrm>
          <a:prstGeom prst="rect">
            <a:avLst/>
          </a:prstGeom>
          <a:ln w="0">
            <a:noFill/>
          </a:ln>
        </p:spPr>
      </p:pic>
      <p:sp>
        <p:nvSpPr>
          <p:cNvPr id="1476" name=""/>
          <p:cNvSpPr/>
          <p:nvPr/>
        </p:nvSpPr>
        <p:spPr>
          <a:xfrm>
            <a:off x="762120" y="190980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 for the core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0EE-5DA7-4CF1-8147-E0B3FA7519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380880" y="106668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7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62120" y="173988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 for the core &amp; 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543800" y="2819520"/>
            <a:ext cx="2362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odel fits correctly up to 8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t high frequencies, IO effects do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TemEmission" descr=""/>
          <p:cNvPicPr/>
          <p:nvPr/>
        </p:nvPicPr>
        <p:blipFill>
          <a:blip r:embed="rId1"/>
          <a:stretch/>
        </p:blipFill>
        <p:spPr>
          <a:xfrm>
            <a:off x="412920" y="2209680"/>
            <a:ext cx="7130880" cy="398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6CA-F9DE-4CCD-A0DB-0AA772EF0C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8. Implementation of ICEM in IBIS-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838080" y="2876040"/>
            <a:ext cx="32767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define model] IC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| on chip c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capacitor c_dec (vcc vss) C=5n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| Serial supply resis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sistor r_vdd (vcc vcc_int) R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esistor r_vss (vss vss_int) R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|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b (vcc_int vss_int) I=It(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I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time I(ty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0.0 0.3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0.1e-9 0.3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0.2e-9 0.5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0.3e-9 0.8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end I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end define model] IC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897720" y="4884120"/>
            <a:ext cx="301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Call of the user-defined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begin heade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ibis-ml version]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filename] uC.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[data] Nov 27,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ibisML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4267440" cy="16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5" name=""/>
          <p:cNvSpPr/>
          <p:nvPr/>
        </p:nvSpPr>
        <p:spPr>
          <a:xfrm>
            <a:off x="609480" y="1738440"/>
            <a:ext cx="906804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75bfc"/>
                </a:solidFill>
                <a:latin typeface="Arial"/>
              </a:rPr>
              <a:t>ICEM in IBIS-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175bfc"/>
                </a:solidFill>
                <a:latin typeface="Arial"/>
              </a:rPr>
              <a:t>IBIS mark-up language (IBIS-X) makes ICEM implementation very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175bfc"/>
                </a:solidFill>
                <a:latin typeface="Arial"/>
              </a:rPr>
              <a:t>IBIS-ML draft on the IBIS web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B6B-28F2-4056-93A0-85B9826C35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29520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9. Persp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276200" y="2133720"/>
            <a:ext cx="817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terest in Suscep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tend model to higher frequencies (&gt; 1 GHz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2782800" y="4419720"/>
          <a:ext cx="2838600" cy="19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2800" y="4419720"/>
                    <a:ext cx="2838600" cy="19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0" name=""/>
          <p:cNvGrpSpPr/>
          <p:nvPr/>
        </p:nvGrpSpPr>
        <p:grpSpPr>
          <a:xfrm>
            <a:off x="5297400" y="2438280"/>
            <a:ext cx="3304800" cy="1443240"/>
            <a:chOff x="5297400" y="2438280"/>
            <a:chExt cx="3304800" cy="1443240"/>
          </a:xfrm>
        </p:grpSpPr>
        <p:grpSp>
          <p:nvGrpSpPr>
            <p:cNvPr id="1491" name=""/>
            <p:cNvGrpSpPr/>
            <p:nvPr/>
          </p:nvGrpSpPr>
          <p:grpSpPr>
            <a:xfrm>
              <a:off x="5835240" y="2438280"/>
              <a:ext cx="2305800" cy="1443240"/>
              <a:chOff x="5835240" y="2438280"/>
              <a:chExt cx="2305800" cy="144324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35240" y="2438280"/>
                <a:ext cx="2305800" cy="14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3" name=""/>
              <p:cNvSpPr/>
              <p:nvPr/>
            </p:nvSpPr>
            <p:spPr>
              <a:xfrm>
                <a:off x="6065640" y="2668680"/>
                <a:ext cx="76680" cy="845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>
              <a:off x="5297400" y="2822400"/>
              <a:ext cx="768600" cy="49932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960" y="48"/>
                  </a:moveTo>
                  <a:lnTo>
                    <a:pt x="48" y="0"/>
                  </a:lnTo>
                  <a:lnTo>
                    <a:pt x="144" y="192"/>
                  </a:lnTo>
                  <a:lnTo>
                    <a:pt x="0" y="288"/>
                  </a:lnTo>
                  <a:lnTo>
                    <a:pt x="144" y="480"/>
                  </a:lnTo>
                  <a:lnTo>
                    <a:pt x="48" y="624"/>
                  </a:lnTo>
                  <a:lnTo>
                    <a:pt x="960" y="624"/>
                  </a:lnTo>
                  <a:lnTo>
                    <a:pt x="96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03200" y="3014640"/>
              <a:ext cx="115200" cy="192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7718040" y="3014640"/>
              <a:ext cx="883800" cy="15372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960" y="48"/>
                  </a:moveTo>
                  <a:lnTo>
                    <a:pt x="48" y="0"/>
                  </a:lnTo>
                  <a:lnTo>
                    <a:pt x="144" y="192"/>
                  </a:lnTo>
                  <a:lnTo>
                    <a:pt x="0" y="288"/>
                  </a:lnTo>
                  <a:lnTo>
                    <a:pt x="144" y="480"/>
                  </a:lnTo>
                  <a:lnTo>
                    <a:pt x="48" y="624"/>
                  </a:lnTo>
                  <a:lnTo>
                    <a:pt x="960" y="624"/>
                  </a:lnTo>
                  <a:lnTo>
                    <a:pt x="96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8142120" y="2322360"/>
            <a:ext cx="1190880" cy="615960"/>
          </a:xfrm>
          <a:prstGeom prst="wedgeEllipseCallout">
            <a:avLst>
              <a:gd name="adj1" fmla="val -52013"/>
              <a:gd name="adj2" fmla="val 7161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System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43760" y="2322360"/>
            <a:ext cx="1190520" cy="424080"/>
          </a:xfrm>
          <a:prstGeom prst="wedgeEllipseCallout">
            <a:avLst>
              <a:gd name="adj1" fmla="val -37902"/>
              <a:gd name="adj2" fmla="val 13295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rdware 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296120" y="1900080"/>
            <a:ext cx="1190520" cy="614520"/>
          </a:xfrm>
          <a:prstGeom prst="wedgeEllipseCallout">
            <a:avLst>
              <a:gd name="adj1" fmla="val -90268"/>
              <a:gd name="adj2" fmla="val 146125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05520" y="2130480"/>
            <a:ext cx="515880" cy="884160"/>
          </a:xfrm>
          <a:prstGeom prst="lightningBol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834320" y="3591000"/>
            <a:ext cx="1190520" cy="307800"/>
          </a:xfrm>
          <a:prstGeom prst="wedgeEllipseCallout">
            <a:avLst>
              <a:gd name="adj1" fmla="val -68412"/>
              <a:gd name="adj2" fmla="val -97916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unction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453000" y="3040200"/>
            <a:ext cx="4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µ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144560" y="3346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916160" y="20797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117-744C-4291-A6E8-155D52C59F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/>
          <p:nvPr/>
        </p:nvSpPr>
        <p:spPr>
          <a:xfrm>
            <a:off x="29520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276200" y="2133720"/>
            <a:ext cx="817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chnology scale down illust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ore complex chips increase parasitic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n EMC model for ICs is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 simple model has been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atisfactory prediction of conducted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diction of the core emission in TEM investig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odel proposal standardized by UTE (IC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sentation and promotion to CAD &amp; IC provi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40C-A90F-4228-8E4A-DE057F7F79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49440" y="1752480"/>
          <a:ext cx="423864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752480"/>
                    <a:ext cx="423864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157720" y="1690560"/>
          <a:ext cx="384660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7720" y="1690560"/>
                    <a:ext cx="384660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71600" y="4495680"/>
            <a:ext cx="44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.7µm, 2 metal lay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p to 100,000 devices on a c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PU frequency 5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08240" y="4465800"/>
            <a:ext cx="33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.12µm, 6 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p to 200,000,000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PU frequency 1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160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7992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39880" y="5753160"/>
            <a:ext cx="2366640" cy="821880"/>
            <a:chOff x="839880" y="5753160"/>
            <a:chExt cx="2366640" cy="821880"/>
          </a:xfrm>
        </p:grpSpPr>
        <p:sp>
          <p:nvSpPr>
            <p:cNvPr id="84" name=""/>
            <p:cNvSpPr/>
            <p:nvPr/>
          </p:nvSpPr>
          <p:spPr>
            <a:xfrm>
              <a:off x="1850040" y="5793480"/>
              <a:ext cx="0" cy="29916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839880" y="5753160"/>
            <a:ext cx="2366640" cy="82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9880" y="5753160"/>
                      <a:ext cx="236664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1141920" y="5821920"/>
              <a:ext cx="16520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53880" y="6165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pga" descr=""/>
          <p:cNvPicPr/>
          <p:nvPr/>
        </p:nvPicPr>
        <p:blipFill>
          <a:blip r:embed="rId7"/>
          <a:stretch/>
        </p:blipFill>
        <p:spPr>
          <a:xfrm>
            <a:off x="5656320" y="5753160"/>
            <a:ext cx="2913120" cy="1104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513840" y="60958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8320" y="58672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6880" y="5502240"/>
            <a:ext cx="2311200" cy="1127160"/>
          </a:xfrm>
          <a:prstGeom prst="ellipse">
            <a:avLst/>
          </a:prstGeom>
          <a:solidFill>
            <a:srgbClr val="eaeaea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 year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531-4C46-40F4-A872-AC7418F7EF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806480"/>
            <a:ext cx="5867280" cy="4191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410080" y="3787920"/>
            <a:ext cx="3048120" cy="1113840"/>
            <a:chOff x="5410080" y="3787920"/>
            <a:chExt cx="3048120" cy="1113840"/>
          </a:xfrm>
        </p:grpSpPr>
        <p:sp>
          <p:nvSpPr>
            <p:cNvPr id="96" name=""/>
            <p:cNvSpPr/>
            <p:nvPr/>
          </p:nvSpPr>
          <p:spPr>
            <a:xfrm>
              <a:off x="5410080" y="4502880"/>
              <a:ext cx="304812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Stronger di/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9400" y="378792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66ff"/>
            </a:solidFill>
            <a:ln w="0">
              <a:noFill/>
            </a:ln>
            <a:effectLst>
              <a:outerShdw dist="17819" dir="2700000" blurRad="0" rotWithShape="0">
                <a:srgbClr val="98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V="1">
            <a:off x="974880" y="2615760"/>
            <a:ext cx="0" cy="299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4880" y="5608800"/>
            <a:ext cx="508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93480" y="2416320"/>
            <a:ext cx="2835720" cy="3125520"/>
            <a:chOff x="1293480" y="2416320"/>
            <a:chExt cx="2835720" cy="3125520"/>
          </a:xfrm>
        </p:grpSpPr>
        <p:sp>
          <p:nvSpPr>
            <p:cNvPr id="101" name=""/>
            <p:cNvSpPr/>
            <p:nvPr/>
          </p:nvSpPr>
          <p:spPr>
            <a:xfrm>
              <a:off x="1682640" y="4133880"/>
              <a:ext cx="2446560" cy="1208160"/>
            </a:xfrm>
            <a:custGeom>
              <a:avLst/>
              <a:gdLst/>
              <a:ahLst/>
              <a:rect l="l" t="t" r="r" b="b"/>
              <a:pathLst>
                <a:path w="1824" h="872">
                  <a:moveTo>
                    <a:pt x="0" y="872"/>
                  </a:moveTo>
                  <a:cubicBezTo>
                    <a:pt x="140" y="652"/>
                    <a:pt x="280" y="432"/>
                    <a:pt x="384" y="296"/>
                  </a:cubicBezTo>
                  <a:cubicBezTo>
                    <a:pt x="488" y="160"/>
                    <a:pt x="504" y="104"/>
                    <a:pt x="624" y="56"/>
                  </a:cubicBezTo>
                  <a:cubicBezTo>
                    <a:pt x="744" y="8"/>
                    <a:pt x="904" y="16"/>
                    <a:pt x="1104" y="8"/>
                  </a:cubicBezTo>
                  <a:cubicBezTo>
                    <a:pt x="1304" y="0"/>
                    <a:pt x="1564" y="4"/>
                    <a:pt x="1824" y="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24160" y="2781360"/>
              <a:ext cx="1996920" cy="2760480"/>
            </a:xfrm>
            <a:custGeom>
              <a:avLst/>
              <a:gdLst/>
              <a:ahLst/>
              <a:rect l="l" t="t" r="r" b="b"/>
              <a:pathLst>
                <a:path w="1488" h="1992">
                  <a:moveTo>
                    <a:pt x="0" y="1848"/>
                  </a:moveTo>
                  <a:cubicBezTo>
                    <a:pt x="24" y="1616"/>
                    <a:pt x="48" y="1384"/>
                    <a:pt x="96" y="1128"/>
                  </a:cubicBezTo>
                  <a:cubicBezTo>
                    <a:pt x="144" y="872"/>
                    <a:pt x="224" y="496"/>
                    <a:pt x="288" y="312"/>
                  </a:cubicBezTo>
                  <a:cubicBezTo>
                    <a:pt x="352" y="128"/>
                    <a:pt x="416" y="0"/>
                    <a:pt x="480" y="24"/>
                  </a:cubicBezTo>
                  <a:cubicBezTo>
                    <a:pt x="544" y="48"/>
                    <a:pt x="624" y="320"/>
                    <a:pt x="672" y="456"/>
                  </a:cubicBezTo>
                  <a:cubicBezTo>
                    <a:pt x="720" y="592"/>
                    <a:pt x="728" y="680"/>
                    <a:pt x="768" y="840"/>
                  </a:cubicBezTo>
                  <a:cubicBezTo>
                    <a:pt x="808" y="1000"/>
                    <a:pt x="856" y="1248"/>
                    <a:pt x="912" y="1416"/>
                  </a:cubicBezTo>
                  <a:cubicBezTo>
                    <a:pt x="968" y="1584"/>
                    <a:pt x="1008" y="1752"/>
                    <a:pt x="1104" y="1848"/>
                  </a:cubicBezTo>
                  <a:cubicBezTo>
                    <a:pt x="1200" y="1944"/>
                    <a:pt x="1392" y="1968"/>
                    <a:pt x="1488" y="1992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93480" y="2416320"/>
              <a:ext cx="164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Times New Roman"/>
                </a:rPr>
                <a:t>Scaled 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257800" y="1959120"/>
            <a:ext cx="3505320" cy="12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oltage supply de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urrent amplitude keeps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ster switch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62720" y="5083200"/>
            <a:ext cx="3047760" cy="1586160"/>
            <a:chOff x="5562720" y="5083200"/>
            <a:chExt cx="3047760" cy="1586160"/>
          </a:xfrm>
        </p:grpSpPr>
        <p:sp>
          <p:nvSpPr>
            <p:cNvPr id="106" name=""/>
            <p:cNvSpPr/>
            <p:nvPr/>
          </p:nvSpPr>
          <p:spPr>
            <a:xfrm>
              <a:off x="6705720" y="50832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8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62720" y="5843880"/>
              <a:ext cx="3047760" cy="8254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Increased EMC probl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657600" y="5464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800" y="2949120"/>
            <a:ext cx="837720" cy="2133720"/>
            <a:chOff x="838800" y="2949120"/>
            <a:chExt cx="837720" cy="2133720"/>
          </a:xfrm>
        </p:grpSpPr>
        <p:sp>
          <p:nvSpPr>
            <p:cNvPr id="110" name=""/>
            <p:cNvSpPr/>
            <p:nvPr/>
          </p:nvSpPr>
          <p:spPr>
            <a:xfrm>
              <a:off x="838800" y="3177000"/>
              <a:ext cx="709560" cy="45972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 Narrow"/>
                </a:rPr>
                <a:t>di/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371600" y="2949120"/>
              <a:ext cx="304920" cy="2133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488960" y="2614680"/>
            <a:ext cx="4911840" cy="2927160"/>
            <a:chOff x="1488960" y="2614680"/>
            <a:chExt cx="4911840" cy="2927160"/>
          </a:xfrm>
        </p:grpSpPr>
        <p:sp>
          <p:nvSpPr>
            <p:cNvPr id="113" name=""/>
            <p:cNvSpPr/>
            <p:nvPr/>
          </p:nvSpPr>
          <p:spPr>
            <a:xfrm>
              <a:off x="1488960" y="3413160"/>
              <a:ext cx="3992760" cy="1928880"/>
            </a:xfrm>
            <a:custGeom>
              <a:avLst/>
              <a:gdLst/>
              <a:ahLst/>
              <a:rect l="l" t="t" r="r" b="b"/>
              <a:pathLst>
                <a:path w="3360" h="1296">
                  <a:moveTo>
                    <a:pt x="0" y="1296"/>
                  </a:moveTo>
                  <a:cubicBezTo>
                    <a:pt x="268" y="1116"/>
                    <a:pt x="536" y="936"/>
                    <a:pt x="720" y="816"/>
                  </a:cubicBezTo>
                  <a:cubicBezTo>
                    <a:pt x="904" y="696"/>
                    <a:pt x="968" y="672"/>
                    <a:pt x="1104" y="576"/>
                  </a:cubicBezTo>
                  <a:cubicBezTo>
                    <a:pt x="1240" y="480"/>
                    <a:pt x="1416" y="320"/>
                    <a:pt x="1536" y="240"/>
                  </a:cubicBezTo>
                  <a:cubicBezTo>
                    <a:pt x="1656" y="160"/>
                    <a:pt x="1704" y="128"/>
                    <a:pt x="1824" y="96"/>
                  </a:cubicBezTo>
                  <a:cubicBezTo>
                    <a:pt x="1944" y="64"/>
                    <a:pt x="2000" y="64"/>
                    <a:pt x="2256" y="48"/>
                  </a:cubicBezTo>
                  <a:cubicBezTo>
                    <a:pt x="2512" y="32"/>
                    <a:pt x="2936" y="16"/>
                    <a:pt x="336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88960" y="2792520"/>
              <a:ext cx="4911840" cy="2749320"/>
            </a:xfrm>
            <a:custGeom>
              <a:avLst/>
              <a:gdLst/>
              <a:ahLst/>
              <a:rect l="l" t="t" r="r" b="b"/>
              <a:pathLst>
                <a:path w="2592" h="1984">
                  <a:moveTo>
                    <a:pt x="0" y="1792"/>
                  </a:moveTo>
                  <a:cubicBezTo>
                    <a:pt x="80" y="1440"/>
                    <a:pt x="160" y="1088"/>
                    <a:pt x="240" y="832"/>
                  </a:cubicBezTo>
                  <a:cubicBezTo>
                    <a:pt x="320" y="576"/>
                    <a:pt x="408" y="392"/>
                    <a:pt x="480" y="256"/>
                  </a:cubicBezTo>
                  <a:cubicBezTo>
                    <a:pt x="552" y="120"/>
                    <a:pt x="616" y="32"/>
                    <a:pt x="672" y="16"/>
                  </a:cubicBezTo>
                  <a:cubicBezTo>
                    <a:pt x="728" y="0"/>
                    <a:pt x="760" y="72"/>
                    <a:pt x="816" y="160"/>
                  </a:cubicBezTo>
                  <a:cubicBezTo>
                    <a:pt x="872" y="248"/>
                    <a:pt x="944" y="424"/>
                    <a:pt x="1008" y="544"/>
                  </a:cubicBezTo>
                  <a:cubicBezTo>
                    <a:pt x="1072" y="664"/>
                    <a:pt x="1120" y="736"/>
                    <a:pt x="1200" y="880"/>
                  </a:cubicBezTo>
                  <a:cubicBezTo>
                    <a:pt x="1280" y="1024"/>
                    <a:pt x="1392" y="1272"/>
                    <a:pt x="1488" y="1408"/>
                  </a:cubicBezTo>
                  <a:cubicBezTo>
                    <a:pt x="1584" y="1544"/>
                    <a:pt x="1680" y="1616"/>
                    <a:pt x="1776" y="1696"/>
                  </a:cubicBezTo>
                  <a:cubicBezTo>
                    <a:pt x="1872" y="1776"/>
                    <a:pt x="1928" y="1840"/>
                    <a:pt x="2064" y="1888"/>
                  </a:cubicBezTo>
                  <a:cubicBezTo>
                    <a:pt x="2200" y="1936"/>
                    <a:pt x="2396" y="1960"/>
                    <a:pt x="2592" y="1984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4320" y="367992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03400" y="2614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ae00"/>
                  </a:solidFill>
                  <a:latin typeface="Times New Roman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447920" y="3254040"/>
            <a:ext cx="1472040" cy="1981080"/>
            <a:chOff x="1447920" y="3254040"/>
            <a:chExt cx="1472040" cy="1981080"/>
          </a:xfrm>
        </p:grpSpPr>
        <p:sp>
          <p:nvSpPr>
            <p:cNvPr id="118" name=""/>
            <p:cNvSpPr/>
            <p:nvPr/>
          </p:nvSpPr>
          <p:spPr>
            <a:xfrm>
              <a:off x="2210400" y="3710520"/>
              <a:ext cx="709560" cy="45972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 Narrow"/>
                </a:rPr>
                <a:t>di/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47920" y="3254040"/>
              <a:ext cx="685800" cy="1981080"/>
            </a:xfrm>
            <a:prstGeom prst="line">
              <a:avLst/>
            </a:prstGeom>
            <a:ln w="93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60080" y="19573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Voltage &amp;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F2E-0D53-458D-AF44-235E605D0D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93120" y="2305080"/>
            <a:ext cx="8444520" cy="4376160"/>
            <a:chOff x="393120" y="2305080"/>
            <a:chExt cx="8444520" cy="4376160"/>
          </a:xfrm>
        </p:grpSpPr>
        <p:sp>
          <p:nvSpPr>
            <p:cNvPr id="123" name=""/>
            <p:cNvSpPr/>
            <p:nvPr/>
          </p:nvSpPr>
          <p:spPr>
            <a:xfrm>
              <a:off x="1249200" y="4724280"/>
              <a:ext cx="6537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3880" y="6321240"/>
              <a:ext cx="422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5600" y="631512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7440" y="2305080"/>
              <a:ext cx="78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dBµ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67520" y="2657520"/>
              <a:ext cx="493560" cy="3635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2400" y="2665440"/>
              <a:ext cx="281160" cy="3630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08480" y="2663640"/>
              <a:ext cx="493560" cy="36356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68280" y="2663640"/>
              <a:ext cx="6539040" cy="36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68280" y="5932440"/>
              <a:ext cx="653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8280" y="55688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8280" y="52070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68280" y="48416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8280" y="447984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68280" y="411480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68280" y="375264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68280" y="3386160"/>
              <a:ext cx="653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68280" y="302580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8280" y="2663640"/>
              <a:ext cx="6539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5108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2744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3856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5140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312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2912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1812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8768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213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912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041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2164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8336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756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8836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5648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3708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073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68280" y="2663640"/>
              <a:ext cx="6540480" cy="363564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6828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30480" y="62960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30480" y="5932440"/>
              <a:ext cx="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30480" y="55688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30480" y="52070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30480" y="48416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0480" y="4479840"/>
              <a:ext cx="3492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30480" y="4114800"/>
              <a:ext cx="349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30480" y="3752640"/>
              <a:ext cx="349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30480" y="3386160"/>
              <a:ext cx="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0480" y="302580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30480" y="2663640"/>
              <a:ext cx="34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68280" y="62960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268280" y="629604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537080" y="6296040"/>
              <a:ext cx="144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807320" y="6296040"/>
              <a:ext cx="144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68280" y="3981240"/>
              <a:ext cx="982800" cy="49320"/>
            </a:xfrm>
            <a:custGeom>
              <a:avLst/>
              <a:gdLst/>
              <a:ahLst/>
              <a:rect l="l" t="t" r="r" b="b"/>
              <a:pathLst>
                <a:path w="417" h="22">
                  <a:moveTo>
                    <a:pt x="0" y="0"/>
                  </a:moveTo>
                  <a:lnTo>
                    <a:pt x="0" y="9"/>
                  </a:lnTo>
                  <a:lnTo>
                    <a:pt x="417" y="22"/>
                  </a:lnTo>
                  <a:lnTo>
                    <a:pt x="41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51080" y="3859200"/>
              <a:ext cx="579600" cy="171360"/>
            </a:xfrm>
            <a:custGeom>
              <a:avLst/>
              <a:gdLst/>
              <a:ahLst/>
              <a:rect l="l" t="t" r="r" b="b"/>
              <a:pathLst>
                <a:path w="246" h="78">
                  <a:moveTo>
                    <a:pt x="0" y="69"/>
                  </a:moveTo>
                  <a:lnTo>
                    <a:pt x="2" y="78"/>
                  </a:lnTo>
                  <a:lnTo>
                    <a:pt x="246" y="9"/>
                  </a:lnTo>
                  <a:lnTo>
                    <a:pt x="245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22400" y="3863880"/>
              <a:ext cx="416160" cy="243000"/>
            </a:xfrm>
            <a:custGeom>
              <a:avLst/>
              <a:gdLst/>
              <a:ahLst/>
              <a:rect l="l" t="t" r="r" b="b"/>
              <a:pathLst>
                <a:path w="176" h="111">
                  <a:moveTo>
                    <a:pt x="3" y="0"/>
                  </a:moveTo>
                  <a:lnTo>
                    <a:pt x="0" y="7"/>
                  </a:lnTo>
                  <a:lnTo>
                    <a:pt x="173" y="111"/>
                  </a:lnTo>
                  <a:lnTo>
                    <a:pt x="176" y="1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33880" y="4089240"/>
              <a:ext cx="322200" cy="22860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4" y="0"/>
                  </a:moveTo>
                  <a:lnTo>
                    <a:pt x="0" y="8"/>
                  </a:lnTo>
                  <a:lnTo>
                    <a:pt x="133" y="104"/>
                  </a:lnTo>
                  <a:lnTo>
                    <a:pt x="137" y="9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41680" y="3665520"/>
              <a:ext cx="281160" cy="646200"/>
            </a:xfrm>
            <a:custGeom>
              <a:avLst/>
              <a:gdLst/>
              <a:ahLst/>
              <a:rect l="l" t="t" r="r" b="b"/>
              <a:pathLst>
                <a:path w="119" h="294">
                  <a:moveTo>
                    <a:pt x="0" y="291"/>
                  </a:moveTo>
                  <a:lnTo>
                    <a:pt x="8" y="294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5200" y="3660840"/>
              <a:ext cx="228600" cy="244440"/>
            </a:xfrm>
            <a:custGeom>
              <a:avLst/>
              <a:gdLst/>
              <a:ahLst/>
              <a:rect l="l" t="t" r="r" b="b"/>
              <a:pathLst>
                <a:path w="97" h="111">
                  <a:moveTo>
                    <a:pt x="6" y="0"/>
                  </a:moveTo>
                  <a:lnTo>
                    <a:pt x="0" y="6"/>
                  </a:lnTo>
                  <a:lnTo>
                    <a:pt x="91" y="111"/>
                  </a:lnTo>
                  <a:lnTo>
                    <a:pt x="97" y="10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9120" y="3889440"/>
              <a:ext cx="193680" cy="810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0"/>
                  </a:moveTo>
                  <a:lnTo>
                    <a:pt x="0" y="9"/>
                  </a:lnTo>
                  <a:lnTo>
                    <a:pt x="80" y="37"/>
                  </a:lnTo>
                  <a:lnTo>
                    <a:pt x="82" y="2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13080" y="3292560"/>
              <a:ext cx="200160" cy="676080"/>
            </a:xfrm>
            <a:custGeom>
              <a:avLst/>
              <a:gdLst/>
              <a:ahLst/>
              <a:rect l="l" t="t" r="r" b="b"/>
              <a:pathLst>
                <a:path w="77" h="107">
                  <a:moveTo>
                    <a:pt x="0" y="102"/>
                  </a:moveTo>
                  <a:lnTo>
                    <a:pt x="7" y="107"/>
                  </a:lnTo>
                  <a:lnTo>
                    <a:pt x="77" y="5"/>
                  </a:lnTo>
                  <a:lnTo>
                    <a:pt x="70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7680" y="3340080"/>
              <a:ext cx="157320" cy="65556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6" y="0"/>
                  </a:moveTo>
                  <a:lnTo>
                    <a:pt x="0" y="4"/>
                  </a:lnTo>
                  <a:lnTo>
                    <a:pt x="62" y="117"/>
                  </a:lnTo>
                  <a:lnTo>
                    <a:pt x="69" y="1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33840" y="3911400"/>
              <a:ext cx="139680" cy="8604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0" y="30"/>
                  </a:moveTo>
                  <a:lnTo>
                    <a:pt x="2" y="39"/>
                  </a:lnTo>
                  <a:lnTo>
                    <a:pt x="59" y="9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68840" y="3914640"/>
              <a:ext cx="133200" cy="14148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" y="0"/>
                  </a:moveTo>
                  <a:lnTo>
                    <a:pt x="0" y="6"/>
                  </a:lnTo>
                  <a:lnTo>
                    <a:pt x="51" y="64"/>
                  </a:lnTo>
                  <a:lnTo>
                    <a:pt x="57" y="5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8000" y="3832200"/>
              <a:ext cx="129960" cy="22212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0" y="98"/>
                  </a:moveTo>
                  <a:lnTo>
                    <a:pt x="7" y="101"/>
                  </a:lnTo>
                  <a:lnTo>
                    <a:pt x="55" y="3"/>
                  </a:lnTo>
                  <a:lnTo>
                    <a:pt x="48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11840" y="3798720"/>
              <a:ext cx="104760" cy="478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12"/>
                  </a:moveTo>
                  <a:lnTo>
                    <a:pt x="1" y="21"/>
                  </a:lnTo>
                  <a:lnTo>
                    <a:pt x="45" y="9"/>
                  </a:lnTo>
                  <a:lnTo>
                    <a:pt x="4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02200" y="3806640"/>
              <a:ext cx="119160" cy="239760"/>
            </a:xfrm>
            <a:custGeom>
              <a:avLst/>
              <a:gdLst/>
              <a:ahLst/>
              <a:rect l="l" t="t" r="r" b="b"/>
              <a:pathLst>
                <a:path w="50" h="110">
                  <a:moveTo>
                    <a:pt x="8" y="0"/>
                  </a:moveTo>
                  <a:lnTo>
                    <a:pt x="0" y="3"/>
                  </a:lnTo>
                  <a:lnTo>
                    <a:pt x="42" y="110"/>
                  </a:lnTo>
                  <a:lnTo>
                    <a:pt x="50" y="10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02280" y="3544920"/>
              <a:ext cx="108000" cy="501480"/>
            </a:xfrm>
            <a:custGeom>
              <a:avLst/>
              <a:gdLst/>
              <a:ahLst/>
              <a:rect l="l" t="t" r="r" b="b"/>
              <a:pathLst>
                <a:path w="46" h="229">
                  <a:moveTo>
                    <a:pt x="0" y="227"/>
                  </a:moveTo>
                  <a:lnTo>
                    <a:pt x="8" y="229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95880" y="3543120"/>
              <a:ext cx="103320" cy="2430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8" y="0"/>
                  </a:moveTo>
                  <a:lnTo>
                    <a:pt x="0" y="3"/>
                  </a:lnTo>
                  <a:lnTo>
                    <a:pt x="36" y="111"/>
                  </a:lnTo>
                  <a:lnTo>
                    <a:pt x="44" y="1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86240" y="3779640"/>
              <a:ext cx="93960" cy="15588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6" y="0"/>
                  </a:moveTo>
                  <a:lnTo>
                    <a:pt x="0" y="3"/>
                  </a:lnTo>
                  <a:lnTo>
                    <a:pt x="34" y="71"/>
                  </a:lnTo>
                  <a:lnTo>
                    <a:pt x="40" y="6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61120" y="3465360"/>
              <a:ext cx="96840" cy="470160"/>
            </a:xfrm>
            <a:custGeom>
              <a:avLst/>
              <a:gdLst/>
              <a:ahLst/>
              <a:rect l="l" t="t" r="r" b="b"/>
              <a:pathLst>
                <a:path w="41" h="214">
                  <a:moveTo>
                    <a:pt x="0" y="212"/>
                  </a:moveTo>
                  <a:lnTo>
                    <a:pt x="8" y="214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38880" y="3465360"/>
              <a:ext cx="91800" cy="611280"/>
            </a:xfrm>
            <a:custGeom>
              <a:avLst/>
              <a:gdLst/>
              <a:ahLst/>
              <a:rect l="l" t="t" r="r" b="b"/>
              <a:pathLst>
                <a:path w="39" h="278">
                  <a:moveTo>
                    <a:pt x="8" y="0"/>
                  </a:moveTo>
                  <a:lnTo>
                    <a:pt x="0" y="2"/>
                  </a:lnTo>
                  <a:lnTo>
                    <a:pt x="31" y="278"/>
                  </a:lnTo>
                  <a:lnTo>
                    <a:pt x="39" y="27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960" y="3717720"/>
              <a:ext cx="87120" cy="35892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0" y="162"/>
                  </a:moveTo>
                  <a:lnTo>
                    <a:pt x="8" y="163"/>
                  </a:lnTo>
                  <a:lnTo>
                    <a:pt x="37" y="1"/>
                  </a:lnTo>
                  <a:lnTo>
                    <a:pt x="29" y="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83240" y="3600360"/>
              <a:ext cx="82440" cy="12384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0" y="51"/>
                  </a:moveTo>
                  <a:lnTo>
                    <a:pt x="7" y="56"/>
                  </a:lnTo>
                  <a:lnTo>
                    <a:pt x="35" y="4"/>
                  </a:lnTo>
                  <a:lnTo>
                    <a:pt x="2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46600" y="3603600"/>
              <a:ext cx="79560" cy="298440"/>
            </a:xfrm>
            <a:custGeom>
              <a:avLst/>
              <a:gdLst/>
              <a:ahLst/>
              <a:rect l="l" t="t" r="r" b="b"/>
              <a:pathLst>
                <a:path w="34" h="136">
                  <a:moveTo>
                    <a:pt x="8" y="0"/>
                  </a:moveTo>
                  <a:lnTo>
                    <a:pt x="0" y="2"/>
                  </a:lnTo>
                  <a:lnTo>
                    <a:pt x="26" y="136"/>
                  </a:lnTo>
                  <a:lnTo>
                    <a:pt x="34" y="13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0320" y="3562200"/>
              <a:ext cx="79200" cy="339840"/>
            </a:xfrm>
            <a:custGeom>
              <a:avLst/>
              <a:gdLst/>
              <a:ahLst/>
              <a:rect l="l" t="t" r="r" b="b"/>
              <a:pathLst>
                <a:path w="34" h="155">
                  <a:moveTo>
                    <a:pt x="0" y="153"/>
                  </a:moveTo>
                  <a:lnTo>
                    <a:pt x="8" y="155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70440" y="3562200"/>
              <a:ext cx="77760" cy="446040"/>
            </a:xfrm>
            <a:custGeom>
              <a:avLst/>
              <a:gdLst/>
              <a:ahLst/>
              <a:rect l="l" t="t" r="r" b="b"/>
              <a:pathLst>
                <a:path w="33" h="203">
                  <a:moveTo>
                    <a:pt x="8" y="0"/>
                  </a:moveTo>
                  <a:lnTo>
                    <a:pt x="0" y="1"/>
                  </a:lnTo>
                  <a:lnTo>
                    <a:pt x="25" y="203"/>
                  </a:lnTo>
                  <a:lnTo>
                    <a:pt x="33" y="20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9480" y="3476520"/>
              <a:ext cx="72720" cy="527040"/>
            </a:xfrm>
            <a:custGeom>
              <a:avLst/>
              <a:gdLst/>
              <a:ahLst/>
              <a:rect l="l" t="t" r="r" b="b"/>
              <a:pathLst>
                <a:path w="31" h="240">
                  <a:moveTo>
                    <a:pt x="0" y="240"/>
                  </a:moveTo>
                  <a:lnTo>
                    <a:pt x="8" y="24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3287520"/>
              <a:ext cx="73080" cy="19224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0" y="86"/>
                  </a:moveTo>
                  <a:lnTo>
                    <a:pt x="8" y="87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38920" y="3292560"/>
              <a:ext cx="69840" cy="291960"/>
            </a:xfrm>
            <a:custGeom>
              <a:avLst/>
              <a:gdLst/>
              <a:ahLst/>
              <a:rect l="l" t="t" r="r" b="b"/>
              <a:pathLst>
                <a:path w="30" h="133">
                  <a:moveTo>
                    <a:pt x="8" y="0"/>
                  </a:moveTo>
                  <a:lnTo>
                    <a:pt x="0" y="1"/>
                  </a:lnTo>
                  <a:lnTo>
                    <a:pt x="21" y="133"/>
                  </a:lnTo>
                  <a:lnTo>
                    <a:pt x="30" y="13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87880" y="3136680"/>
              <a:ext cx="70200" cy="447840"/>
            </a:xfrm>
            <a:custGeom>
              <a:avLst/>
              <a:gdLst/>
              <a:ahLst/>
              <a:rect l="l" t="t" r="r" b="b"/>
              <a:pathLst>
                <a:path w="30" h="204">
                  <a:moveTo>
                    <a:pt x="0" y="203"/>
                  </a:moveTo>
                  <a:lnTo>
                    <a:pt x="9" y="20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40440" y="3136680"/>
              <a:ext cx="63360" cy="13176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8" y="0"/>
                  </a:moveTo>
                  <a:lnTo>
                    <a:pt x="0" y="2"/>
                  </a:lnTo>
                  <a:lnTo>
                    <a:pt x="19" y="60"/>
                  </a:lnTo>
                  <a:lnTo>
                    <a:pt x="27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9760" y="3260520"/>
              <a:ext cx="63360" cy="11916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8" y="0"/>
                  </a:moveTo>
                  <a:lnTo>
                    <a:pt x="0" y="3"/>
                  </a:lnTo>
                  <a:lnTo>
                    <a:pt x="19" y="54"/>
                  </a:lnTo>
                  <a:lnTo>
                    <a:pt x="27" y="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38720" y="3332160"/>
              <a:ext cx="54000" cy="540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8"/>
                  </a:moveTo>
                  <a:lnTo>
                    <a:pt x="4" y="25"/>
                  </a:lnTo>
                  <a:lnTo>
                    <a:pt x="23" y="7"/>
                  </a:lnTo>
                  <a:lnTo>
                    <a:pt x="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78680" y="3340080"/>
              <a:ext cx="63360" cy="539640"/>
            </a:xfrm>
            <a:custGeom>
              <a:avLst/>
              <a:gdLst/>
              <a:ahLst/>
              <a:rect l="l" t="t" r="r" b="b"/>
              <a:pathLst>
                <a:path w="27" h="245">
                  <a:moveTo>
                    <a:pt x="8" y="0"/>
                  </a:moveTo>
                  <a:lnTo>
                    <a:pt x="0" y="0"/>
                  </a:lnTo>
                  <a:lnTo>
                    <a:pt x="19" y="245"/>
                  </a:lnTo>
                  <a:lnTo>
                    <a:pt x="27" y="24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22960" y="3674880"/>
              <a:ext cx="58680" cy="208080"/>
            </a:xfrm>
            <a:custGeom>
              <a:avLst/>
              <a:gdLst/>
              <a:ahLst/>
              <a:rect l="l" t="t" r="r" b="b"/>
              <a:pathLst>
                <a:path w="25" h="95">
                  <a:moveTo>
                    <a:pt x="0" y="93"/>
                  </a:moveTo>
                  <a:lnTo>
                    <a:pt x="8" y="9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70480" y="3646440"/>
              <a:ext cx="47880" cy="381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3" y="18"/>
                  </a:lnTo>
                  <a:lnTo>
                    <a:pt x="20" y="7"/>
                  </a:lnTo>
                  <a:lnTo>
                    <a:pt x="18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08640" y="3651120"/>
              <a:ext cx="54000" cy="55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3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53280" y="3672000"/>
              <a:ext cx="44280" cy="39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0"/>
                  </a:moveTo>
                  <a:lnTo>
                    <a:pt x="3" y="18"/>
                  </a:lnTo>
                  <a:lnTo>
                    <a:pt x="19" y="7"/>
                  </a:lnTo>
                  <a:lnTo>
                    <a:pt x="1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86400" y="3679920"/>
              <a:ext cx="55800" cy="16668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8" y="0"/>
                  </a:moveTo>
                  <a:lnTo>
                    <a:pt x="0" y="1"/>
                  </a:lnTo>
                  <a:lnTo>
                    <a:pt x="16" y="76"/>
                  </a:lnTo>
                  <a:lnTo>
                    <a:pt x="24" y="7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3120" y="3624120"/>
              <a:ext cx="55440" cy="222480"/>
            </a:xfrm>
            <a:custGeom>
              <a:avLst/>
              <a:gdLst/>
              <a:ahLst/>
              <a:rect l="l" t="t" r="r" b="b"/>
              <a:pathLst>
                <a:path w="23" h="101">
                  <a:moveTo>
                    <a:pt x="0" y="100"/>
                  </a:moveTo>
                  <a:lnTo>
                    <a:pt x="8" y="101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65960" y="3618000"/>
              <a:ext cx="44280" cy="42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4" y="0"/>
                  </a:moveTo>
                  <a:lnTo>
                    <a:pt x="0" y="8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94400" y="3654360"/>
              <a:ext cx="54000" cy="468360"/>
            </a:xfrm>
            <a:custGeom>
              <a:avLst/>
              <a:gdLst/>
              <a:ahLst/>
              <a:rect l="l" t="t" r="r" b="b"/>
              <a:pathLst>
                <a:path w="23" h="213">
                  <a:moveTo>
                    <a:pt x="8" y="0"/>
                  </a:moveTo>
                  <a:lnTo>
                    <a:pt x="0" y="0"/>
                  </a:lnTo>
                  <a:lnTo>
                    <a:pt x="15" y="213"/>
                  </a:lnTo>
                  <a:lnTo>
                    <a:pt x="23" y="2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29320" y="3870360"/>
              <a:ext cx="54000" cy="257040"/>
            </a:xfrm>
            <a:custGeom>
              <a:avLst/>
              <a:gdLst/>
              <a:ahLst/>
              <a:rect l="l" t="t" r="r" b="b"/>
              <a:pathLst>
                <a:path w="23" h="117">
                  <a:moveTo>
                    <a:pt x="0" y="115"/>
                  </a:moveTo>
                  <a:lnTo>
                    <a:pt x="8" y="117"/>
                  </a:lnTo>
                  <a:lnTo>
                    <a:pt x="23" y="1"/>
                  </a:lnTo>
                  <a:lnTo>
                    <a:pt x="15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67480" y="3824280"/>
              <a:ext cx="49320" cy="522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9"/>
                  </a:moveTo>
                  <a:lnTo>
                    <a:pt x="7" y="24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00960" y="3825720"/>
              <a:ext cx="46080" cy="238320"/>
            </a:xfrm>
            <a:custGeom>
              <a:avLst/>
              <a:gdLst/>
              <a:ahLst/>
              <a:rect l="l" t="t" r="r" b="b"/>
              <a:pathLst>
                <a:path w="20" h="108">
                  <a:moveTo>
                    <a:pt x="8" y="0"/>
                  </a:moveTo>
                  <a:lnTo>
                    <a:pt x="0" y="2"/>
                  </a:lnTo>
                  <a:lnTo>
                    <a:pt x="12" y="108"/>
                  </a:lnTo>
                  <a:lnTo>
                    <a:pt x="20" y="10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38760" y="4041720"/>
              <a:ext cx="34920" cy="284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4"/>
                  </a:moveTo>
                  <a:lnTo>
                    <a:pt x="2" y="13"/>
                  </a:lnTo>
                  <a:lnTo>
                    <a:pt x="15" y="9"/>
                  </a:lnTo>
                  <a:lnTo>
                    <a:pt x="1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0800" y="4033800"/>
              <a:ext cx="36360" cy="27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3"/>
                  </a:moveTo>
                  <a:lnTo>
                    <a:pt x="1" y="12"/>
                  </a:lnTo>
                  <a:lnTo>
                    <a:pt x="15" y="9"/>
                  </a:lnTo>
                  <a:lnTo>
                    <a:pt x="1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92760" y="4043160"/>
              <a:ext cx="49320" cy="13500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8" y="0"/>
                  </a:moveTo>
                  <a:lnTo>
                    <a:pt x="0" y="2"/>
                  </a:lnTo>
                  <a:lnTo>
                    <a:pt x="12" y="61"/>
                  </a:lnTo>
                  <a:lnTo>
                    <a:pt x="21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24800" y="3843360"/>
              <a:ext cx="47520" cy="330120"/>
            </a:xfrm>
            <a:custGeom>
              <a:avLst/>
              <a:gdLst/>
              <a:ahLst/>
              <a:rect l="l" t="t" r="r" b="b"/>
              <a:pathLst>
                <a:path w="20" h="150">
                  <a:moveTo>
                    <a:pt x="0" y="150"/>
                  </a:moveTo>
                  <a:lnTo>
                    <a:pt x="8" y="15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56480" y="3778200"/>
              <a:ext cx="44280" cy="684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8"/>
                  </a:moveTo>
                  <a:lnTo>
                    <a:pt x="7" y="31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3779640"/>
              <a:ext cx="49320" cy="309600"/>
            </a:xfrm>
            <a:custGeom>
              <a:avLst/>
              <a:gdLst/>
              <a:ahLst/>
              <a:rect l="l" t="t" r="r" b="b"/>
              <a:pathLst>
                <a:path w="21" h="141">
                  <a:moveTo>
                    <a:pt x="8" y="0"/>
                  </a:moveTo>
                  <a:lnTo>
                    <a:pt x="0" y="0"/>
                  </a:lnTo>
                  <a:lnTo>
                    <a:pt x="12" y="141"/>
                  </a:lnTo>
                  <a:lnTo>
                    <a:pt x="21" y="1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0480" y="4002120"/>
              <a:ext cx="48960" cy="9216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0"/>
                  </a:moveTo>
                  <a:lnTo>
                    <a:pt x="9" y="42"/>
                  </a:lnTo>
                  <a:lnTo>
                    <a:pt x="21" y="1"/>
                  </a:lnTo>
                  <a:lnTo>
                    <a:pt x="13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40360" y="3797280"/>
              <a:ext cx="44640" cy="20628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0" y="93"/>
                  </a:moveTo>
                  <a:lnTo>
                    <a:pt x="8" y="94"/>
                  </a:lnTo>
                  <a:lnTo>
                    <a:pt x="19" y="1"/>
                  </a:lnTo>
                  <a:lnTo>
                    <a:pt x="11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5920" y="3797280"/>
              <a:ext cx="47520" cy="21888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8" y="0"/>
                  </a:moveTo>
                  <a:lnTo>
                    <a:pt x="0" y="1"/>
                  </a:lnTo>
                  <a:lnTo>
                    <a:pt x="12" y="100"/>
                  </a:lnTo>
                  <a:lnTo>
                    <a:pt x="20" y="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94360" y="4014720"/>
              <a:ext cx="46080" cy="525600"/>
            </a:xfrm>
            <a:custGeom>
              <a:avLst/>
              <a:gdLst/>
              <a:ahLst/>
              <a:rect l="l" t="t" r="r" b="b"/>
              <a:pathLst>
                <a:path w="19" h="239">
                  <a:moveTo>
                    <a:pt x="8" y="0"/>
                  </a:moveTo>
                  <a:lnTo>
                    <a:pt x="0" y="0"/>
                  </a:lnTo>
                  <a:lnTo>
                    <a:pt x="11" y="239"/>
                  </a:lnTo>
                  <a:lnTo>
                    <a:pt x="19" y="23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21360" y="4079880"/>
              <a:ext cx="44640" cy="460440"/>
            </a:xfrm>
            <a:custGeom>
              <a:avLst/>
              <a:gdLst/>
              <a:ahLst/>
              <a:rect l="l" t="t" r="r" b="b"/>
              <a:pathLst>
                <a:path w="19" h="209">
                  <a:moveTo>
                    <a:pt x="0" y="209"/>
                  </a:moveTo>
                  <a:lnTo>
                    <a:pt x="8" y="209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56280" y="4070160"/>
              <a:ext cx="24120" cy="241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0" y="9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70680" y="3790800"/>
              <a:ext cx="44640" cy="292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133"/>
                  </a:moveTo>
                  <a:lnTo>
                    <a:pt x="9" y="133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00920" y="3790800"/>
              <a:ext cx="39600" cy="12384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8" y="0"/>
                  </a:moveTo>
                  <a:lnTo>
                    <a:pt x="0" y="1"/>
                  </a:lnTo>
                  <a:lnTo>
                    <a:pt x="9" y="57"/>
                  </a:lnTo>
                  <a:lnTo>
                    <a:pt x="17" y="5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24680" y="3865680"/>
              <a:ext cx="42840" cy="522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0"/>
                  </a:moveTo>
                  <a:lnTo>
                    <a:pt x="7" y="24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48440" y="3660840"/>
              <a:ext cx="42840" cy="21096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0" y="95"/>
                  </a:moveTo>
                  <a:lnTo>
                    <a:pt x="8" y="96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4000" y="3665520"/>
              <a:ext cx="38160" cy="198360"/>
            </a:xfrm>
            <a:custGeom>
              <a:avLst/>
              <a:gdLst/>
              <a:ahLst/>
              <a:rect l="l" t="t" r="r" b="b"/>
              <a:pathLst>
                <a:path w="16" h="90">
                  <a:moveTo>
                    <a:pt x="8" y="0"/>
                  </a:moveTo>
                  <a:lnTo>
                    <a:pt x="0" y="0"/>
                  </a:lnTo>
                  <a:lnTo>
                    <a:pt x="8" y="90"/>
                  </a:lnTo>
                  <a:lnTo>
                    <a:pt x="16" y="9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94520" y="3806640"/>
              <a:ext cx="42840" cy="590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4"/>
                  </a:moveTo>
                  <a:lnTo>
                    <a:pt x="7" y="27"/>
                  </a:lnTo>
                  <a:lnTo>
                    <a:pt x="18" y="3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28000" y="3792600"/>
              <a:ext cx="21960" cy="270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3"/>
                  </a:moveTo>
                  <a:lnTo>
                    <a:pt x="1" y="12"/>
                  </a:lnTo>
                  <a:lnTo>
                    <a:pt x="9" y="9"/>
                  </a:lnTo>
                  <a:lnTo>
                    <a:pt x="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3806640"/>
              <a:ext cx="41400" cy="227160"/>
            </a:xfrm>
            <a:custGeom>
              <a:avLst/>
              <a:gdLst/>
              <a:ahLst/>
              <a:rect l="l" t="t" r="r" b="b"/>
              <a:pathLst>
                <a:path w="18" h="104">
                  <a:moveTo>
                    <a:pt x="9" y="0"/>
                  </a:moveTo>
                  <a:lnTo>
                    <a:pt x="0" y="0"/>
                  </a:lnTo>
                  <a:lnTo>
                    <a:pt x="10" y="104"/>
                  </a:lnTo>
                  <a:lnTo>
                    <a:pt x="18" y="10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64360" y="3659040"/>
              <a:ext cx="41400" cy="374760"/>
            </a:xfrm>
            <a:custGeom>
              <a:avLst/>
              <a:gdLst/>
              <a:ahLst/>
              <a:rect l="l" t="t" r="r" b="b"/>
              <a:pathLst>
                <a:path w="18" h="171">
                  <a:moveTo>
                    <a:pt x="0" y="171"/>
                  </a:moveTo>
                  <a:lnTo>
                    <a:pt x="8" y="171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84880" y="3659040"/>
              <a:ext cx="42840" cy="584280"/>
            </a:xfrm>
            <a:custGeom>
              <a:avLst/>
              <a:gdLst/>
              <a:ahLst/>
              <a:rect l="l" t="t" r="r" b="b"/>
              <a:pathLst>
                <a:path w="18" h="266">
                  <a:moveTo>
                    <a:pt x="9" y="0"/>
                  </a:moveTo>
                  <a:lnTo>
                    <a:pt x="0" y="0"/>
                  </a:lnTo>
                  <a:lnTo>
                    <a:pt x="10" y="266"/>
                  </a:lnTo>
                  <a:lnTo>
                    <a:pt x="18" y="26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09000" y="3751200"/>
              <a:ext cx="36360" cy="492120"/>
            </a:xfrm>
            <a:custGeom>
              <a:avLst/>
              <a:gdLst/>
              <a:ahLst/>
              <a:rect l="l" t="t" r="r" b="b"/>
              <a:pathLst>
                <a:path w="16" h="224">
                  <a:moveTo>
                    <a:pt x="0" y="224"/>
                  </a:moveTo>
                  <a:lnTo>
                    <a:pt x="8" y="22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7720" y="3651120"/>
              <a:ext cx="41400" cy="1015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5"/>
                  </a:moveTo>
                  <a:lnTo>
                    <a:pt x="8" y="46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50040" y="3654360"/>
              <a:ext cx="38160" cy="420840"/>
            </a:xfrm>
            <a:custGeom>
              <a:avLst/>
              <a:gdLst/>
              <a:ahLst/>
              <a:rect l="l" t="t" r="r" b="b"/>
              <a:pathLst>
                <a:path w="16" h="191">
                  <a:moveTo>
                    <a:pt x="8" y="0"/>
                  </a:moveTo>
                  <a:lnTo>
                    <a:pt x="0" y="0"/>
                  </a:lnTo>
                  <a:lnTo>
                    <a:pt x="8" y="191"/>
                  </a:lnTo>
                  <a:lnTo>
                    <a:pt x="16" y="19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69120" y="3647880"/>
              <a:ext cx="38160" cy="427320"/>
            </a:xfrm>
            <a:custGeom>
              <a:avLst/>
              <a:gdLst/>
              <a:ahLst/>
              <a:rect l="l" t="t" r="r" b="b"/>
              <a:pathLst>
                <a:path w="16" h="194">
                  <a:moveTo>
                    <a:pt x="0" y="194"/>
                  </a:moveTo>
                  <a:lnTo>
                    <a:pt x="8" y="19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88200" y="3647880"/>
              <a:ext cx="42840" cy="168480"/>
            </a:xfrm>
            <a:custGeom>
              <a:avLst/>
              <a:gdLst/>
              <a:ahLst/>
              <a:rect l="l" t="t" r="r" b="b"/>
              <a:pathLst>
                <a:path w="18" h="77">
                  <a:moveTo>
                    <a:pt x="8" y="0"/>
                  </a:moveTo>
                  <a:lnTo>
                    <a:pt x="0" y="2"/>
                  </a:lnTo>
                  <a:lnTo>
                    <a:pt x="9" y="77"/>
                  </a:lnTo>
                  <a:lnTo>
                    <a:pt x="18" y="7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10520" y="3816360"/>
              <a:ext cx="39600" cy="220680"/>
            </a:xfrm>
            <a:custGeom>
              <a:avLst/>
              <a:gdLst/>
              <a:ahLst/>
              <a:rect l="l" t="t" r="r" b="b"/>
              <a:pathLst>
                <a:path w="17" h="100">
                  <a:moveTo>
                    <a:pt x="9" y="0"/>
                  </a:moveTo>
                  <a:lnTo>
                    <a:pt x="0" y="0"/>
                  </a:lnTo>
                  <a:lnTo>
                    <a:pt x="9" y="100"/>
                  </a:lnTo>
                  <a:lnTo>
                    <a:pt x="17" y="10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31040" y="3651120"/>
              <a:ext cx="38160" cy="385920"/>
            </a:xfrm>
            <a:custGeom>
              <a:avLst/>
              <a:gdLst/>
              <a:ahLst/>
              <a:rect l="l" t="t" r="r" b="b"/>
              <a:pathLst>
                <a:path w="16" h="175">
                  <a:moveTo>
                    <a:pt x="0" y="175"/>
                  </a:moveTo>
                  <a:lnTo>
                    <a:pt x="8" y="17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50120" y="3654360"/>
              <a:ext cx="38160" cy="623880"/>
            </a:xfrm>
            <a:custGeom>
              <a:avLst/>
              <a:gdLst/>
              <a:ahLst/>
              <a:rect l="l" t="t" r="r" b="b"/>
              <a:pathLst>
                <a:path w="16" h="284">
                  <a:moveTo>
                    <a:pt x="8" y="0"/>
                  </a:moveTo>
                  <a:lnTo>
                    <a:pt x="0" y="0"/>
                  </a:lnTo>
                  <a:lnTo>
                    <a:pt x="8" y="284"/>
                  </a:lnTo>
                  <a:lnTo>
                    <a:pt x="16" y="2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69200" y="4089240"/>
              <a:ext cx="36360" cy="189000"/>
            </a:xfrm>
            <a:custGeom>
              <a:avLst/>
              <a:gdLst/>
              <a:ahLst/>
              <a:rect l="l" t="t" r="r" b="b"/>
              <a:pathLst>
                <a:path w="16" h="86">
                  <a:moveTo>
                    <a:pt x="0" y="86"/>
                  </a:moveTo>
                  <a:lnTo>
                    <a:pt x="8" y="8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88280" y="3782880"/>
              <a:ext cx="36360" cy="30636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0" y="139"/>
                  </a:moveTo>
                  <a:lnTo>
                    <a:pt x="8" y="139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05560" y="3782880"/>
              <a:ext cx="38160" cy="436680"/>
            </a:xfrm>
            <a:custGeom>
              <a:avLst/>
              <a:gdLst/>
              <a:ahLst/>
              <a:rect l="l" t="t" r="r" b="b"/>
              <a:pathLst>
                <a:path w="16" h="198">
                  <a:moveTo>
                    <a:pt x="8" y="0"/>
                  </a:moveTo>
                  <a:lnTo>
                    <a:pt x="0" y="0"/>
                  </a:lnTo>
                  <a:lnTo>
                    <a:pt x="8" y="198"/>
                  </a:lnTo>
                  <a:lnTo>
                    <a:pt x="16" y="19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24640" y="3897360"/>
              <a:ext cx="41400" cy="322200"/>
            </a:xfrm>
            <a:custGeom>
              <a:avLst/>
              <a:gdLst/>
              <a:ahLst/>
              <a:rect l="l" t="t" r="r" b="b"/>
              <a:pathLst>
                <a:path w="17" h="147">
                  <a:moveTo>
                    <a:pt x="0" y="147"/>
                  </a:moveTo>
                  <a:lnTo>
                    <a:pt x="8" y="147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43720" y="3898800"/>
              <a:ext cx="34920" cy="266760"/>
            </a:xfrm>
            <a:custGeom>
              <a:avLst/>
              <a:gdLst/>
              <a:ahLst/>
              <a:rect l="l" t="t" r="r" b="b"/>
              <a:pathLst>
                <a:path w="15" h="122">
                  <a:moveTo>
                    <a:pt x="9" y="0"/>
                  </a:moveTo>
                  <a:lnTo>
                    <a:pt x="0" y="0"/>
                  </a:lnTo>
                  <a:lnTo>
                    <a:pt x="7" y="122"/>
                  </a:lnTo>
                  <a:lnTo>
                    <a:pt x="15" y="1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1360" y="4170240"/>
              <a:ext cx="36360" cy="276120"/>
            </a:xfrm>
            <a:custGeom>
              <a:avLst/>
              <a:gdLst/>
              <a:ahLst/>
              <a:rect l="l" t="t" r="r" b="b"/>
              <a:pathLst>
                <a:path w="16" h="126">
                  <a:moveTo>
                    <a:pt x="8" y="0"/>
                  </a:moveTo>
                  <a:lnTo>
                    <a:pt x="0" y="0"/>
                  </a:lnTo>
                  <a:lnTo>
                    <a:pt x="8" y="126"/>
                  </a:lnTo>
                  <a:lnTo>
                    <a:pt x="16" y="1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78640" y="3851280"/>
              <a:ext cx="36720" cy="595080"/>
            </a:xfrm>
            <a:custGeom>
              <a:avLst/>
              <a:gdLst/>
              <a:ahLst/>
              <a:rect l="l" t="t" r="r" b="b"/>
              <a:pathLst>
                <a:path w="15" h="271">
                  <a:moveTo>
                    <a:pt x="0" y="271"/>
                  </a:moveTo>
                  <a:lnTo>
                    <a:pt x="8" y="27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97720" y="3851280"/>
              <a:ext cx="33480" cy="392040"/>
            </a:xfrm>
            <a:custGeom>
              <a:avLst/>
              <a:gdLst/>
              <a:ahLst/>
              <a:rect l="l" t="t" r="r" b="b"/>
              <a:pathLst>
                <a:path w="14" h="178">
                  <a:moveTo>
                    <a:pt x="9" y="0"/>
                  </a:moveTo>
                  <a:lnTo>
                    <a:pt x="0" y="0"/>
                  </a:lnTo>
                  <a:lnTo>
                    <a:pt x="6" y="178"/>
                  </a:lnTo>
                  <a:lnTo>
                    <a:pt x="14" y="17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5360" y="4075200"/>
              <a:ext cx="34920" cy="168120"/>
            </a:xfrm>
            <a:custGeom>
              <a:avLst/>
              <a:gdLst/>
              <a:ahLst/>
              <a:rect l="l" t="t" r="r" b="b"/>
              <a:pathLst>
                <a:path w="15" h="77">
                  <a:moveTo>
                    <a:pt x="0" y="77"/>
                  </a:moveTo>
                  <a:lnTo>
                    <a:pt x="8" y="77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31200" y="4029120"/>
              <a:ext cx="38160" cy="475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9"/>
                  </a:moveTo>
                  <a:lnTo>
                    <a:pt x="8" y="22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50280" y="4033800"/>
              <a:ext cx="33120" cy="13032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8" y="0"/>
                  </a:moveTo>
                  <a:lnTo>
                    <a:pt x="0" y="0"/>
                  </a:lnTo>
                  <a:lnTo>
                    <a:pt x="6" y="59"/>
                  </a:lnTo>
                  <a:lnTo>
                    <a:pt x="14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66120" y="3930480"/>
              <a:ext cx="33120" cy="233640"/>
            </a:xfrm>
            <a:custGeom>
              <a:avLst/>
              <a:gdLst/>
              <a:ahLst/>
              <a:rect l="l" t="t" r="r" b="b"/>
              <a:pathLst>
                <a:path w="14" h="106">
                  <a:moveTo>
                    <a:pt x="0" y="106"/>
                  </a:moveTo>
                  <a:lnTo>
                    <a:pt x="8" y="106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83400" y="3564000"/>
              <a:ext cx="34920" cy="614160"/>
            </a:xfrm>
            <a:custGeom>
              <a:avLst/>
              <a:gdLst/>
              <a:ahLst/>
              <a:rect l="l" t="t" r="r" b="b"/>
              <a:pathLst>
                <a:path w="15" h="280">
                  <a:moveTo>
                    <a:pt x="8" y="0"/>
                  </a:moveTo>
                  <a:lnTo>
                    <a:pt x="0" y="0"/>
                  </a:lnTo>
                  <a:lnTo>
                    <a:pt x="7" y="280"/>
                  </a:lnTo>
                  <a:lnTo>
                    <a:pt x="15" y="28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99240" y="4008240"/>
              <a:ext cx="34920" cy="131760"/>
            </a:xfrm>
            <a:custGeom>
              <a:avLst/>
              <a:gdLst/>
              <a:ahLst/>
              <a:rect l="l" t="t" r="r" b="b"/>
              <a:pathLst>
                <a:path w="15" h="60">
                  <a:moveTo>
                    <a:pt x="8" y="0"/>
                  </a:moveTo>
                  <a:lnTo>
                    <a:pt x="0" y="1"/>
                  </a:lnTo>
                  <a:lnTo>
                    <a:pt x="6" y="60"/>
                  </a:lnTo>
                  <a:lnTo>
                    <a:pt x="15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28040" y="3397320"/>
              <a:ext cx="34920" cy="645840"/>
            </a:xfrm>
            <a:custGeom>
              <a:avLst/>
              <a:gdLst/>
              <a:ahLst/>
              <a:rect l="l" t="t" r="r" b="b"/>
              <a:pathLst>
                <a:path w="15" h="294">
                  <a:moveTo>
                    <a:pt x="0" y="294"/>
                  </a:moveTo>
                  <a:lnTo>
                    <a:pt x="9" y="294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9480" y="4030560"/>
              <a:ext cx="36720" cy="109440"/>
            </a:xfrm>
            <a:custGeom>
              <a:avLst/>
              <a:gdLst/>
              <a:ahLst/>
              <a:rect l="l" t="t" r="r" b="b"/>
              <a:pathLst>
                <a:path w="15" h="50">
                  <a:moveTo>
                    <a:pt x="8" y="0"/>
                  </a:moveTo>
                  <a:lnTo>
                    <a:pt x="0" y="2"/>
                  </a:lnTo>
                  <a:lnTo>
                    <a:pt x="7" y="50"/>
                  </a:lnTo>
                  <a:lnTo>
                    <a:pt x="15" y="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47120" y="4046400"/>
              <a:ext cx="34920" cy="9360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40"/>
                  </a:moveTo>
                  <a:lnTo>
                    <a:pt x="8" y="42"/>
                  </a:lnTo>
                  <a:lnTo>
                    <a:pt x="15" y="1"/>
                  </a:lnTo>
                  <a:lnTo>
                    <a:pt x="7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62960" y="4046400"/>
              <a:ext cx="34920" cy="677880"/>
            </a:xfrm>
            <a:custGeom>
              <a:avLst/>
              <a:gdLst/>
              <a:ahLst/>
              <a:rect l="l" t="t" r="r" b="b"/>
              <a:pathLst>
                <a:path w="15" h="308">
                  <a:moveTo>
                    <a:pt x="8" y="0"/>
                  </a:moveTo>
                  <a:lnTo>
                    <a:pt x="0" y="0"/>
                  </a:lnTo>
                  <a:lnTo>
                    <a:pt x="7" y="308"/>
                  </a:lnTo>
                  <a:lnTo>
                    <a:pt x="15" y="3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5960" y="3790800"/>
              <a:ext cx="30240" cy="312840"/>
            </a:xfrm>
            <a:custGeom>
              <a:avLst/>
              <a:gdLst/>
              <a:ahLst/>
              <a:rect l="l" t="t" r="r" b="b"/>
              <a:pathLst>
                <a:path w="13" h="143">
                  <a:moveTo>
                    <a:pt x="0" y="143"/>
                  </a:moveTo>
                  <a:lnTo>
                    <a:pt x="8" y="143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0" y="4003560"/>
              <a:ext cx="33120" cy="406440"/>
            </a:xfrm>
            <a:custGeom>
              <a:avLst/>
              <a:gdLst/>
              <a:ahLst/>
              <a:rect l="l" t="t" r="r" b="b"/>
              <a:pathLst>
                <a:path w="14" h="185">
                  <a:moveTo>
                    <a:pt x="0" y="185"/>
                  </a:moveTo>
                  <a:lnTo>
                    <a:pt x="8" y="18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10480" y="4003560"/>
              <a:ext cx="33480" cy="162000"/>
            </a:xfrm>
            <a:custGeom>
              <a:avLst/>
              <a:gdLst/>
              <a:ahLst/>
              <a:rect l="l" t="t" r="r" b="b"/>
              <a:pathLst>
                <a:path w="14" h="74">
                  <a:moveTo>
                    <a:pt x="8" y="0"/>
                  </a:moveTo>
                  <a:lnTo>
                    <a:pt x="0" y="0"/>
                  </a:lnTo>
                  <a:lnTo>
                    <a:pt x="6" y="74"/>
                  </a:lnTo>
                  <a:lnTo>
                    <a:pt x="14" y="7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24880" y="4170240"/>
              <a:ext cx="33120" cy="666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8" y="0"/>
                  </a:moveTo>
                  <a:lnTo>
                    <a:pt x="0" y="1"/>
                  </a:lnTo>
                  <a:lnTo>
                    <a:pt x="6" y="30"/>
                  </a:lnTo>
                  <a:lnTo>
                    <a:pt x="14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38920" y="4232160"/>
              <a:ext cx="32040" cy="8244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8" y="0"/>
                  </a:moveTo>
                  <a:lnTo>
                    <a:pt x="0" y="2"/>
                  </a:lnTo>
                  <a:lnTo>
                    <a:pt x="6" y="38"/>
                  </a:lnTo>
                  <a:lnTo>
                    <a:pt x="14" y="3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53320" y="4160880"/>
              <a:ext cx="34920" cy="150840"/>
            </a:xfrm>
            <a:custGeom>
              <a:avLst/>
              <a:gdLst/>
              <a:ahLst/>
              <a:rect l="l" t="t" r="r" b="b"/>
              <a:pathLst>
                <a:path w="15" h="69">
                  <a:moveTo>
                    <a:pt x="0" y="69"/>
                  </a:moveTo>
                  <a:lnTo>
                    <a:pt x="8" y="69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69160" y="4075200"/>
              <a:ext cx="30240" cy="889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0" y="39"/>
                  </a:moveTo>
                  <a:lnTo>
                    <a:pt x="8" y="41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83560" y="4076640"/>
              <a:ext cx="33120" cy="195120"/>
            </a:xfrm>
            <a:custGeom>
              <a:avLst/>
              <a:gdLst/>
              <a:ahLst/>
              <a:rect l="l" t="t" r="r" b="b"/>
              <a:pathLst>
                <a:path w="14" h="89">
                  <a:moveTo>
                    <a:pt x="9" y="0"/>
                  </a:moveTo>
                  <a:lnTo>
                    <a:pt x="0" y="0"/>
                  </a:lnTo>
                  <a:lnTo>
                    <a:pt x="6" y="89"/>
                  </a:lnTo>
                  <a:lnTo>
                    <a:pt x="14" y="8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68280" y="4568760"/>
              <a:ext cx="955800" cy="55440"/>
            </a:xfrm>
            <a:custGeom>
              <a:avLst/>
              <a:gdLst/>
              <a:ahLst/>
              <a:rect l="l" t="t" r="r" b="b"/>
              <a:pathLst>
                <a:path w="406" h="26">
                  <a:moveTo>
                    <a:pt x="0" y="17"/>
                  </a:moveTo>
                  <a:lnTo>
                    <a:pt x="0" y="26"/>
                  </a:lnTo>
                  <a:lnTo>
                    <a:pt x="406" y="9"/>
                  </a:lnTo>
                  <a:lnTo>
                    <a:pt x="40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24080" y="4408560"/>
              <a:ext cx="590400" cy="179280"/>
            </a:xfrm>
            <a:custGeom>
              <a:avLst/>
              <a:gdLst/>
              <a:ahLst/>
              <a:rect l="l" t="t" r="r" b="b"/>
              <a:pathLst>
                <a:path w="250" h="82">
                  <a:moveTo>
                    <a:pt x="0" y="73"/>
                  </a:moveTo>
                  <a:lnTo>
                    <a:pt x="2" y="82"/>
                  </a:lnTo>
                  <a:lnTo>
                    <a:pt x="250" y="9"/>
                  </a:lnTo>
                  <a:lnTo>
                    <a:pt x="249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09800" y="4410000"/>
              <a:ext cx="420840" cy="314280"/>
            </a:xfrm>
            <a:custGeom>
              <a:avLst/>
              <a:gdLst/>
              <a:ahLst/>
              <a:rect l="l" t="t" r="r" b="b"/>
              <a:pathLst>
                <a:path w="179" h="143">
                  <a:moveTo>
                    <a:pt x="4" y="0"/>
                  </a:moveTo>
                  <a:lnTo>
                    <a:pt x="0" y="8"/>
                  </a:lnTo>
                  <a:lnTo>
                    <a:pt x="175" y="143"/>
                  </a:lnTo>
                  <a:lnTo>
                    <a:pt x="179" y="1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20920" y="4443480"/>
              <a:ext cx="325440" cy="280800"/>
            </a:xfrm>
            <a:custGeom>
              <a:avLst/>
              <a:gdLst/>
              <a:ahLst/>
              <a:rect l="l" t="t" r="r" b="b"/>
              <a:pathLst>
                <a:path w="138" h="128">
                  <a:moveTo>
                    <a:pt x="0" y="121"/>
                  </a:moveTo>
                  <a:lnTo>
                    <a:pt x="4" y="128"/>
                  </a:lnTo>
                  <a:lnTo>
                    <a:pt x="138" y="8"/>
                  </a:lnTo>
                  <a:lnTo>
                    <a:pt x="134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35200" y="4443480"/>
              <a:ext cx="274680" cy="32040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5" y="0"/>
                  </a:moveTo>
                  <a:lnTo>
                    <a:pt x="0" y="6"/>
                  </a:lnTo>
                  <a:lnTo>
                    <a:pt x="111" y="146"/>
                  </a:lnTo>
                  <a:lnTo>
                    <a:pt x="117" y="1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03760" y="4672080"/>
              <a:ext cx="223560" cy="9684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35"/>
                  </a:moveTo>
                  <a:lnTo>
                    <a:pt x="1" y="44"/>
                  </a:lnTo>
                  <a:lnTo>
                    <a:pt x="95" y="9"/>
                  </a:lnTo>
                  <a:lnTo>
                    <a:pt x="9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24440" y="4662360"/>
              <a:ext cx="188640" cy="2880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4"/>
                  </a:moveTo>
                  <a:lnTo>
                    <a:pt x="0" y="13"/>
                  </a:lnTo>
                  <a:lnTo>
                    <a:pt x="80" y="9"/>
                  </a:lnTo>
                  <a:lnTo>
                    <a:pt x="8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06960" y="4408560"/>
              <a:ext cx="180720" cy="269640"/>
            </a:xfrm>
            <a:custGeom>
              <a:avLst/>
              <a:gdLst/>
              <a:ahLst/>
              <a:rect l="l" t="t" r="r" b="b"/>
              <a:pathLst>
                <a:path w="77" h="123">
                  <a:moveTo>
                    <a:pt x="0" y="119"/>
                  </a:moveTo>
                  <a:lnTo>
                    <a:pt x="7" y="123"/>
                  </a:lnTo>
                  <a:lnTo>
                    <a:pt x="77" y="4"/>
                  </a:lnTo>
                  <a:lnTo>
                    <a:pt x="71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76880" y="4408560"/>
              <a:ext cx="161640" cy="225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7" y="0"/>
                  </a:moveTo>
                  <a:lnTo>
                    <a:pt x="0" y="4"/>
                  </a:lnTo>
                  <a:lnTo>
                    <a:pt x="62" y="103"/>
                  </a:lnTo>
                  <a:lnTo>
                    <a:pt x="69" y="9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19440" y="4309920"/>
              <a:ext cx="158760" cy="32220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0" y="144"/>
                  </a:moveTo>
                  <a:lnTo>
                    <a:pt x="8" y="147"/>
                  </a:lnTo>
                  <a:lnTo>
                    <a:pt x="67" y="3"/>
                  </a:lnTo>
                  <a:lnTo>
                    <a:pt x="58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56240" y="4309920"/>
              <a:ext cx="145800" cy="355680"/>
            </a:xfrm>
            <a:custGeom>
              <a:avLst/>
              <a:gdLst/>
              <a:ahLst/>
              <a:rect l="l" t="t" r="r" b="b"/>
              <a:pathLst>
                <a:path w="62" h="162">
                  <a:moveTo>
                    <a:pt x="9" y="0"/>
                  </a:moveTo>
                  <a:lnTo>
                    <a:pt x="0" y="3"/>
                  </a:lnTo>
                  <a:lnTo>
                    <a:pt x="53" y="162"/>
                  </a:lnTo>
                  <a:lnTo>
                    <a:pt x="62" y="15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81520" y="4368600"/>
              <a:ext cx="131760" cy="297000"/>
            </a:xfrm>
            <a:custGeom>
              <a:avLst/>
              <a:gdLst/>
              <a:ahLst/>
              <a:rect l="l" t="t" r="r" b="b"/>
              <a:pathLst>
                <a:path w="56" h="135">
                  <a:moveTo>
                    <a:pt x="0" y="132"/>
                  </a:moveTo>
                  <a:lnTo>
                    <a:pt x="9" y="135"/>
                  </a:lnTo>
                  <a:lnTo>
                    <a:pt x="56" y="3"/>
                  </a:lnTo>
                  <a:lnTo>
                    <a:pt x="48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94200" y="4370400"/>
              <a:ext cx="125640" cy="352440"/>
            </a:xfrm>
            <a:custGeom>
              <a:avLst/>
              <a:gdLst/>
              <a:ahLst/>
              <a:rect l="l" t="t" r="r" b="b"/>
              <a:pathLst>
                <a:path w="53" h="160">
                  <a:moveTo>
                    <a:pt x="8" y="0"/>
                  </a:moveTo>
                  <a:lnTo>
                    <a:pt x="0" y="2"/>
                  </a:lnTo>
                  <a:lnTo>
                    <a:pt x="45" y="160"/>
                  </a:lnTo>
                  <a:lnTo>
                    <a:pt x="53" y="15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00760" y="4394160"/>
              <a:ext cx="117360" cy="32868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0" y="147"/>
                  </a:moveTo>
                  <a:lnTo>
                    <a:pt x="8" y="149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99040" y="4394160"/>
              <a:ext cx="111240" cy="244440"/>
            </a:xfrm>
            <a:custGeom>
              <a:avLst/>
              <a:gdLst/>
              <a:ahLst/>
              <a:rect l="l" t="t" r="r" b="b"/>
              <a:pathLst>
                <a:path w="47" h="111">
                  <a:moveTo>
                    <a:pt x="8" y="0"/>
                  </a:moveTo>
                  <a:lnTo>
                    <a:pt x="0" y="3"/>
                  </a:lnTo>
                  <a:lnTo>
                    <a:pt x="39" y="111"/>
                  </a:lnTo>
                  <a:lnTo>
                    <a:pt x="47" y="1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91200" y="4226040"/>
              <a:ext cx="102960" cy="412560"/>
            </a:xfrm>
            <a:custGeom>
              <a:avLst/>
              <a:gdLst/>
              <a:ahLst/>
              <a:rect l="l" t="t" r="r" b="b"/>
              <a:pathLst>
                <a:path w="44" h="188">
                  <a:moveTo>
                    <a:pt x="0" y="186"/>
                  </a:moveTo>
                  <a:lnTo>
                    <a:pt x="8" y="188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78320" y="4226040"/>
              <a:ext cx="98640" cy="406080"/>
            </a:xfrm>
            <a:custGeom>
              <a:avLst/>
              <a:gdLst/>
              <a:ahLst/>
              <a:rect l="l" t="t" r="r" b="b"/>
              <a:pathLst>
                <a:path w="42" h="185">
                  <a:moveTo>
                    <a:pt x="8" y="0"/>
                  </a:moveTo>
                  <a:lnTo>
                    <a:pt x="0" y="2"/>
                  </a:lnTo>
                  <a:lnTo>
                    <a:pt x="34" y="185"/>
                  </a:lnTo>
                  <a:lnTo>
                    <a:pt x="42" y="18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9320" y="4195800"/>
              <a:ext cx="95400" cy="436320"/>
            </a:xfrm>
            <a:custGeom>
              <a:avLst/>
              <a:gdLst/>
              <a:ahLst/>
              <a:rect l="l" t="t" r="r" b="b"/>
              <a:pathLst>
                <a:path w="41" h="198">
                  <a:moveTo>
                    <a:pt x="0" y="196"/>
                  </a:moveTo>
                  <a:lnTo>
                    <a:pt x="8" y="198"/>
                  </a:lnTo>
                  <a:lnTo>
                    <a:pt x="41" y="1"/>
                  </a:lnTo>
                  <a:lnTo>
                    <a:pt x="33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37080" y="4195800"/>
              <a:ext cx="90720" cy="500040"/>
            </a:xfrm>
            <a:custGeom>
              <a:avLst/>
              <a:gdLst/>
              <a:ahLst/>
              <a:rect l="l" t="t" r="r" b="b"/>
              <a:pathLst>
                <a:path w="39" h="227">
                  <a:moveTo>
                    <a:pt x="8" y="0"/>
                  </a:moveTo>
                  <a:lnTo>
                    <a:pt x="0" y="1"/>
                  </a:lnTo>
                  <a:lnTo>
                    <a:pt x="31" y="227"/>
                  </a:lnTo>
                  <a:lnTo>
                    <a:pt x="39" y="2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10160" y="4228920"/>
              <a:ext cx="84240" cy="466920"/>
            </a:xfrm>
            <a:custGeom>
              <a:avLst/>
              <a:gdLst/>
              <a:ahLst/>
              <a:rect l="l" t="t" r="r" b="b"/>
              <a:pathLst>
                <a:path w="36" h="212">
                  <a:moveTo>
                    <a:pt x="0" y="210"/>
                  </a:moveTo>
                  <a:lnTo>
                    <a:pt x="8" y="212"/>
                  </a:lnTo>
                  <a:lnTo>
                    <a:pt x="36" y="1"/>
                  </a:lnTo>
                  <a:lnTo>
                    <a:pt x="28" y="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80000" y="4228920"/>
              <a:ext cx="82440" cy="876600"/>
            </a:xfrm>
            <a:custGeom>
              <a:avLst/>
              <a:gdLst/>
              <a:ahLst/>
              <a:rect l="l" t="t" r="r" b="b"/>
              <a:pathLst>
                <a:path w="35" h="399">
                  <a:moveTo>
                    <a:pt x="8" y="0"/>
                  </a:moveTo>
                  <a:lnTo>
                    <a:pt x="0" y="0"/>
                  </a:lnTo>
                  <a:lnTo>
                    <a:pt x="27" y="399"/>
                  </a:lnTo>
                  <a:lnTo>
                    <a:pt x="35" y="3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43720" y="4191120"/>
              <a:ext cx="82440" cy="914400"/>
            </a:xfrm>
            <a:custGeom>
              <a:avLst/>
              <a:gdLst/>
              <a:ahLst/>
              <a:rect l="l" t="t" r="r" b="b"/>
              <a:pathLst>
                <a:path w="35" h="417">
                  <a:moveTo>
                    <a:pt x="0" y="417"/>
                  </a:moveTo>
                  <a:lnTo>
                    <a:pt x="8" y="417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07080" y="4191120"/>
              <a:ext cx="81000" cy="655560"/>
            </a:xfrm>
            <a:custGeom>
              <a:avLst/>
              <a:gdLst/>
              <a:ahLst/>
              <a:rect l="l" t="t" r="r" b="b"/>
              <a:pathLst>
                <a:path w="34" h="299">
                  <a:moveTo>
                    <a:pt x="8" y="0"/>
                  </a:moveTo>
                  <a:lnTo>
                    <a:pt x="0" y="0"/>
                  </a:lnTo>
                  <a:lnTo>
                    <a:pt x="26" y="299"/>
                  </a:lnTo>
                  <a:lnTo>
                    <a:pt x="34" y="2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69000" y="4152960"/>
              <a:ext cx="74520" cy="693720"/>
            </a:xfrm>
            <a:custGeom>
              <a:avLst/>
              <a:gdLst/>
              <a:ahLst/>
              <a:rect l="l" t="t" r="r" b="b"/>
              <a:pathLst>
                <a:path w="32" h="316">
                  <a:moveTo>
                    <a:pt x="0" y="316"/>
                  </a:moveTo>
                  <a:lnTo>
                    <a:pt x="8" y="316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24440" y="4152960"/>
              <a:ext cx="73080" cy="522000"/>
            </a:xfrm>
            <a:custGeom>
              <a:avLst/>
              <a:gdLst/>
              <a:ahLst/>
              <a:rect l="l" t="t" r="r" b="b"/>
              <a:pathLst>
                <a:path w="31" h="238">
                  <a:moveTo>
                    <a:pt x="8" y="0"/>
                  </a:moveTo>
                  <a:lnTo>
                    <a:pt x="0" y="0"/>
                  </a:lnTo>
                  <a:lnTo>
                    <a:pt x="23" y="238"/>
                  </a:lnTo>
                  <a:lnTo>
                    <a:pt x="31" y="23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84920" y="4178160"/>
              <a:ext cx="69840" cy="496800"/>
            </a:xfrm>
            <a:custGeom>
              <a:avLst/>
              <a:gdLst/>
              <a:ahLst/>
              <a:rect l="l" t="t" r="r" b="b"/>
              <a:pathLst>
                <a:path w="30" h="227">
                  <a:moveTo>
                    <a:pt x="0" y="227"/>
                  </a:moveTo>
                  <a:lnTo>
                    <a:pt x="8" y="227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34240" y="4178160"/>
              <a:ext cx="69840" cy="492120"/>
            </a:xfrm>
            <a:custGeom>
              <a:avLst/>
              <a:gdLst/>
              <a:ahLst/>
              <a:rect l="l" t="t" r="r" b="b"/>
              <a:pathLst>
                <a:path w="30" h="223">
                  <a:moveTo>
                    <a:pt x="9" y="0"/>
                  </a:moveTo>
                  <a:lnTo>
                    <a:pt x="0" y="0"/>
                  </a:lnTo>
                  <a:lnTo>
                    <a:pt x="22" y="223"/>
                  </a:lnTo>
                  <a:lnTo>
                    <a:pt x="30" y="22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87880" y="4259160"/>
              <a:ext cx="68400" cy="412920"/>
            </a:xfrm>
            <a:custGeom>
              <a:avLst/>
              <a:gdLst/>
              <a:ahLst/>
              <a:rect l="l" t="t" r="r" b="b"/>
              <a:pathLst>
                <a:path w="29" h="188">
                  <a:moveTo>
                    <a:pt x="0" y="187"/>
                  </a:moveTo>
                  <a:lnTo>
                    <a:pt x="9" y="188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37200" y="4259160"/>
              <a:ext cx="66600" cy="442800"/>
            </a:xfrm>
            <a:custGeom>
              <a:avLst/>
              <a:gdLst/>
              <a:ahLst/>
              <a:rect l="l" t="t" r="r" b="b"/>
              <a:pathLst>
                <a:path w="28" h="202">
                  <a:moveTo>
                    <a:pt x="8" y="0"/>
                  </a:moveTo>
                  <a:lnTo>
                    <a:pt x="0" y="2"/>
                  </a:lnTo>
                  <a:lnTo>
                    <a:pt x="20" y="202"/>
                  </a:lnTo>
                  <a:lnTo>
                    <a:pt x="28" y="20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84720" y="4292640"/>
              <a:ext cx="68400" cy="409320"/>
            </a:xfrm>
            <a:custGeom>
              <a:avLst/>
              <a:gdLst/>
              <a:ahLst/>
              <a:rect l="l" t="t" r="r" b="b"/>
              <a:pathLst>
                <a:path w="29" h="187">
                  <a:moveTo>
                    <a:pt x="0" y="185"/>
                  </a:moveTo>
                  <a:lnTo>
                    <a:pt x="8" y="187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34040" y="4292640"/>
              <a:ext cx="58680" cy="490320"/>
            </a:xfrm>
            <a:custGeom>
              <a:avLst/>
              <a:gdLst/>
              <a:ahLst/>
              <a:rect l="l" t="t" r="r" b="b"/>
              <a:pathLst>
                <a:path w="25" h="224">
                  <a:moveTo>
                    <a:pt x="8" y="0"/>
                  </a:moveTo>
                  <a:lnTo>
                    <a:pt x="0" y="0"/>
                  </a:lnTo>
                  <a:lnTo>
                    <a:pt x="17" y="224"/>
                  </a:lnTo>
                  <a:lnTo>
                    <a:pt x="25" y="2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78680" y="4327560"/>
              <a:ext cx="58680" cy="455400"/>
            </a:xfrm>
            <a:custGeom>
              <a:avLst/>
              <a:gdLst/>
              <a:ahLst/>
              <a:rect l="l" t="t" r="r" b="b"/>
              <a:pathLst>
                <a:path w="25" h="207">
                  <a:moveTo>
                    <a:pt x="0" y="207"/>
                  </a:moveTo>
                  <a:lnTo>
                    <a:pt x="8" y="207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18280" y="4330800"/>
              <a:ext cx="61920" cy="411120"/>
            </a:xfrm>
            <a:custGeom>
              <a:avLst/>
              <a:gdLst/>
              <a:ahLst/>
              <a:rect l="l" t="t" r="r" b="b"/>
              <a:pathLst>
                <a:path w="26" h="187">
                  <a:moveTo>
                    <a:pt x="8" y="0"/>
                  </a:moveTo>
                  <a:lnTo>
                    <a:pt x="0" y="0"/>
                  </a:lnTo>
                  <a:lnTo>
                    <a:pt x="18" y="187"/>
                  </a:lnTo>
                  <a:lnTo>
                    <a:pt x="26" y="18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61120" y="4376520"/>
              <a:ext cx="61920" cy="366840"/>
            </a:xfrm>
            <a:custGeom>
              <a:avLst/>
              <a:gdLst/>
              <a:ahLst/>
              <a:rect l="l" t="t" r="r" b="b"/>
              <a:pathLst>
                <a:path w="26" h="167">
                  <a:moveTo>
                    <a:pt x="0" y="166"/>
                  </a:moveTo>
                  <a:lnTo>
                    <a:pt x="8" y="167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05400" y="4376520"/>
              <a:ext cx="57240" cy="331920"/>
            </a:xfrm>
            <a:custGeom>
              <a:avLst/>
              <a:gdLst/>
              <a:ahLst/>
              <a:rect l="l" t="t" r="r" b="b"/>
              <a:pathLst>
                <a:path w="24" h="151">
                  <a:moveTo>
                    <a:pt x="8" y="0"/>
                  </a:moveTo>
                  <a:lnTo>
                    <a:pt x="0" y="2"/>
                  </a:lnTo>
                  <a:lnTo>
                    <a:pt x="16" y="151"/>
                  </a:lnTo>
                  <a:lnTo>
                    <a:pt x="24" y="14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43560" y="4449600"/>
              <a:ext cx="58680" cy="258840"/>
            </a:xfrm>
            <a:custGeom>
              <a:avLst/>
              <a:gdLst/>
              <a:ahLst/>
              <a:rect l="l" t="t" r="r" b="b"/>
              <a:pathLst>
                <a:path w="25" h="118">
                  <a:moveTo>
                    <a:pt x="0" y="116"/>
                  </a:moveTo>
                  <a:lnTo>
                    <a:pt x="8" y="118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83160" y="4449600"/>
              <a:ext cx="57240" cy="25236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8" y="0"/>
                  </a:moveTo>
                  <a:lnTo>
                    <a:pt x="0" y="2"/>
                  </a:lnTo>
                  <a:lnTo>
                    <a:pt x="16" y="115"/>
                  </a:lnTo>
                  <a:lnTo>
                    <a:pt x="24" y="1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21320" y="4556160"/>
              <a:ext cx="54000" cy="14580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0" y="65"/>
                  </a:moveTo>
                  <a:lnTo>
                    <a:pt x="8" y="67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56240" y="4556160"/>
              <a:ext cx="57240" cy="258840"/>
            </a:xfrm>
            <a:custGeom>
              <a:avLst/>
              <a:gdLst/>
              <a:ahLst/>
              <a:rect l="l" t="t" r="r" b="b"/>
              <a:pathLst>
                <a:path w="24" h="118">
                  <a:moveTo>
                    <a:pt x="8" y="0"/>
                  </a:moveTo>
                  <a:lnTo>
                    <a:pt x="0" y="2"/>
                  </a:lnTo>
                  <a:lnTo>
                    <a:pt x="16" y="118"/>
                  </a:lnTo>
                  <a:lnTo>
                    <a:pt x="24" y="1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94400" y="4614840"/>
              <a:ext cx="54000" cy="20016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0" y="89"/>
                  </a:moveTo>
                  <a:lnTo>
                    <a:pt x="8" y="91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29320" y="4614840"/>
              <a:ext cx="52560" cy="306360"/>
            </a:xfrm>
            <a:custGeom>
              <a:avLst/>
              <a:gdLst/>
              <a:ahLst/>
              <a:rect l="l" t="t" r="r" b="b"/>
              <a:pathLst>
                <a:path w="22" h="140">
                  <a:moveTo>
                    <a:pt x="8" y="0"/>
                  </a:moveTo>
                  <a:lnTo>
                    <a:pt x="0" y="0"/>
                  </a:lnTo>
                  <a:lnTo>
                    <a:pt x="14" y="140"/>
                  </a:lnTo>
                  <a:lnTo>
                    <a:pt x="22" y="1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62800" y="4614840"/>
              <a:ext cx="54000" cy="31104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0" y="140"/>
                  </a:moveTo>
                  <a:lnTo>
                    <a:pt x="8" y="142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97720" y="4619520"/>
              <a:ext cx="49320" cy="26352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8" y="0"/>
                  </a:moveTo>
                  <a:lnTo>
                    <a:pt x="0" y="1"/>
                  </a:lnTo>
                  <a:lnTo>
                    <a:pt x="13" y="120"/>
                  </a:lnTo>
                  <a:lnTo>
                    <a:pt x="21" y="1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29400" y="4705200"/>
              <a:ext cx="50760" cy="17784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0" y="80"/>
                  </a:moveTo>
                  <a:lnTo>
                    <a:pt x="8" y="81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61080" y="4705200"/>
              <a:ext cx="50760" cy="13500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8" y="0"/>
                  </a:moveTo>
                  <a:lnTo>
                    <a:pt x="0" y="2"/>
                  </a:lnTo>
                  <a:lnTo>
                    <a:pt x="13" y="62"/>
                  </a:lnTo>
                  <a:lnTo>
                    <a:pt x="21" y="6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92760" y="4836960"/>
              <a:ext cx="49320" cy="101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8" y="0"/>
                  </a:moveTo>
                  <a:lnTo>
                    <a:pt x="0" y="2"/>
                  </a:lnTo>
                  <a:lnTo>
                    <a:pt x="12" y="47"/>
                  </a:lnTo>
                  <a:lnTo>
                    <a:pt x="21" y="4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27680" y="4895640"/>
              <a:ext cx="42840" cy="460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5"/>
                  </a:moveTo>
                  <a:lnTo>
                    <a:pt x="6" y="21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61160" y="4900680"/>
              <a:ext cx="36360" cy="37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4" y="0"/>
                  </a:moveTo>
                  <a:lnTo>
                    <a:pt x="0" y="7"/>
                  </a:lnTo>
                  <a:lnTo>
                    <a:pt x="12" y="18"/>
                  </a:lnTo>
                  <a:lnTo>
                    <a:pt x="16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86720" y="4929120"/>
              <a:ext cx="44280" cy="6984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6" y="0"/>
                  </a:moveTo>
                  <a:lnTo>
                    <a:pt x="0" y="3"/>
                  </a:lnTo>
                  <a:lnTo>
                    <a:pt x="12" y="32"/>
                  </a:lnTo>
                  <a:lnTo>
                    <a:pt x="19" y="2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15160" y="4933800"/>
              <a:ext cx="44280" cy="651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lnTo>
                    <a:pt x="7" y="30"/>
                  </a:lnTo>
                  <a:lnTo>
                    <a:pt x="19" y="3"/>
                  </a:lnTo>
                  <a:lnTo>
                    <a:pt x="1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0080" y="4925880"/>
              <a:ext cx="25560" cy="20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65920" y="4938480"/>
              <a:ext cx="47520" cy="1461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8" y="0"/>
                  </a:moveTo>
                  <a:lnTo>
                    <a:pt x="0" y="1"/>
                  </a:lnTo>
                  <a:lnTo>
                    <a:pt x="12" y="66"/>
                  </a:lnTo>
                  <a:lnTo>
                    <a:pt x="20" y="6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94360" y="4902120"/>
              <a:ext cx="46080" cy="182520"/>
            </a:xfrm>
            <a:custGeom>
              <a:avLst/>
              <a:gdLst/>
              <a:ahLst/>
              <a:rect l="l" t="t" r="r" b="b"/>
              <a:pathLst>
                <a:path w="19" h="83">
                  <a:moveTo>
                    <a:pt x="0" y="81"/>
                  </a:moveTo>
                  <a:lnTo>
                    <a:pt x="8" y="83"/>
                  </a:lnTo>
                  <a:lnTo>
                    <a:pt x="19" y="2"/>
                  </a:lnTo>
                  <a:lnTo>
                    <a:pt x="11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21360" y="4905360"/>
              <a:ext cx="44640" cy="20484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8" y="0"/>
                  </a:moveTo>
                  <a:lnTo>
                    <a:pt x="0" y="1"/>
                  </a:lnTo>
                  <a:lnTo>
                    <a:pt x="11" y="93"/>
                  </a:lnTo>
                  <a:lnTo>
                    <a:pt x="19" y="9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46920" y="4935600"/>
              <a:ext cx="44280" cy="174600"/>
            </a:xfrm>
            <a:custGeom>
              <a:avLst/>
              <a:gdLst/>
              <a:ahLst/>
              <a:rect l="l" t="t" r="r" b="b"/>
              <a:pathLst>
                <a:path w="19" h="80">
                  <a:moveTo>
                    <a:pt x="0" y="78"/>
                  </a:moveTo>
                  <a:lnTo>
                    <a:pt x="8" y="80"/>
                  </a:lnTo>
                  <a:lnTo>
                    <a:pt x="19" y="2"/>
                  </a:lnTo>
                  <a:lnTo>
                    <a:pt x="1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77160" y="4929120"/>
              <a:ext cx="36360" cy="396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0"/>
                  </a:moveTo>
                  <a:lnTo>
                    <a:pt x="0" y="8"/>
                  </a:lnTo>
                  <a:lnTo>
                    <a:pt x="11" y="18"/>
                  </a:lnTo>
                  <a:lnTo>
                    <a:pt x="15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96240" y="4959360"/>
              <a:ext cx="42840" cy="108000"/>
            </a:xfrm>
            <a:custGeom>
              <a:avLst/>
              <a:gdLst/>
              <a:ahLst/>
              <a:rect l="l" t="t" r="r" b="b"/>
              <a:pathLst>
                <a:path w="18" h="49">
                  <a:moveTo>
                    <a:pt x="8" y="0"/>
                  </a:moveTo>
                  <a:lnTo>
                    <a:pt x="0" y="1"/>
                  </a:lnTo>
                  <a:lnTo>
                    <a:pt x="10" y="49"/>
                  </a:lnTo>
                  <a:lnTo>
                    <a:pt x="18" y="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21440" y="5006880"/>
              <a:ext cx="42840" cy="60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4"/>
                  </a:moveTo>
                  <a:lnTo>
                    <a:pt x="8" y="27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45200" y="5011560"/>
              <a:ext cx="41400" cy="73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8" y="0"/>
                  </a:moveTo>
                  <a:lnTo>
                    <a:pt x="0" y="1"/>
                  </a:lnTo>
                  <a:lnTo>
                    <a:pt x="9" y="33"/>
                  </a:lnTo>
                  <a:lnTo>
                    <a:pt x="17" y="3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74000" y="5073480"/>
              <a:ext cx="34920" cy="399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5" y="0"/>
                  </a:moveTo>
                  <a:lnTo>
                    <a:pt x="0" y="6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94520" y="5067360"/>
              <a:ext cx="41400" cy="460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7"/>
                  </a:moveTo>
                  <a:lnTo>
                    <a:pt x="7" y="21"/>
                  </a:lnTo>
                  <a:lnTo>
                    <a:pt x="17" y="5"/>
                  </a:lnTo>
                  <a:lnTo>
                    <a:pt x="1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18280" y="4994280"/>
              <a:ext cx="38160" cy="792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0" y="35"/>
                  </a:moveTo>
                  <a:lnTo>
                    <a:pt x="8" y="36"/>
                  </a:lnTo>
                  <a:lnTo>
                    <a:pt x="16" y="2"/>
                  </a:lnTo>
                  <a:lnTo>
                    <a:pt x="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37360" y="4994280"/>
              <a:ext cx="42840" cy="7128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8" y="0"/>
                  </a:moveTo>
                  <a:lnTo>
                    <a:pt x="0" y="2"/>
                  </a:lnTo>
                  <a:lnTo>
                    <a:pt x="10" y="32"/>
                  </a:lnTo>
                  <a:lnTo>
                    <a:pt x="18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61120" y="4954680"/>
              <a:ext cx="39960" cy="11088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48"/>
                  </a:moveTo>
                  <a:lnTo>
                    <a:pt x="8" y="50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82000" y="4954680"/>
              <a:ext cx="42840" cy="198360"/>
            </a:xfrm>
            <a:custGeom>
              <a:avLst/>
              <a:gdLst/>
              <a:ahLst/>
              <a:rect l="l" t="t" r="r" b="b"/>
              <a:pathLst>
                <a:path w="18" h="90">
                  <a:moveTo>
                    <a:pt x="8" y="0"/>
                  </a:moveTo>
                  <a:lnTo>
                    <a:pt x="0" y="2"/>
                  </a:lnTo>
                  <a:lnTo>
                    <a:pt x="10" y="90"/>
                  </a:lnTo>
                  <a:lnTo>
                    <a:pt x="18" y="8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05760" y="5014800"/>
              <a:ext cx="39600" cy="13824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2"/>
                  </a:moveTo>
                  <a:lnTo>
                    <a:pt x="8" y="63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27720" y="5014800"/>
              <a:ext cx="36720" cy="285840"/>
            </a:xfrm>
            <a:custGeom>
              <a:avLst/>
              <a:gdLst/>
              <a:ahLst/>
              <a:rect l="l" t="t" r="r" b="b"/>
              <a:pathLst>
                <a:path w="16" h="130">
                  <a:moveTo>
                    <a:pt x="8" y="0"/>
                  </a:moveTo>
                  <a:lnTo>
                    <a:pt x="0" y="0"/>
                  </a:lnTo>
                  <a:lnTo>
                    <a:pt x="8" y="130"/>
                  </a:lnTo>
                  <a:lnTo>
                    <a:pt x="16" y="1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45360" y="5027400"/>
              <a:ext cx="42840" cy="273240"/>
            </a:xfrm>
            <a:custGeom>
              <a:avLst/>
              <a:gdLst/>
              <a:ahLst/>
              <a:rect l="l" t="t" r="r" b="b"/>
              <a:pathLst>
                <a:path w="18" h="124">
                  <a:moveTo>
                    <a:pt x="0" y="124"/>
                  </a:moveTo>
                  <a:lnTo>
                    <a:pt x="8" y="124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69120" y="5027400"/>
              <a:ext cx="38160" cy="258840"/>
            </a:xfrm>
            <a:custGeom>
              <a:avLst/>
              <a:gdLst/>
              <a:ahLst/>
              <a:rect l="l" t="t" r="r" b="b"/>
              <a:pathLst>
                <a:path w="16" h="118">
                  <a:moveTo>
                    <a:pt x="8" y="0"/>
                  </a:moveTo>
                  <a:lnTo>
                    <a:pt x="0" y="0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88200" y="5005440"/>
              <a:ext cx="38160" cy="280800"/>
            </a:xfrm>
            <a:custGeom>
              <a:avLst/>
              <a:gdLst/>
              <a:ahLst/>
              <a:rect l="l" t="t" r="r" b="b"/>
              <a:pathLst>
                <a:path w="16" h="128">
                  <a:moveTo>
                    <a:pt x="0" y="128"/>
                  </a:moveTo>
                  <a:lnTo>
                    <a:pt x="8" y="12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07280" y="5005440"/>
              <a:ext cx="38160" cy="255600"/>
            </a:xfrm>
            <a:custGeom>
              <a:avLst/>
              <a:gdLst/>
              <a:ahLst/>
              <a:rect l="l" t="t" r="r" b="b"/>
              <a:pathLst>
                <a:path w="16" h="116">
                  <a:moveTo>
                    <a:pt x="8" y="0"/>
                  </a:moveTo>
                  <a:lnTo>
                    <a:pt x="0" y="0"/>
                  </a:lnTo>
                  <a:lnTo>
                    <a:pt x="8" y="116"/>
                  </a:lnTo>
                  <a:lnTo>
                    <a:pt x="16" y="1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31040" y="4998960"/>
              <a:ext cx="33480" cy="262080"/>
            </a:xfrm>
            <a:custGeom>
              <a:avLst/>
              <a:gdLst/>
              <a:ahLst/>
              <a:rect l="l" t="t" r="r" b="b"/>
              <a:pathLst>
                <a:path w="14" h="119">
                  <a:moveTo>
                    <a:pt x="0" y="119"/>
                  </a:moveTo>
                  <a:lnTo>
                    <a:pt x="8" y="119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50120" y="4998960"/>
              <a:ext cx="38160" cy="287280"/>
            </a:xfrm>
            <a:custGeom>
              <a:avLst/>
              <a:gdLst/>
              <a:ahLst/>
              <a:rect l="l" t="t" r="r" b="b"/>
              <a:pathLst>
                <a:path w="16" h="131">
                  <a:moveTo>
                    <a:pt x="8" y="0"/>
                  </a:moveTo>
                  <a:lnTo>
                    <a:pt x="0" y="0"/>
                  </a:lnTo>
                  <a:lnTo>
                    <a:pt x="8" y="131"/>
                  </a:lnTo>
                  <a:lnTo>
                    <a:pt x="16" y="13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69200" y="5065560"/>
              <a:ext cx="34920" cy="220680"/>
            </a:xfrm>
            <a:custGeom>
              <a:avLst/>
              <a:gdLst/>
              <a:ahLst/>
              <a:rect l="l" t="t" r="r" b="b"/>
              <a:pathLst>
                <a:path w="15" h="101">
                  <a:moveTo>
                    <a:pt x="0" y="101"/>
                  </a:moveTo>
                  <a:lnTo>
                    <a:pt x="8" y="10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8280" y="5065560"/>
              <a:ext cx="36360" cy="260280"/>
            </a:xfrm>
            <a:custGeom>
              <a:avLst/>
              <a:gdLst/>
              <a:ahLst/>
              <a:rect l="l" t="t" r="r" b="b"/>
              <a:pathLst>
                <a:path w="16" h="119">
                  <a:moveTo>
                    <a:pt x="8" y="0"/>
                  </a:moveTo>
                  <a:lnTo>
                    <a:pt x="0" y="0"/>
                  </a:lnTo>
                  <a:lnTo>
                    <a:pt x="8" y="119"/>
                  </a:lnTo>
                  <a:lnTo>
                    <a:pt x="16" y="1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05560" y="5194080"/>
              <a:ext cx="36720" cy="13500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60"/>
                  </a:moveTo>
                  <a:lnTo>
                    <a:pt x="8" y="61"/>
                  </a:lnTo>
                  <a:lnTo>
                    <a:pt x="15" y="1"/>
                  </a:lnTo>
                  <a:lnTo>
                    <a:pt x="7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23200" y="5197320"/>
              <a:ext cx="38160" cy="16992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8" y="0"/>
                  </a:moveTo>
                  <a:lnTo>
                    <a:pt x="0" y="2"/>
                  </a:lnTo>
                  <a:lnTo>
                    <a:pt x="8" y="78"/>
                  </a:lnTo>
                  <a:lnTo>
                    <a:pt x="16" y="7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42280" y="5156280"/>
              <a:ext cx="34920" cy="209520"/>
            </a:xfrm>
            <a:custGeom>
              <a:avLst/>
              <a:gdLst/>
              <a:ahLst/>
              <a:rect l="l" t="t" r="r" b="b"/>
              <a:pathLst>
                <a:path w="15" h="95">
                  <a:moveTo>
                    <a:pt x="0" y="95"/>
                  </a:moveTo>
                  <a:lnTo>
                    <a:pt x="8" y="95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1360" y="5156280"/>
              <a:ext cx="41040" cy="21096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8" y="0"/>
                  </a:moveTo>
                  <a:lnTo>
                    <a:pt x="0" y="1"/>
                  </a:lnTo>
                  <a:lnTo>
                    <a:pt x="10" y="96"/>
                  </a:lnTo>
                  <a:lnTo>
                    <a:pt x="18" y="9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83320" y="5165640"/>
              <a:ext cx="28800" cy="200160"/>
            </a:xfrm>
            <a:custGeom>
              <a:avLst/>
              <a:gdLst/>
              <a:ahLst/>
              <a:rect l="l" t="t" r="r" b="b"/>
              <a:pathLst>
                <a:path w="12" h="91">
                  <a:moveTo>
                    <a:pt x="0" y="91"/>
                  </a:moveTo>
                  <a:lnTo>
                    <a:pt x="8" y="91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96280" y="5165640"/>
              <a:ext cx="34920" cy="168480"/>
            </a:xfrm>
            <a:custGeom>
              <a:avLst/>
              <a:gdLst/>
              <a:ahLst/>
              <a:rect l="l" t="t" r="r" b="b"/>
              <a:pathLst>
                <a:path w="15" h="76">
                  <a:moveTo>
                    <a:pt x="8" y="0"/>
                  </a:moveTo>
                  <a:lnTo>
                    <a:pt x="0" y="0"/>
                  </a:lnTo>
                  <a:lnTo>
                    <a:pt x="7" y="76"/>
                  </a:lnTo>
                  <a:lnTo>
                    <a:pt x="15" y="7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15360" y="5288040"/>
              <a:ext cx="34920" cy="460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18"/>
                  </a:moveTo>
                  <a:lnTo>
                    <a:pt x="7" y="21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34440" y="5288040"/>
              <a:ext cx="31680" cy="41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0" y="3"/>
                  </a:lnTo>
                  <a:lnTo>
                    <a:pt x="7" y="18"/>
                  </a:lnTo>
                  <a:lnTo>
                    <a:pt x="14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50280" y="5321160"/>
              <a:ext cx="33120" cy="302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0" y="5"/>
                  </a:lnTo>
                  <a:lnTo>
                    <a:pt x="7" y="14"/>
                  </a:lnTo>
                  <a:lnTo>
                    <a:pt x="14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9360" y="5338800"/>
              <a:ext cx="25200" cy="284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0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11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85200" y="5338800"/>
              <a:ext cx="27000" cy="284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6"/>
                  </a:moveTo>
                  <a:lnTo>
                    <a:pt x="4" y="13"/>
                  </a:lnTo>
                  <a:lnTo>
                    <a:pt x="11" y="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99240" y="5342040"/>
              <a:ext cx="30240" cy="298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0"/>
                  </a:moveTo>
                  <a:lnTo>
                    <a:pt x="0" y="5"/>
                  </a:lnTo>
                  <a:lnTo>
                    <a:pt x="6" y="14"/>
                  </a:lnTo>
                  <a:lnTo>
                    <a:pt x="1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20120" y="5351400"/>
              <a:ext cx="28440" cy="223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10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47120" y="5348160"/>
              <a:ext cx="11160" cy="237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2"/>
                  </a:moveTo>
                  <a:lnTo>
                    <a:pt x="3" y="11"/>
                  </a:lnTo>
                  <a:lnTo>
                    <a:pt x="5" y="9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56480" y="5348160"/>
              <a:ext cx="2556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0" y="9"/>
                  </a:lnTo>
                  <a:lnTo>
                    <a:pt x="11" y="11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75560" y="5329080"/>
              <a:ext cx="17640" cy="316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80240" y="5329080"/>
              <a:ext cx="27000" cy="316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0" y="3"/>
                  </a:lnTo>
                  <a:lnTo>
                    <a:pt x="5" y="15"/>
                  </a:lnTo>
                  <a:lnTo>
                    <a:pt x="12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3200" y="5329080"/>
              <a:ext cx="33120" cy="367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2"/>
                  </a:moveTo>
                  <a:lnTo>
                    <a:pt x="7" y="17"/>
                  </a:lnTo>
                  <a:lnTo>
                    <a:pt x="14" y="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0480" y="5329080"/>
              <a:ext cx="2844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7" y="0"/>
                  </a:moveTo>
                  <a:lnTo>
                    <a:pt x="0" y="5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29560" y="5342040"/>
              <a:ext cx="23760" cy="2520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lnTo>
                    <a:pt x="0" y="8"/>
                  </a:lnTo>
                  <a:lnTo>
                    <a:pt x="6" y="12"/>
                  </a:lnTo>
                  <a:lnTo>
                    <a:pt x="10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38920" y="5325840"/>
              <a:ext cx="32040" cy="349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13"/>
                  </a:moveTo>
                  <a:lnTo>
                    <a:pt x="7" y="16"/>
                  </a:lnTo>
                  <a:lnTo>
                    <a:pt x="14" y="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54760" y="5329080"/>
              <a:ext cx="28800" cy="30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0"/>
                  </a:moveTo>
                  <a:lnTo>
                    <a:pt x="0" y="5"/>
                  </a:lnTo>
                  <a:lnTo>
                    <a:pt x="6" y="14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69160" y="5317920"/>
              <a:ext cx="30240" cy="367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3"/>
                  </a:moveTo>
                  <a:lnTo>
                    <a:pt x="6" y="16"/>
                  </a:lnTo>
                  <a:lnTo>
                    <a:pt x="13" y="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12400" y="622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4720" y="5497560"/>
              <a:ext cx="2044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3640" y="549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44720" y="5133960"/>
              <a:ext cx="2044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44720" y="4770360"/>
              <a:ext cx="204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3640" y="477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44720" y="4408560"/>
              <a:ext cx="204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4720" y="4043160"/>
              <a:ext cx="20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43640" y="404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4720" y="3681360"/>
              <a:ext cx="204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44720" y="3314520"/>
              <a:ext cx="204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3640" y="3314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4720" y="2954160"/>
              <a:ext cx="2044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81000" y="2592360"/>
              <a:ext cx="270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79560" y="2592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85840" y="6424560"/>
              <a:ext cx="247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85480" y="6424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13240" y="6424560"/>
              <a:ext cx="338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12880" y="6424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43520" y="6424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40360" y="6338880"/>
              <a:ext cx="633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09640" y="230508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F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23200" y="2305080"/>
              <a:ext cx="7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G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37360" y="2317680"/>
              <a:ext cx="40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18240" y="5405400"/>
              <a:ext cx="2022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Ultimate 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ppga" descr=""/>
            <p:cNvPicPr/>
            <p:nvPr/>
          </p:nvPicPr>
          <p:blipFill>
            <a:blip r:embed="rId1"/>
            <a:stretch/>
          </p:blipFill>
          <p:spPr>
            <a:xfrm>
              <a:off x="1411200" y="2601720"/>
              <a:ext cx="180684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pga" descr=""/>
            <p:cNvPicPr/>
            <p:nvPr/>
          </p:nvPicPr>
          <p:blipFill>
            <a:blip r:embed="rId2"/>
            <a:stretch/>
          </p:blipFill>
          <p:spPr>
            <a:xfrm>
              <a:off x="1563840" y="4168800"/>
              <a:ext cx="180648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643040" y="294624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upplier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84600" y="457200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upplier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187880" y="2635200"/>
              <a:ext cx="1206360" cy="353880"/>
              <a:chOff x="4187880" y="2635200"/>
              <a:chExt cx="1206360" cy="353880"/>
            </a:xfrm>
          </p:grpSpPr>
          <p:sp>
            <p:nvSpPr>
              <p:cNvPr id="403" name=""/>
              <p:cNvSpPr/>
              <p:nvPr/>
            </p:nvSpPr>
            <p:spPr>
              <a:xfrm>
                <a:off x="4187880" y="2635200"/>
                <a:ext cx="1206360" cy="3538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260600" y="2729160"/>
                <a:ext cx="237600" cy="232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68480" y="2729160"/>
                <a:ext cx="529920" cy="10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1270080" y="5821200"/>
              <a:ext cx="65372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8040" y="55879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120" y="458316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0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5371800">
              <a:off x="6594480" y="4998960"/>
              <a:ext cx="1085760" cy="558720"/>
            </a:xfrm>
            <a:custGeom>
              <a:avLst/>
              <a:gdLst>
                <a:gd name="textAreaLeft" fmla="*/ 135720 w 1085760"/>
                <a:gd name="textAreaRight" fmla="*/ 950040 w 1085760"/>
                <a:gd name="textAreaTop" fmla="*/ 139680 h 558720"/>
                <a:gd name="textAreaBottom" fmla="*/ 41904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99ff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7553160" y="3633840"/>
              <a:ext cx="438480" cy="1436040"/>
              <a:chOff x="7553160" y="3633840"/>
              <a:chExt cx="438480" cy="1436040"/>
            </a:xfrm>
          </p:grpSpPr>
          <p:sp>
            <p:nvSpPr>
              <p:cNvPr id="411" name=""/>
              <p:cNvSpPr/>
              <p:nvPr/>
            </p:nvSpPr>
            <p:spPr>
              <a:xfrm>
                <a:off x="7553160" y="4056120"/>
                <a:ext cx="438480" cy="1013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887960" y="3633840"/>
                <a:ext cx="69120" cy="433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610760" y="4161960"/>
                <a:ext cx="322920" cy="2955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7622280" y="4510440"/>
                <a:ext cx="334440" cy="432720"/>
                <a:chOff x="7622280" y="4510440"/>
                <a:chExt cx="334440" cy="43272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7622280" y="4510440"/>
                  <a:ext cx="92160" cy="432720"/>
                  <a:chOff x="7622280" y="4510440"/>
                  <a:chExt cx="92160" cy="4327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762228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62228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62228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743240" y="4510440"/>
                  <a:ext cx="92160" cy="432720"/>
                  <a:chOff x="7743240" y="4510440"/>
                  <a:chExt cx="92160" cy="4327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774324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74324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74324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864560" y="4510440"/>
                  <a:ext cx="92160" cy="432720"/>
                  <a:chOff x="7864560" y="4510440"/>
                  <a:chExt cx="92160" cy="432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786456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786456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86456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7" name=""/>
            <p:cNvSpPr/>
            <p:nvPr/>
          </p:nvSpPr>
          <p:spPr>
            <a:xfrm>
              <a:off x="3529080" y="5006880"/>
              <a:ext cx="3043080" cy="38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80"/>
                  </a:solidFill>
                  <a:latin typeface="Arial"/>
                </a:rPr>
                <a:t>Probably EMC complia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532400" y="2976480"/>
              <a:ext cx="183816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248160" y="3087720"/>
              <a:ext cx="285480" cy="30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35720" y="3179880"/>
              <a:ext cx="304920" cy="30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23040" y="2709720"/>
              <a:ext cx="2514600" cy="38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Not EMC complia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23800" y="1787400"/>
            <a:ext cx="57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Low parasitic emission is a key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38920" y="3087720"/>
            <a:ext cx="253800" cy="181080"/>
          </a:xfrm>
          <a:prstGeom prst="hexagon">
            <a:avLst>
              <a:gd name="adj" fmla="val 35040"/>
              <a:gd name="vf" fmla="val 11547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84760" y="4118040"/>
            <a:ext cx="254160" cy="181080"/>
          </a:xfrm>
          <a:prstGeom prst="hexagon">
            <a:avLst>
              <a:gd name="adj" fmla="val 35089"/>
              <a:gd name="vf" fmla="val 11547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9BF-A1BD-44AB-80AC-8BC06DCC99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1828800" y="3048120"/>
          <a:ext cx="572292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7229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2133720" y="990720"/>
            <a:ext cx="6553080" cy="586728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112920" y="1919160"/>
            <a:ext cx="4351680" cy="3083040"/>
            <a:chOff x="3112920" y="1919160"/>
            <a:chExt cx="4351680" cy="3083040"/>
          </a:xfrm>
        </p:grpSpPr>
        <p:pic>
          <p:nvPicPr>
            <p:cNvPr id="440" name="PORTB001" descr=""/>
            <p:cNvPicPr/>
            <p:nvPr/>
          </p:nvPicPr>
          <p:blipFill>
            <a:blip r:embed="rId3"/>
            <a:stretch/>
          </p:blipFill>
          <p:spPr>
            <a:xfrm>
              <a:off x="6016680" y="1919160"/>
              <a:ext cx="1447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4229280" y="2825640"/>
              <a:ext cx="2145960" cy="217656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12920" y="1919160"/>
              <a:ext cx="3124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ae00"/>
                  </a:solidFill>
                  <a:latin typeface="Arial"/>
                </a:rPr>
                <a:t>Interference with local RF &amp; Bluetooth l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ae00"/>
                  </a:solidFill>
                  <a:latin typeface="Arial"/>
                </a:rPr>
                <a:t>433 MHz, 2.5G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368960" y="2962440"/>
            <a:ext cx="4012920" cy="2602440"/>
            <a:chOff x="4368960" y="2962440"/>
            <a:chExt cx="4012920" cy="2602440"/>
          </a:xfrm>
        </p:grpSpPr>
        <p:pic>
          <p:nvPicPr>
            <p:cNvPr id="444" name="TELE062" descr=""/>
            <p:cNvPicPr/>
            <p:nvPr/>
          </p:nvPicPr>
          <p:blipFill>
            <a:blip r:embed="rId4"/>
            <a:stretch/>
          </p:blipFill>
          <p:spPr>
            <a:xfrm>
              <a:off x="7831080" y="3073320"/>
              <a:ext cx="51768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4368960" y="2962440"/>
              <a:ext cx="1868400" cy="190332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38680" y="4556160"/>
              <a:ext cx="2743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ae00"/>
                  </a:solidFill>
                  <a:latin typeface="Arial"/>
                </a:rPr>
                <a:t>Interference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ae00"/>
                  </a:solidFill>
                  <a:latin typeface="Arial"/>
                </a:rPr>
                <a:t>mobile ph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ae00"/>
                  </a:solidFill>
                  <a:latin typeface="Arial"/>
                </a:rPr>
                <a:t>900, 1800,1900M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28600" y="1919160"/>
            <a:ext cx="5416560" cy="2317680"/>
            <a:chOff x="228600" y="1919160"/>
            <a:chExt cx="5416560" cy="2317680"/>
          </a:xfrm>
        </p:grpSpPr>
        <p:sp>
          <p:nvSpPr>
            <p:cNvPr id="449" name=""/>
            <p:cNvSpPr/>
            <p:nvPr/>
          </p:nvSpPr>
          <p:spPr>
            <a:xfrm flipH="1" rot="1995000">
              <a:off x="2649240" y="2803320"/>
              <a:ext cx="2309760" cy="533160"/>
            </a:xfrm>
            <a:prstGeom prst="leftArrow">
              <a:avLst>
                <a:gd name="adj1" fmla="val 50000"/>
                <a:gd name="adj2" fmla="val 10830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8600" y="1919160"/>
              <a:ext cx="2228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cc"/>
                  </a:solidFill>
                  <a:latin typeface="Arial"/>
                </a:rPr>
                <a:t>Example for automo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805280" y="3746520"/>
              <a:ext cx="839880" cy="490320"/>
              <a:chOff x="4805280" y="3746520"/>
              <a:chExt cx="839880" cy="490320"/>
            </a:xfrm>
          </p:grpSpPr>
          <p:sp>
            <p:nvSpPr>
              <p:cNvPr id="452" name=""/>
              <p:cNvSpPr/>
              <p:nvPr/>
            </p:nvSpPr>
            <p:spPr>
              <a:xfrm>
                <a:off x="5163840" y="3766320"/>
                <a:ext cx="0" cy="147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53" name=""/>
              <p:cNvGraphicFramePr/>
              <p:nvPr/>
            </p:nvGraphicFramePr>
            <p:xfrm>
              <a:off x="4805280" y="3746520"/>
              <a:ext cx="839880" cy="405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5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05280" y="3746520"/>
                        <a:ext cx="839880" cy="40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5" name=""/>
              <p:cNvSpPr/>
              <p:nvPr/>
            </p:nvSpPr>
            <p:spPr>
              <a:xfrm>
                <a:off x="4913280" y="3779280"/>
                <a:ext cx="5853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"/>
          <p:cNvSpPr/>
          <p:nvPr/>
        </p:nvSpPr>
        <p:spPr>
          <a:xfrm>
            <a:off x="3186000" y="3913200"/>
            <a:ext cx="1619280" cy="74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46040" y="2622600"/>
            <a:ext cx="6067440" cy="2637360"/>
            <a:chOff x="446040" y="2622600"/>
            <a:chExt cx="6067440" cy="2637360"/>
          </a:xfrm>
        </p:grpSpPr>
        <p:sp>
          <p:nvSpPr>
            <p:cNvPr id="458" name=""/>
            <p:cNvSpPr/>
            <p:nvPr/>
          </p:nvSpPr>
          <p:spPr>
            <a:xfrm>
              <a:off x="4022640" y="2622600"/>
              <a:ext cx="2490840" cy="251460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6040" y="4556160"/>
              <a:ext cx="266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Parasites internal devices 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0" name="CapteursABS1" descr=""/>
            <p:cNvPicPr/>
            <p:nvPr/>
          </p:nvPicPr>
          <p:blipFill>
            <a:blip r:embed="rId7"/>
            <a:srcRect l="26631" t="0" r="0" b="0"/>
            <a:stretch/>
          </p:blipFill>
          <p:spPr>
            <a:xfrm>
              <a:off x="2951280" y="4307040"/>
              <a:ext cx="1071360" cy="695160"/>
            </a:xfrm>
            <a:prstGeom prst="rect">
              <a:avLst/>
            </a:prstGeom>
            <a:ln w="9360">
              <a:solidFill>
                <a:srgbClr val="fc0128"/>
              </a:solidFill>
              <a:miter/>
            </a:ln>
          </p:spPr>
        </p:pic>
      </p:grpSp>
      <p:grpSp>
        <p:nvGrpSpPr>
          <p:cNvPr id="461" name=""/>
          <p:cNvGrpSpPr/>
          <p:nvPr/>
        </p:nvGrpSpPr>
        <p:grpSpPr>
          <a:xfrm>
            <a:off x="723960" y="5365800"/>
            <a:ext cx="4924440" cy="1181160"/>
            <a:chOff x="723960" y="5365800"/>
            <a:chExt cx="4924440" cy="1181160"/>
          </a:xfrm>
        </p:grpSpPr>
        <p:pic>
          <p:nvPicPr>
            <p:cNvPr id="462" name="a380" descr=""/>
            <p:cNvPicPr/>
            <p:nvPr/>
          </p:nvPicPr>
          <p:blipFill>
            <a:blip r:embed="rId8"/>
            <a:stretch/>
          </p:blipFill>
          <p:spPr>
            <a:xfrm>
              <a:off x="4022640" y="5365800"/>
              <a:ext cx="16257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723960" y="5567400"/>
              <a:ext cx="35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cc"/>
                  </a:solidFill>
                  <a:latin typeface="Arial"/>
                </a:rPr>
                <a:t>Similar EMC problems in aero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47C-EFBB-456E-A90F-668C6D1949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2209680"/>
            <a:ext cx="3962160" cy="358164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358128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chitec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0" y="445140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ign Archi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743200" y="3886200"/>
            <a:ext cx="380880" cy="533520"/>
          </a:xfrm>
          <a:custGeom>
            <a:avLst/>
            <a:gdLst>
              <a:gd name="textAreaLeft" fmla="*/ 127080 w 380880"/>
              <a:gd name="textAreaRight" fmla="*/ 326520 w 3808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2743200"/>
            <a:ext cx="228600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3352680"/>
            <a:ext cx="1676160" cy="6858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1a34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ion n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05520" y="4419720"/>
            <a:ext cx="281916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2819520"/>
            <a:ext cx="2743200" cy="281916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5337" y="3053"/>
                </a:moveTo>
                <a:arcTo wR="-9479" hR="-9479" stAng="-7511435" swAng="-10571274"/>
                <a:lnTo>
                  <a:pt x="5177" y="1580"/>
                </a:lnTo>
                <a:arcTo wR="10800" hR="10800" stAng="-7282709" swAng="10571274"/>
                <a:lnTo>
                  <a:pt x="18580" y="21833"/>
                </a:lnTo>
                <a:lnTo>
                  <a:pt x="13897" y="21023"/>
                </a:lnTo>
                <a:lnTo>
                  <a:pt x="14707" y="1634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81680" y="5181480"/>
            <a:ext cx="685800" cy="60984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67280" y="5181480"/>
            <a:ext cx="838440" cy="60984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82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0" y="58672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24080" y="4648320"/>
            <a:ext cx="2971800" cy="167616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9788" y="11358"/>
                </a:moveTo>
                <a:arcTo wR="-9005" hR="-9005" stAng="213151" swAng="-8853219"/>
                <a:lnTo>
                  <a:pt x="19538" y="17148"/>
                </a:lnTo>
                <a:arcTo wR="10800" hR="10800" stAng="2159932" swAng="8853219"/>
                <a:lnTo>
                  <a:pt x="-2674" y="9963"/>
                </a:lnTo>
                <a:lnTo>
                  <a:pt x="1139" y="6596"/>
                </a:lnTo>
                <a:lnTo>
                  <a:pt x="4507" y="104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52680" y="2819520"/>
            <a:ext cx="1676520" cy="27241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21600" h="21600">
                <a:moveTo>
                  <a:pt x="5937" y="18912"/>
                </a:moveTo>
                <a:arcTo wR="-9458" hR="-9458" stAng="7256329" swAng="-7262509"/>
                <a:lnTo>
                  <a:pt x="0" y="10819"/>
                </a:lnTo>
                <a:arcTo wR="10800" hR="10800" stAng="10793819" swAng="7262509"/>
                <a:lnTo>
                  <a:pt x="17741" y="-779"/>
                </a:lnTo>
                <a:lnTo>
                  <a:pt x="18899" y="3845"/>
                </a:lnTo>
                <a:lnTo>
                  <a:pt x="14274" y="5004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9558200">
            <a:off x="3351240" y="5715000"/>
            <a:ext cx="1295640" cy="565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+ 6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+ $$$$$$$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44320" y="480060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ianc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350532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0c18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ion n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99280" y="6197760"/>
            <a:ext cx="1676160" cy="496800"/>
          </a:xfrm>
          <a:prstGeom prst="flowChartAlternateProcess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C compl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4880" y="178740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bsolete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266688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ystem on c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05120" y="2971800"/>
            <a:ext cx="380880" cy="533520"/>
          </a:xfrm>
          <a:custGeom>
            <a:avLst/>
            <a:gdLst>
              <a:gd name="textAreaLeft" fmla="*/ 127080 w 380880"/>
              <a:gd name="textAreaRight" fmla="*/ 326520 w 3808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3C7-FDF9-45D9-8874-1CD797D7EB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rcRect l="5756" t="0" r="4989" b="5128"/>
          <a:stretch/>
        </p:blipFill>
        <p:spPr>
          <a:xfrm>
            <a:off x="3581280" y="2590920"/>
            <a:ext cx="3124440" cy="25002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6905520" y="3336840"/>
            <a:ext cx="277200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s22" descr=""/>
          <p:cNvPicPr/>
          <p:nvPr/>
        </p:nvPicPr>
        <p:blipFill>
          <a:blip r:embed="rId3"/>
          <a:stretch/>
        </p:blipFill>
        <p:spPr>
          <a:xfrm>
            <a:off x="561960" y="2376360"/>
            <a:ext cx="3019320" cy="21700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4880" y="178740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bsolete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98000" y="493776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C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8040" y="53172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totyp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558200" y="53172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MC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365960" y="3632040"/>
            <a:ext cx="863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65960" y="3124080"/>
            <a:ext cx="40644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7201080" y="1994040"/>
            <a:ext cx="571320" cy="79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808480" y="24249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321680" y="1627200"/>
            <a:ext cx="1523520" cy="928440"/>
            <a:chOff x="7321680" y="1627200"/>
            <a:chExt cx="1523520" cy="928440"/>
          </a:xfrm>
        </p:grpSpPr>
        <p:sp>
          <p:nvSpPr>
            <p:cNvPr id="499" name=""/>
            <p:cNvSpPr/>
            <p:nvPr/>
          </p:nvSpPr>
          <p:spPr>
            <a:xfrm>
              <a:off x="7321680" y="1627200"/>
              <a:ext cx="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21680" y="2555640"/>
              <a:ext cx="152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21680" y="2026080"/>
              <a:ext cx="1320120" cy="398880"/>
            </a:xfrm>
            <a:custGeom>
              <a:avLst/>
              <a:gdLst/>
              <a:ahLst/>
              <a:rect l="l" t="t" r="r" b="b"/>
              <a:pathLst>
                <a:path w="624" h="144">
                  <a:moveTo>
                    <a:pt x="0" y="0"/>
                  </a:moveTo>
                  <a:lnTo>
                    <a:pt x="288" y="0"/>
                  </a:lnTo>
                  <a:lnTo>
                    <a:pt x="480" y="144"/>
                  </a:lnTo>
                  <a:lnTo>
                    <a:pt x="624" y="144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V="1">
            <a:off x="7558200" y="2025360"/>
            <a:ext cx="0" cy="5302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772400" y="2244240"/>
            <a:ext cx="0" cy="3114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7931160" y="1770120"/>
            <a:ext cx="0" cy="7682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8134200" y="2244240"/>
            <a:ext cx="0" cy="3114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8337600" y="2425680"/>
            <a:ext cx="0" cy="1303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51800" y="1626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4760" y="2756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77000" y="1627200"/>
            <a:ext cx="457200" cy="4572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03040" y="594360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Electromagnetic incompatibility found too 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6C8-21C2-4222-BA7F-DBC37F4C7A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762120" y="2333520"/>
            <a:ext cx="5638680" cy="41911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4120" y="4889520"/>
            <a:ext cx="3886200" cy="1523880"/>
            <a:chOff x="5334120" y="4889520"/>
            <a:chExt cx="3886200" cy="1523880"/>
          </a:xfrm>
        </p:grpSpPr>
        <p:sp>
          <p:nvSpPr>
            <p:cNvPr id="513" name=""/>
            <p:cNvSpPr/>
            <p:nvPr/>
          </p:nvSpPr>
          <p:spPr>
            <a:xfrm>
              <a:off x="6934320" y="4889520"/>
              <a:ext cx="2286000" cy="1523880"/>
            </a:xfrm>
            <a:prstGeom prst="flowChartAlternateProcess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39240" y="5499000"/>
              <a:ext cx="1676160" cy="685800"/>
            </a:xfrm>
            <a:prstGeom prst="flowChartAlternateProcess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MC compli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5943600" y="4965840"/>
              <a:ext cx="533520" cy="1752480"/>
            </a:xfrm>
            <a:prstGeom prst="downArrow">
              <a:avLst>
                <a:gd name="adj1" fmla="val 39889"/>
                <a:gd name="adj2" fmla="val 69132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09880" y="4432320"/>
            <a:ext cx="1828800" cy="1980720"/>
            <a:chOff x="3809880" y="4432320"/>
            <a:chExt cx="1828800" cy="1980720"/>
          </a:xfrm>
        </p:grpSpPr>
        <p:sp>
          <p:nvSpPr>
            <p:cNvPr id="517" name=""/>
            <p:cNvSpPr/>
            <p:nvPr/>
          </p:nvSpPr>
          <p:spPr>
            <a:xfrm>
              <a:off x="3809880" y="5026320"/>
              <a:ext cx="1828800" cy="1386720"/>
            </a:xfrm>
            <a:prstGeom prst="flowChartAlternateProcess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93b8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C Simul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ompliance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952880" y="4432320"/>
              <a:ext cx="380880" cy="59400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342000 h 594000"/>
                <a:gd name="textAreaBottom" fmla="*/ 509040 h 5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43040" y="5753160"/>
              <a:ext cx="609840" cy="329760"/>
            </a:xfrm>
            <a:prstGeom prst="flowChartAlternateProcess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6160" y="178740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rget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46060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ystem on c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33520" y="2612520"/>
            <a:ext cx="3276000" cy="1514880"/>
            <a:chOff x="533520" y="2612520"/>
            <a:chExt cx="3276000" cy="1514880"/>
          </a:xfrm>
        </p:grpSpPr>
        <p:sp>
          <p:nvSpPr>
            <p:cNvPr id="524" name=""/>
            <p:cNvSpPr/>
            <p:nvPr/>
          </p:nvSpPr>
          <p:spPr>
            <a:xfrm>
              <a:off x="2361960" y="3146040"/>
              <a:ext cx="1447560" cy="685800"/>
            </a:xfrm>
            <a:prstGeom prst="flowChartAlternateProcess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4667b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rchitectur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8280" y="3517560"/>
              <a:ext cx="182844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rchite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uide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3146040"/>
              <a:ext cx="137124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rai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2361960" y="2612160"/>
              <a:ext cx="380520" cy="685800"/>
            </a:xfrm>
            <a:custGeom>
              <a:avLst/>
              <a:gdLst>
                <a:gd name="textAreaLeft" fmla="*/ 126720 w 380520"/>
                <a:gd name="textAreaRight" fmla="*/ 326160 w 380520"/>
                <a:gd name="textAreaTop" fmla="*/ 394920 h 685800"/>
                <a:gd name="textAreaBottom" fmla="*/ 5875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308400" y="3441600"/>
            <a:ext cx="2711520" cy="1371600"/>
            <a:chOff x="3308400" y="3441600"/>
            <a:chExt cx="2711520" cy="1371600"/>
          </a:xfrm>
        </p:grpSpPr>
        <p:sp>
          <p:nvSpPr>
            <p:cNvPr id="529" name=""/>
            <p:cNvSpPr/>
            <p:nvPr/>
          </p:nvSpPr>
          <p:spPr>
            <a:xfrm>
              <a:off x="3308400" y="4127400"/>
              <a:ext cx="1676520" cy="685800"/>
            </a:xfrm>
            <a:prstGeom prst="flowChartAlternateProcess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4667b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Design E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esign Archit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810240" y="3517200"/>
              <a:ext cx="380880" cy="68580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394920 h 685800"/>
                <a:gd name="textAreaBottom" fmla="*/ 5875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91120" y="3441600"/>
              <a:ext cx="182880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uide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185840" y="3975120"/>
            <a:ext cx="2395080" cy="1523880"/>
            <a:chOff x="1185840" y="3975120"/>
            <a:chExt cx="2395080" cy="1523880"/>
          </a:xfrm>
        </p:grpSpPr>
        <p:sp>
          <p:nvSpPr>
            <p:cNvPr id="533" name=""/>
            <p:cNvSpPr/>
            <p:nvPr/>
          </p:nvSpPr>
          <p:spPr>
            <a:xfrm>
              <a:off x="1599840" y="4813200"/>
              <a:ext cx="1981080" cy="6858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 u="sng">
                  <a:solidFill>
                    <a:srgbClr val="fc0128"/>
                  </a:solidFill>
                  <a:uFillTx/>
                  <a:latin typeface="Arial"/>
                </a:rPr>
                <a:t>IC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85840" y="4356000"/>
              <a:ext cx="1371240" cy="5335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2742840" y="3975120"/>
              <a:ext cx="380880" cy="83808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46880 h 838080"/>
                <a:gd name="textAreaBottom" fmla="*/ 6080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9E7-3C93-4345-B701-2448BE5A0C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3:38:00Z</dcterms:created>
  <dc:creator>DGEI</dc:creator>
  <dc:description/>
  <dc:language>en-US</dc:language>
  <cp:lastModifiedBy>bobr</cp:lastModifiedBy>
  <cp:lastPrinted>2001-09-03T08:39:55Z</cp:lastPrinted>
  <dcterms:modified xsi:type="dcterms:W3CDTF">2002-01-21T23:57:43Z</dcterms:modified>
  <cp:revision>45</cp:revision>
  <dc:subject>EMC model for ICs</dc:subject>
  <dc:title>Aucun titre de diapositive</dc:title>
</cp:coreProperties>
</file>