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477-CFD6-4DD3-AACA-CC6D98BD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9BD-CD87-492D-B198-8F3D2CD9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189-4362-4E18-9B7F-1430F5F2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BA0-91F2-4F1D-87ED-E7A80223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F26-E250-4B9C-91FF-A81D6E50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BEA-39CD-4103-91B3-5671121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663-075B-4E36-9163-E17740C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69F-571E-4BA1-9045-4FD70CFE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8D2-4BF5-47F8-95E8-4DC44335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CD1-A626-4703-B592-36F7767E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758-2A60-4134-B125-8C401F69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34B-0990-451E-80D2-0F3C5396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B7B6-C3E4-4F64-A1E4-7C108CBCE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a Clara,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9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vities &amp;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 Version 3.2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chk3 Version 3.2.6 &amp; BUG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Version 4.0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s being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 Specification (V 0.960 Uploaded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“IBIS-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IAJ IM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JEDEC activi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uropean TC93 WG6 EMC/EMI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otential impacts: VHDL_AMS, Verilog_AMS, XML, More spec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Overview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BIS Model Development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Models, Validation, L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SI, Power/Gnd/EMI,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 Specification Progress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Map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IBIS-X Progress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 Language,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s &amp; Ad Hoc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hanks &amp; Next Meeting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Presenters &amp;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Con 2001 (IBIS is Associate Spon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Semiconductor &amp; Milt Schwa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ele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6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IBIS Summi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h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6, 2001 after DATE 2001 exhib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sponsors Cadence, Innoveda, Mentor, Zu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-4 presentations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r</cp:lastModifiedBy>
  <cp:lastPrinted>2000-06-06T14:36:42Z</cp:lastPrinted>
  <dcterms:modified xsi:type="dcterms:W3CDTF">2001-01-24T18:18:15Z</dcterms:modified>
  <cp:revision>146</cp:revision>
  <dc:subject/>
  <dc:title>IBIS ACCURACY</dc:title>
</cp:coreProperties>
</file>