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93F-BAA9-4359-99BC-C404C908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DC8-D281-44C5-BA95-FC6A58DB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979-3B8B-4567-BE85-B5A65C3B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C20-5CCF-49E9-A54F-0F1BA64A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E599-7200-4822-BC2B-88533507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6CD1-D88A-492D-AE30-69252726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3F77-26DE-47AD-881D-192AEEC5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D78D-1D62-4F37-86B8-FB509830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5323-935C-48C2-BE4B-4C7FC878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C947-D352-498B-A348-CFEAAC9A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9129-5ED7-4733-B9A7-603A45E6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63A-E842-4866-8E97-1C722A3A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D9D3-2BF7-4344-A3F3-A60B5430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63B0-F27E-4B2C-AB3A-AF400D96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1DE9-B40F-40A6-8562-F71D295A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9639-5E50-4BDD-A9DD-1A66EA34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0A17-53E0-4CC1-837D-24D52A67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E74E-A25C-4109-A98C-20BD57F6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800-621F-4AEE-9851-AFA0C228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85A-8B85-49DF-AB90-11BB2403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449-A7A9-4F16-A603-5222097E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0F9-9E95-4296-AD1D-F2905D87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163-57E3-4998-8B8A-EE7C29BD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736-C05A-41E5-BB8A-7A893C51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57D4-3E4C-4191-9D63-33E280ADAF5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D6F0-5E2F-4071-90AB-A53039E3CEF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BIS Futures Group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Update on IBIS-X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tephen Peters,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l Corp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BIS Futures Committee Memb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dence: Ian Dod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BM: Michael Coh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novEDA: John Angu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ependent: Al Dav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l: Arpad Muranyi, Stephen Peters (chair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ntor Graphics: Bob Ro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as Instruments: Stephen No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 of IBIS-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extensible syntax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pport for new technologies/requirements without constantly changing the stand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able complex/coupled package descrip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pport pwr delivery, coupled pins, gnd bounce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intain backwards compati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able reuse of current 3.2 mod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tional Requirements (since inception of projec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pport for equation based mode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ow HTML viewing of .ibs fi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pport for public key encryp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BIS-X in a Nutshell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s a nodal based pkg descri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e interconnect (pad &lt;-&gt; pin) descrip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wer delivery and pin-pin coup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s a macro language for creating new model typ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lexible, extendable, allows existing IBIS models to be reus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ables a wide variety of descrip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Bottom Line: user will have the ability to create his/her own custom buffer (model_type), then specify a pkg model in a standard forma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IBIS-X Stat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BIS 3.2 has been implemented in IBIS macro la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 Al Davis for presentation on IBIS-X pars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king group meets bi-weekly to work on writing formal spec(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verall IBIS-X spec – see handout for samp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gu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grammers LRM (next couple of month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ch work remains on die interconnect s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ed for additional volunte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me Current Iss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ignment with Connector Spe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anges required in header section to make both the s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se Sensitivity in .ibs fi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urrently case sensitiv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ed to create rules for capitaliz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best to support HTML viewing of .ibs fi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to support general equations &amp; black boxes (I.e. Berkley ‘B-element’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 first release?  Subsequent releas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does API fit into all thi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5T23:57:15Z</dcterms:created>
  <dc:creator>sjpeters</dc:creator>
  <dc:description/>
  <dc:language>en-US</dc:language>
  <cp:lastModifiedBy>sjpeters</cp:lastModifiedBy>
  <dcterms:modified xsi:type="dcterms:W3CDTF">2001-01-26T01:04:14Z</dcterms:modified>
  <cp:revision>6</cp:revision>
  <dc:subject/>
  <dc:title>IBIS Futures Group  Update on IBIS-X</dc:title>
</cp:coreProperties>
</file>