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4040" y="742680"/>
            <a:ext cx="495468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4336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2139-4906-4288-88DA-99C34BA2A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 I can’t see what I am typing when I enter the presenter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&amp; ti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This is an issue with PowerPoint. Here is the current work around, not the most elegant solution but it work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Select the area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Type a wor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Highlight the wo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Change font color to back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Finish typ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Select 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Change font color to whi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E30DC-7C5F-4FF7-9E61-B35172C91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65376-BC4A-422B-A0C6-45466FAF5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4E848-5049-4604-B364-1903C52D5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20561-E3EF-43CC-A714-F3F4E2773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7E65E-E6F9-4F96-B1DB-AA8329240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1AC1B-8802-4B7D-BB76-F241C918F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E8DBA-7465-4F29-BC8B-27AAF3069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A4160-1C7C-4EB7-8FA4-D2759F0D8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49A44-E655-43CA-B31D-4AA191116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8C2F6-908E-4480-A3EC-BEC98EA25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C3758-C00B-47E2-8942-F70E93A37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19FC8-C58F-4299-9D4B-F0185F43F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3480"/>
            <a:ext cx="6858000" cy="614520"/>
          </a:xfrm>
          <a:prstGeom prst="rect">
            <a:avLst/>
          </a:prstGeom>
          <a:solidFill>
            <a:srgbClr val="b3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629400" y="6243480"/>
            <a:ext cx="2514600" cy="614520"/>
          </a:xfrm>
          <a:prstGeom prst="rect">
            <a:avLst/>
          </a:prstGeom>
          <a:solidFill>
            <a:srgbClr val="ffde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ffcc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ffcc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808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4572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4D45-F533-4054-B37F-5302061322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MGC-Logo_xs" descr=""/>
          <p:cNvPicPr/>
          <p:nvPr/>
        </p:nvPicPr>
        <p:blipFill>
          <a:blip r:embed="rId2"/>
          <a:stretch/>
        </p:blipFill>
        <p:spPr>
          <a:xfrm>
            <a:off x="7086600" y="6297480"/>
            <a:ext cx="1600200" cy="5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48520" y="151920"/>
            <a:ext cx="26668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1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4" name="MGC%20Graphic" descr=""/>
          <p:cNvPicPr/>
          <p:nvPr/>
        </p:nvPicPr>
        <p:blipFill>
          <a:blip r:embed="rId2"/>
          <a:stretch/>
        </p:blipFill>
        <p:spPr>
          <a:xfrm>
            <a:off x="0" y="0"/>
            <a:ext cx="6068880" cy="5735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727600"/>
            <a:ext cx="6070680" cy="1130400"/>
          </a:xfrm>
          <a:prstGeom prst="rect">
            <a:avLst/>
          </a:prstGeom>
          <a:solidFill>
            <a:srgbClr val="a2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54840" y="5727600"/>
            <a:ext cx="3089160" cy="1130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MGCblock201_96dpi" descr=""/>
          <p:cNvPicPr/>
          <p:nvPr/>
        </p:nvPicPr>
        <p:blipFill>
          <a:blip r:embed="rId3"/>
          <a:stretch/>
        </p:blipFill>
        <p:spPr>
          <a:xfrm>
            <a:off x="6302520" y="5867280"/>
            <a:ext cx="2514600" cy="828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49"/>
              </a:spcBef>
              <a:buClr>
                <a:srgbClr val="ffcc00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65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6172200"/>
            <a:ext cx="6858000" cy="685800"/>
          </a:xfrm>
          <a:prstGeom prst="rect">
            <a:avLst/>
          </a:prstGeom>
          <a:solidFill>
            <a:srgbClr val="b3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29400" y="6172200"/>
            <a:ext cx="2514600" cy="685800"/>
          </a:xfrm>
          <a:prstGeom prst="rect">
            <a:avLst/>
          </a:prstGeom>
          <a:solidFill>
            <a:srgbClr val="ffde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6172200"/>
            <a:ext cx="2361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ww.mentor.com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MGC%20Graphic%20Closing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8D9FB-6B29-4EAE-9491-DE70FCF2BB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010640" cy="49496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ulation at 5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Modeling Review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thod-I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DDEE5-9063-4434-9048-A9A7B3B240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295280" y="1398600"/>
            <a:ext cx="6705720" cy="47372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ulation at 1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C Shift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Modeling Review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thod-I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5943240" y="380988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791320" y="457164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35A57-95FA-412F-B5CB-88257E58FA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Modeling Review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thod-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-I Suppor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a Load Equal t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_fix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-I Fails 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t Load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038480" y="1523880"/>
            <a:ext cx="4191120" cy="3886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RISE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R_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ADN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R_f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V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5400000">
            <a:off x="4558680" y="2224080"/>
            <a:ext cx="1533600" cy="11998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05520" y="3276720"/>
            <a:ext cx="199800" cy="236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2824200"/>
            <a:ext cx="61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1520" y="4267080"/>
            <a:ext cx="601560" cy="70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095880" y="2590920"/>
            <a:ext cx="152280" cy="456480"/>
            <a:chOff x="6095880" y="2590920"/>
            <a:chExt cx="152280" cy="456480"/>
          </a:xfrm>
        </p:grpSpPr>
        <p:sp>
          <p:nvSpPr>
            <p:cNvPr id="467" name=""/>
            <p:cNvSpPr/>
            <p:nvPr/>
          </p:nvSpPr>
          <p:spPr>
            <a:xfrm>
              <a:off x="6177600" y="2590920"/>
              <a:ext cx="68400" cy="4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6095880" y="2652120"/>
              <a:ext cx="14904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99120" y="2736720"/>
              <a:ext cx="1490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6095880" y="2829240"/>
              <a:ext cx="14904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99120" y="2914200"/>
              <a:ext cx="1490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6176160" y="3002400"/>
              <a:ext cx="68400" cy="4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5105520" y="228600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6172200" y="2285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7220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7543800" y="4952880"/>
            <a:ext cx="347400" cy="378000"/>
            <a:chOff x="7543800" y="4952880"/>
            <a:chExt cx="347400" cy="378000"/>
          </a:xfrm>
        </p:grpSpPr>
        <p:sp>
          <p:nvSpPr>
            <p:cNvPr id="477" name=""/>
            <p:cNvSpPr/>
            <p:nvPr/>
          </p:nvSpPr>
          <p:spPr>
            <a:xfrm>
              <a:off x="7717320" y="4952880"/>
              <a:ext cx="0" cy="22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43800" y="5179320"/>
              <a:ext cx="34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30200" y="5254920"/>
              <a:ext cx="17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77720" y="5330880"/>
              <a:ext cx="7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5851440" y="166068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7696080" y="2590920"/>
            <a:ext cx="152280" cy="456480"/>
            <a:chOff x="7696080" y="2590920"/>
            <a:chExt cx="152280" cy="456480"/>
          </a:xfrm>
        </p:grpSpPr>
        <p:sp>
          <p:nvSpPr>
            <p:cNvPr id="483" name=""/>
            <p:cNvSpPr/>
            <p:nvPr/>
          </p:nvSpPr>
          <p:spPr>
            <a:xfrm>
              <a:off x="7777800" y="2590920"/>
              <a:ext cx="68400" cy="4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7696080" y="2652120"/>
              <a:ext cx="14904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99320" y="2736720"/>
              <a:ext cx="1490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696080" y="2829240"/>
              <a:ext cx="14904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99320" y="2914200"/>
              <a:ext cx="1490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776360" y="3002400"/>
              <a:ext cx="68400" cy="4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7772400" y="2286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772400" y="30481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34120" y="335268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6476760" y="3657600"/>
            <a:ext cx="152280" cy="456480"/>
            <a:chOff x="6476760" y="3657600"/>
            <a:chExt cx="152280" cy="456480"/>
          </a:xfrm>
        </p:grpSpPr>
        <p:sp>
          <p:nvSpPr>
            <p:cNvPr id="493" name=""/>
            <p:cNvSpPr/>
            <p:nvPr/>
          </p:nvSpPr>
          <p:spPr>
            <a:xfrm>
              <a:off x="6558840" y="3657600"/>
              <a:ext cx="68400" cy="4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6476760" y="3718800"/>
              <a:ext cx="14868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80360" y="3803400"/>
              <a:ext cx="1486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476760" y="3895920"/>
              <a:ext cx="14868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80360" y="3980880"/>
              <a:ext cx="1486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557400" y="4069080"/>
              <a:ext cx="68400" cy="4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6553080" y="3352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48520" y="4267080"/>
            <a:ext cx="601560" cy="70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553080" y="41148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400800" y="4952880"/>
            <a:ext cx="347400" cy="378000"/>
            <a:chOff x="6400800" y="4952880"/>
            <a:chExt cx="347400" cy="378000"/>
          </a:xfrm>
        </p:grpSpPr>
        <p:sp>
          <p:nvSpPr>
            <p:cNvPr id="503" name=""/>
            <p:cNvSpPr/>
            <p:nvPr/>
          </p:nvSpPr>
          <p:spPr>
            <a:xfrm>
              <a:off x="6574320" y="4952880"/>
              <a:ext cx="0" cy="22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00800" y="5179320"/>
              <a:ext cx="34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487200" y="5254920"/>
              <a:ext cx="17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534720" y="5330880"/>
              <a:ext cx="7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7FC9A-4216-4E03-A023-131E8CC6B6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Modeling Review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thod-I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ce Set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A. Muranyi “ Introduction to IBIS Models and IBIS Model Making”, Sept. 11-13,2000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52280" y="1981080"/>
            <a:ext cx="4191120" cy="3886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I Cu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N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Hi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=-I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Lo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PAD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rot="5400000">
            <a:off x="672480" y="2681280"/>
            <a:ext cx="1533600" cy="11998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362320" y="4191120"/>
            <a:ext cx="601560" cy="707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209680" y="4114800"/>
            <a:ext cx="801720" cy="944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514240" y="3657600"/>
            <a:ext cx="299880" cy="353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2514240" y="3657240"/>
            <a:ext cx="299880" cy="353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339920" y="2631960"/>
            <a:ext cx="199800" cy="236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" y="3281400"/>
            <a:ext cx="61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2209680" y="3048120"/>
            <a:ext cx="152280" cy="456480"/>
            <a:chOff x="2209680" y="3048120"/>
            <a:chExt cx="152280" cy="456480"/>
          </a:xfrm>
        </p:grpSpPr>
        <p:sp>
          <p:nvSpPr>
            <p:cNvPr id="518" name=""/>
            <p:cNvSpPr/>
            <p:nvPr/>
          </p:nvSpPr>
          <p:spPr>
            <a:xfrm>
              <a:off x="2291400" y="3048120"/>
              <a:ext cx="68400" cy="4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2209680" y="3109320"/>
              <a:ext cx="14904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12920" y="3193920"/>
              <a:ext cx="1490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2209680" y="3286440"/>
              <a:ext cx="14904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212920" y="3371400"/>
              <a:ext cx="1490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2289960" y="3459600"/>
              <a:ext cx="68400" cy="4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 flipV="1">
            <a:off x="2286000" y="27428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380988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86000" y="3505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666880" y="38098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2514600" y="4876920"/>
            <a:ext cx="347400" cy="377640"/>
            <a:chOff x="2514600" y="4876920"/>
            <a:chExt cx="347400" cy="377640"/>
          </a:xfrm>
        </p:grpSpPr>
        <p:sp>
          <p:nvSpPr>
            <p:cNvPr id="529" name=""/>
            <p:cNvSpPr/>
            <p:nvPr/>
          </p:nvSpPr>
          <p:spPr>
            <a:xfrm>
              <a:off x="2688120" y="4876920"/>
              <a:ext cx="0" cy="22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14600" y="5103360"/>
              <a:ext cx="34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01000" y="5178960"/>
              <a:ext cx="17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48520" y="5254560"/>
              <a:ext cx="7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965240" y="211788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19720" y="28051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495680" y="1981080"/>
            <a:ext cx="4191120" cy="3886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T Cu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N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RISE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=-I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FALL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R_f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5400000">
            <a:off x="5015880" y="2681280"/>
            <a:ext cx="1533600" cy="11998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683320" y="2631960"/>
            <a:ext cx="199800" cy="236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72000" y="3281400"/>
            <a:ext cx="61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086600" y="4648320"/>
            <a:ext cx="601560" cy="707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6553080" y="3048120"/>
            <a:ext cx="152280" cy="456480"/>
            <a:chOff x="6553080" y="3048120"/>
            <a:chExt cx="152280" cy="456480"/>
          </a:xfrm>
        </p:grpSpPr>
        <p:sp>
          <p:nvSpPr>
            <p:cNvPr id="541" name=""/>
            <p:cNvSpPr/>
            <p:nvPr/>
          </p:nvSpPr>
          <p:spPr>
            <a:xfrm>
              <a:off x="6634800" y="3048120"/>
              <a:ext cx="68400" cy="4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6553080" y="3109320"/>
              <a:ext cx="14904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56320" y="3193920"/>
              <a:ext cx="1490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6553080" y="3286440"/>
              <a:ext cx="14904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56320" y="3371400"/>
              <a:ext cx="1490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6633360" y="3459600"/>
              <a:ext cx="68400" cy="4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5867280" y="274320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629400" y="27428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3505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7238880" y="5334120"/>
            <a:ext cx="347400" cy="377640"/>
            <a:chOff x="7238880" y="5334120"/>
            <a:chExt cx="347400" cy="377640"/>
          </a:xfrm>
        </p:grpSpPr>
        <p:sp>
          <p:nvSpPr>
            <p:cNvPr id="551" name=""/>
            <p:cNvSpPr/>
            <p:nvPr/>
          </p:nvSpPr>
          <p:spPr>
            <a:xfrm>
              <a:off x="7412400" y="5334120"/>
              <a:ext cx="0" cy="22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238880" y="5560560"/>
              <a:ext cx="34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325280" y="5636160"/>
              <a:ext cx="17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72800" y="5711760"/>
              <a:ext cx="7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308640" y="211788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05320" y="3657600"/>
            <a:ext cx="609480" cy="838080"/>
          </a:xfrm>
          <a:prstGeom prst="diamond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809880" y="2743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5103720"/>
            <a:ext cx="347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745080" y="517860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90800" y="5254560"/>
            <a:ext cx="81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809880" y="44956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1523880" y="274320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924680" y="3657600"/>
            <a:ext cx="609840" cy="838080"/>
          </a:xfrm>
          <a:prstGeom prst="diamond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8229600" y="2743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238880" y="4038480"/>
            <a:ext cx="228240" cy="456480"/>
            <a:chOff x="7238880" y="4038480"/>
            <a:chExt cx="228240" cy="456480"/>
          </a:xfrm>
        </p:grpSpPr>
        <p:sp>
          <p:nvSpPr>
            <p:cNvPr id="566" name=""/>
            <p:cNvSpPr/>
            <p:nvPr/>
          </p:nvSpPr>
          <p:spPr>
            <a:xfrm>
              <a:off x="7361280" y="4038480"/>
              <a:ext cx="102600" cy="4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7238880" y="4099680"/>
              <a:ext cx="22320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243920" y="4184280"/>
              <a:ext cx="22320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7238880" y="4276800"/>
              <a:ext cx="22320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243920" y="4361760"/>
              <a:ext cx="22320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7359120" y="4449960"/>
              <a:ext cx="102600" cy="4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7391520" y="4495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391520" y="38095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5562720" y="38098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077320" y="5560920"/>
            <a:ext cx="347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164440" y="5635800"/>
            <a:ext cx="17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210520" y="5711760"/>
            <a:ext cx="81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229600" y="44956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809880" y="38098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8229600" y="38098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B86CB-DA4A-4159-853B-11F3FC379F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49800" cy="49104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ulation at 5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C Shift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Modeling Review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thod-II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5943240" y="3733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5791320" y="457164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C8BEB-E889-4D30-BCE9-2C8398A42D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 flipV="1">
            <a:off x="4191120" y="1218240"/>
            <a:ext cx="4419360" cy="4724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1600200"/>
            <a:ext cx="4267080" cy="39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ll-u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P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D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_f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ull-down                             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V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ull-up                                 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ADN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_f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ull-down                 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Modeling Review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thod-I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ysi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-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results i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U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-II is Valid only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280120" y="1590840"/>
            <a:ext cx="423720" cy="644400"/>
          </a:xfrm>
          <a:prstGeom prst="rect">
            <a:avLst/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280120" y="2470320"/>
            <a:ext cx="423720" cy="645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80120" y="3819600"/>
            <a:ext cx="423720" cy="646200"/>
          </a:xfrm>
          <a:prstGeom prst="rect">
            <a:avLst/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280120" y="4700520"/>
            <a:ext cx="423720" cy="644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492880" y="2235240"/>
            <a:ext cx="0" cy="23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92880" y="4465800"/>
            <a:ext cx="0" cy="23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92880" y="4583160"/>
            <a:ext cx="155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6198840" y="3233880"/>
            <a:ext cx="141120" cy="526680"/>
            <a:chOff x="6198840" y="3233880"/>
            <a:chExt cx="141120" cy="526680"/>
          </a:xfrm>
        </p:grpSpPr>
        <p:sp>
          <p:nvSpPr>
            <p:cNvPr id="598" name=""/>
            <p:cNvSpPr/>
            <p:nvPr/>
          </p:nvSpPr>
          <p:spPr>
            <a:xfrm>
              <a:off x="6274800" y="3233880"/>
              <a:ext cx="63360" cy="5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6198840" y="3304440"/>
              <a:ext cx="137880" cy="8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02080" y="3402000"/>
              <a:ext cx="137880" cy="8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6198840" y="3508560"/>
              <a:ext cx="137880" cy="8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202080" y="3606480"/>
              <a:ext cx="137880" cy="8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273360" y="3708720"/>
              <a:ext cx="63360" cy="5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6269040" y="3760920"/>
            <a:ext cx="0" cy="82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6269040" y="2352600"/>
            <a:ext cx="0" cy="88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5138280" y="1355400"/>
            <a:ext cx="706680" cy="235080"/>
            <a:chOff x="5138280" y="1355400"/>
            <a:chExt cx="706680" cy="235080"/>
          </a:xfrm>
        </p:grpSpPr>
        <p:sp>
          <p:nvSpPr>
            <p:cNvPr id="607" name=""/>
            <p:cNvSpPr/>
            <p:nvPr/>
          </p:nvSpPr>
          <p:spPr>
            <a:xfrm flipV="1">
              <a:off x="5491800" y="1355400"/>
              <a:ext cx="0" cy="23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5138280" y="1355760"/>
              <a:ext cx="70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138280" y="3584160"/>
            <a:ext cx="706680" cy="235080"/>
            <a:chOff x="5138280" y="3584160"/>
            <a:chExt cx="706680" cy="235080"/>
          </a:xfrm>
        </p:grpSpPr>
        <p:sp>
          <p:nvSpPr>
            <p:cNvPr id="610" name=""/>
            <p:cNvSpPr/>
            <p:nvPr/>
          </p:nvSpPr>
          <p:spPr>
            <a:xfrm flipV="1">
              <a:off x="5491800" y="3584160"/>
              <a:ext cx="0" cy="23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5138280" y="3584520"/>
              <a:ext cx="70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280120" y="3116160"/>
            <a:ext cx="423720" cy="235080"/>
            <a:chOff x="5280120" y="3116160"/>
            <a:chExt cx="423720" cy="235080"/>
          </a:xfrm>
        </p:grpSpPr>
        <p:sp>
          <p:nvSpPr>
            <p:cNvPr id="613" name=""/>
            <p:cNvSpPr/>
            <p:nvPr/>
          </p:nvSpPr>
          <p:spPr>
            <a:xfrm>
              <a:off x="5491800" y="3116160"/>
              <a:ext cx="0" cy="11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280120" y="3233520"/>
              <a:ext cx="42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350680" y="3292560"/>
              <a:ext cx="21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421240" y="3351240"/>
              <a:ext cx="7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5280120" y="5345280"/>
            <a:ext cx="423720" cy="234720"/>
            <a:chOff x="5280120" y="5345280"/>
            <a:chExt cx="423720" cy="234720"/>
          </a:xfrm>
        </p:grpSpPr>
        <p:sp>
          <p:nvSpPr>
            <p:cNvPr id="618" name=""/>
            <p:cNvSpPr/>
            <p:nvPr/>
          </p:nvSpPr>
          <p:spPr>
            <a:xfrm>
              <a:off x="5491800" y="5345280"/>
              <a:ext cx="0" cy="11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80120" y="5462640"/>
              <a:ext cx="42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350680" y="5521320"/>
              <a:ext cx="21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21240" y="5580000"/>
              <a:ext cx="7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6127920" y="2293920"/>
            <a:ext cx="282240" cy="11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27920" y="4524480"/>
            <a:ext cx="282240" cy="11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7047000" y="4524480"/>
            <a:ext cx="611640" cy="166320"/>
            <a:chOff x="7047000" y="4524480"/>
            <a:chExt cx="611640" cy="166320"/>
          </a:xfrm>
        </p:grpSpPr>
        <p:sp>
          <p:nvSpPr>
            <p:cNvPr id="625" name=""/>
            <p:cNvSpPr/>
            <p:nvPr/>
          </p:nvSpPr>
          <p:spPr>
            <a:xfrm flipV="1">
              <a:off x="7047000" y="4526640"/>
              <a:ext cx="6084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128720" y="4528080"/>
              <a:ext cx="10044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7242480" y="4524480"/>
              <a:ext cx="9972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366680" y="4528080"/>
              <a:ext cx="10044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80440" y="4524480"/>
              <a:ext cx="9972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7598520" y="4528080"/>
              <a:ext cx="6012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7612200" y="4583160"/>
            <a:ext cx="63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845320" y="1708200"/>
            <a:ext cx="0" cy="40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845320" y="4818240"/>
            <a:ext cx="0" cy="40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477120" y="2514600"/>
            <a:ext cx="635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6409800" y="4348080"/>
            <a:ext cx="636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400800" y="2819520"/>
            <a:ext cx="0" cy="41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21240" y="2293920"/>
            <a:ext cx="141480" cy="117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421240" y="4524480"/>
            <a:ext cx="141480" cy="117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238880" y="373392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7315200" y="3809880"/>
            <a:ext cx="3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7238880" y="3809880"/>
            <a:ext cx="479520" cy="265320"/>
            <a:chOff x="7238880" y="3809880"/>
            <a:chExt cx="479520" cy="265320"/>
          </a:xfrm>
        </p:grpSpPr>
        <p:sp>
          <p:nvSpPr>
            <p:cNvPr id="642" name=""/>
            <p:cNvSpPr/>
            <p:nvPr/>
          </p:nvSpPr>
          <p:spPr>
            <a:xfrm>
              <a:off x="7478640" y="3809880"/>
              <a:ext cx="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238880" y="3942360"/>
              <a:ext cx="47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318800" y="4008960"/>
              <a:ext cx="23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98720" y="4075200"/>
              <a:ext cx="7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6934320" y="2286360"/>
            <a:ext cx="666000" cy="171360"/>
            <a:chOff x="6934320" y="2286360"/>
            <a:chExt cx="666000" cy="171360"/>
          </a:xfrm>
        </p:grpSpPr>
        <p:sp>
          <p:nvSpPr>
            <p:cNvPr id="647" name=""/>
            <p:cNvSpPr/>
            <p:nvPr/>
          </p:nvSpPr>
          <p:spPr>
            <a:xfrm flipV="1">
              <a:off x="6934320" y="2288520"/>
              <a:ext cx="66240" cy="7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023240" y="2290320"/>
              <a:ext cx="109440" cy="16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7147080" y="2286360"/>
              <a:ext cx="108720" cy="16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282080" y="2290320"/>
              <a:ext cx="109440" cy="16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7405920" y="2286360"/>
              <a:ext cx="108720" cy="16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 flipV="1">
              <a:off x="7534800" y="2290320"/>
              <a:ext cx="65520" cy="7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 flipH="1">
            <a:off x="5486400" y="2362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620120" y="236232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8229600" y="2362320"/>
            <a:ext cx="0" cy="2209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7619760" y="23623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7467480" y="3428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467480" y="34290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077320" y="3200400"/>
            <a:ext cx="228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14C51-57B0-408E-8751-815AF58E72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Modeling Review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thod-III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ce Setup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-Vcc To 2Vcc             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990720" y="2286000"/>
            <a:ext cx="7010280" cy="3809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I Cu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   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Hi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LO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N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sz="20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5400000">
            <a:off x="1388880" y="2982960"/>
            <a:ext cx="2708280" cy="21016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878520" y="4255920"/>
            <a:ext cx="701640" cy="657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058840" y="5064120"/>
            <a:ext cx="216000" cy="231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990720" y="4125960"/>
            <a:ext cx="657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4775040" y="4518000"/>
            <a:ext cx="453960" cy="523440"/>
            <a:chOff x="4775040" y="4518000"/>
            <a:chExt cx="453960" cy="523440"/>
          </a:xfrm>
        </p:grpSpPr>
        <p:sp>
          <p:nvSpPr>
            <p:cNvPr id="668" name=""/>
            <p:cNvSpPr/>
            <p:nvPr/>
          </p:nvSpPr>
          <p:spPr>
            <a:xfrm>
              <a:off x="5001840" y="4518000"/>
              <a:ext cx="0" cy="31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775040" y="4831920"/>
              <a:ext cx="45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88080" y="4936680"/>
              <a:ext cx="227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950000" y="5041440"/>
              <a:ext cx="10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6878520" y="3206880"/>
            <a:ext cx="701640" cy="657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7299360" y="4913280"/>
            <a:ext cx="0" cy="26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299360" y="3863880"/>
            <a:ext cx="0" cy="39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6932520" y="3028680"/>
            <a:ext cx="711360" cy="888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6878520" y="4125600"/>
            <a:ext cx="701640" cy="91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75040" y="4518000"/>
            <a:ext cx="42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635360" y="4387680"/>
            <a:ext cx="70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5057280" y="3994200"/>
            <a:ext cx="224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5057640" y="3993840"/>
            <a:ext cx="0" cy="39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885840" y="3429000"/>
            <a:ext cx="139680" cy="1050120"/>
            <a:chOff x="3885840" y="3429000"/>
            <a:chExt cx="139680" cy="1050120"/>
          </a:xfrm>
        </p:grpSpPr>
        <p:sp>
          <p:nvSpPr>
            <p:cNvPr id="682" name=""/>
            <p:cNvSpPr/>
            <p:nvPr/>
          </p:nvSpPr>
          <p:spPr>
            <a:xfrm>
              <a:off x="3961080" y="3429000"/>
              <a:ext cx="62640" cy="10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3885840" y="3569400"/>
              <a:ext cx="136440" cy="17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889080" y="3764520"/>
              <a:ext cx="136440" cy="17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3885840" y="3976920"/>
              <a:ext cx="136440" cy="17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889080" y="4172040"/>
              <a:ext cx="136440" cy="17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3959640" y="4375440"/>
              <a:ext cx="62640" cy="10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2297160" y="5191200"/>
            <a:ext cx="499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058840" y="2905200"/>
            <a:ext cx="5229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288200" y="2905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86400" y="2743200"/>
            <a:ext cx="1012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5562360" y="5334120"/>
            <a:ext cx="1012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4748040" y="2666880"/>
            <a:ext cx="433440" cy="4939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676760" y="2666880"/>
            <a:ext cx="504720" cy="4939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572000" y="5029200"/>
            <a:ext cx="433440" cy="4935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530600" y="4952880"/>
            <a:ext cx="650880" cy="4939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962520" y="2895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962520" y="44197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9880" y="2819520"/>
            <a:ext cx="2286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809880" y="5105520"/>
            <a:ext cx="2286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72F75-A5A1-4E7F-9444-278271AECF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Modeling Review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thod-III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ce Set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533520" y="1981080"/>
            <a:ext cx="7848360" cy="4038840"/>
            <a:chOff x="533520" y="1981080"/>
            <a:chExt cx="7848360" cy="4038840"/>
          </a:xfrm>
        </p:grpSpPr>
        <p:sp>
          <p:nvSpPr>
            <p:cNvPr id="704" name=""/>
            <p:cNvSpPr/>
            <p:nvPr/>
          </p:nvSpPr>
          <p:spPr>
            <a:xfrm>
              <a:off x="533520" y="1981080"/>
              <a:ext cx="7848360" cy="4038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                                                                       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-T Curv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D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_fix=50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          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ISE                                                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E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FALL                                                                                                                                                                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_fix=50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PA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5400000">
              <a:off x="1288800" y="2657160"/>
              <a:ext cx="2870280" cy="235296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160720" y="2678040"/>
              <a:ext cx="2038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097000" y="2538360"/>
              <a:ext cx="239760" cy="246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8080" y="3962520"/>
              <a:ext cx="733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09880" y="5045040"/>
              <a:ext cx="2039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4921200" y="4348080"/>
              <a:ext cx="507600" cy="553680"/>
              <a:chOff x="4921200" y="4348080"/>
              <a:chExt cx="507600" cy="553680"/>
            </a:xfrm>
          </p:grpSpPr>
          <p:sp>
            <p:nvSpPr>
              <p:cNvPr id="711" name=""/>
              <p:cNvSpPr/>
              <p:nvPr/>
            </p:nvSpPr>
            <p:spPr>
              <a:xfrm>
                <a:off x="5175000" y="4348080"/>
                <a:ext cx="0" cy="331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921200" y="4680000"/>
                <a:ext cx="50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047560" y="4790880"/>
                <a:ext cx="254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116680" y="4901760"/>
                <a:ext cx="116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5" name=""/>
            <p:cNvSpPr/>
            <p:nvPr/>
          </p:nvSpPr>
          <p:spPr>
            <a:xfrm>
              <a:off x="4025880" y="2678040"/>
              <a:ext cx="3608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868560" y="5045040"/>
              <a:ext cx="3765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34160" y="2678040"/>
              <a:ext cx="180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7634160" y="4765680"/>
              <a:ext cx="1800" cy="27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924440" y="4348080"/>
              <a:ext cx="471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59200" y="4210200"/>
              <a:ext cx="785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5122800" y="3790800"/>
              <a:ext cx="2511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5180040" y="3809520"/>
              <a:ext cx="1440" cy="41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7472160" y="2955960"/>
              <a:ext cx="249480" cy="560160"/>
              <a:chOff x="7472160" y="2955960"/>
              <a:chExt cx="249480" cy="560160"/>
            </a:xfrm>
          </p:grpSpPr>
          <p:sp>
            <p:nvSpPr>
              <p:cNvPr id="724" name=""/>
              <p:cNvSpPr/>
              <p:nvPr/>
            </p:nvSpPr>
            <p:spPr>
              <a:xfrm>
                <a:off x="7606440" y="2955960"/>
                <a:ext cx="112680" cy="5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7472160" y="303120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477920" y="313452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7472160" y="324864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477920" y="335232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7603920" y="3461400"/>
                <a:ext cx="111960" cy="5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7472160" y="4210200"/>
              <a:ext cx="249480" cy="559800"/>
              <a:chOff x="7472160" y="4210200"/>
              <a:chExt cx="249480" cy="559800"/>
            </a:xfrm>
          </p:grpSpPr>
          <p:sp>
            <p:nvSpPr>
              <p:cNvPr id="731" name=""/>
              <p:cNvSpPr/>
              <p:nvPr/>
            </p:nvSpPr>
            <p:spPr>
              <a:xfrm>
                <a:off x="7606440" y="4210200"/>
                <a:ext cx="112680" cy="5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7472160" y="428544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477920" y="438876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7472160" y="450288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477920" y="460620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7603920" y="4715280"/>
                <a:ext cx="111960" cy="5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7634160" y="3513240"/>
              <a:ext cx="1800" cy="69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4114440" y="3429000"/>
              <a:ext cx="139680" cy="1050120"/>
              <a:chOff x="4114440" y="3429000"/>
              <a:chExt cx="139680" cy="1050120"/>
            </a:xfrm>
          </p:grpSpPr>
          <p:sp>
            <p:nvSpPr>
              <p:cNvPr id="739" name=""/>
              <p:cNvSpPr/>
              <p:nvPr/>
            </p:nvSpPr>
            <p:spPr>
              <a:xfrm>
                <a:off x="4189680" y="3429000"/>
                <a:ext cx="62640" cy="10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4114440" y="3569400"/>
                <a:ext cx="136440" cy="172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117680" y="3764520"/>
                <a:ext cx="136440" cy="171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4114440" y="3976920"/>
                <a:ext cx="136440" cy="172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117680" y="4172040"/>
                <a:ext cx="136440" cy="171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4188240" y="4375440"/>
                <a:ext cx="62640" cy="10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V="1">
              <a:off x="4191120" y="266652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191120" y="44956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038480" y="25909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038480" y="4952880"/>
              <a:ext cx="2286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4AB31-312A-4328-8A24-D00BF068C0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124760" cy="503244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ulation at 5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C Shift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Modeling Review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thod-III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5410080" y="40384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5181480" y="46483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13420-9D1C-4312-8421-74A10C49D7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 flipV="1">
            <a:off x="4191120" y="1218240"/>
            <a:ext cx="4419360" cy="4724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962520" y="1600200"/>
            <a:ext cx="4267080" cy="39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ll-u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P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D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_f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ull-down                             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V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ull-up                                 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ADN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_f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ull-down                 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Modeling Review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thod-II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ysi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results i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-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U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-III is Valid Onl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280120" y="1590840"/>
            <a:ext cx="423720" cy="644400"/>
          </a:xfrm>
          <a:prstGeom prst="rect">
            <a:avLst/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80120" y="2470320"/>
            <a:ext cx="423720" cy="645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280120" y="3819600"/>
            <a:ext cx="423720" cy="646200"/>
          </a:xfrm>
          <a:prstGeom prst="rect">
            <a:avLst/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280120" y="4700520"/>
            <a:ext cx="423720" cy="644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492880" y="2235240"/>
            <a:ext cx="0" cy="23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492880" y="4465800"/>
            <a:ext cx="0" cy="23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492880" y="4583160"/>
            <a:ext cx="155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6198840" y="3233880"/>
            <a:ext cx="141120" cy="526680"/>
            <a:chOff x="6198840" y="3233880"/>
            <a:chExt cx="141120" cy="526680"/>
          </a:xfrm>
        </p:grpSpPr>
        <p:sp>
          <p:nvSpPr>
            <p:cNvPr id="766" name=""/>
            <p:cNvSpPr/>
            <p:nvPr/>
          </p:nvSpPr>
          <p:spPr>
            <a:xfrm>
              <a:off x="6274800" y="3233880"/>
              <a:ext cx="63360" cy="5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6198840" y="3304440"/>
              <a:ext cx="137880" cy="8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202080" y="3402000"/>
              <a:ext cx="137880" cy="8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198840" y="3508560"/>
              <a:ext cx="137880" cy="8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202080" y="3606480"/>
              <a:ext cx="137880" cy="8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6273360" y="3708720"/>
              <a:ext cx="63360" cy="5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6269040" y="3760920"/>
            <a:ext cx="0" cy="82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6269040" y="2352600"/>
            <a:ext cx="0" cy="88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5138280" y="1355400"/>
            <a:ext cx="706680" cy="235080"/>
            <a:chOff x="5138280" y="1355400"/>
            <a:chExt cx="706680" cy="235080"/>
          </a:xfrm>
        </p:grpSpPr>
        <p:sp>
          <p:nvSpPr>
            <p:cNvPr id="775" name=""/>
            <p:cNvSpPr/>
            <p:nvPr/>
          </p:nvSpPr>
          <p:spPr>
            <a:xfrm flipV="1">
              <a:off x="5491800" y="1355400"/>
              <a:ext cx="0" cy="23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5138280" y="1355760"/>
              <a:ext cx="70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5138280" y="3584160"/>
            <a:ext cx="706680" cy="235080"/>
            <a:chOff x="5138280" y="3584160"/>
            <a:chExt cx="706680" cy="235080"/>
          </a:xfrm>
        </p:grpSpPr>
        <p:sp>
          <p:nvSpPr>
            <p:cNvPr id="778" name=""/>
            <p:cNvSpPr/>
            <p:nvPr/>
          </p:nvSpPr>
          <p:spPr>
            <a:xfrm flipV="1">
              <a:off x="5491800" y="3584160"/>
              <a:ext cx="0" cy="23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5138280" y="3584520"/>
              <a:ext cx="70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5280120" y="3116160"/>
            <a:ext cx="423720" cy="235080"/>
            <a:chOff x="5280120" y="3116160"/>
            <a:chExt cx="423720" cy="235080"/>
          </a:xfrm>
        </p:grpSpPr>
        <p:sp>
          <p:nvSpPr>
            <p:cNvPr id="781" name=""/>
            <p:cNvSpPr/>
            <p:nvPr/>
          </p:nvSpPr>
          <p:spPr>
            <a:xfrm>
              <a:off x="5491800" y="3116160"/>
              <a:ext cx="0" cy="11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280120" y="3233520"/>
              <a:ext cx="42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350680" y="3292560"/>
              <a:ext cx="21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421240" y="3351240"/>
              <a:ext cx="7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5280120" y="5345280"/>
            <a:ext cx="423720" cy="234720"/>
            <a:chOff x="5280120" y="5345280"/>
            <a:chExt cx="423720" cy="234720"/>
          </a:xfrm>
        </p:grpSpPr>
        <p:sp>
          <p:nvSpPr>
            <p:cNvPr id="786" name=""/>
            <p:cNvSpPr/>
            <p:nvPr/>
          </p:nvSpPr>
          <p:spPr>
            <a:xfrm>
              <a:off x="5491800" y="5345280"/>
              <a:ext cx="0" cy="11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280120" y="5462640"/>
              <a:ext cx="42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350680" y="5521320"/>
              <a:ext cx="21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421240" y="5580000"/>
              <a:ext cx="7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6127920" y="2293920"/>
            <a:ext cx="282240" cy="11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127920" y="4524480"/>
            <a:ext cx="282240" cy="11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047000" y="4524480"/>
            <a:ext cx="611640" cy="166320"/>
            <a:chOff x="7047000" y="4524480"/>
            <a:chExt cx="611640" cy="166320"/>
          </a:xfrm>
        </p:grpSpPr>
        <p:sp>
          <p:nvSpPr>
            <p:cNvPr id="793" name=""/>
            <p:cNvSpPr/>
            <p:nvPr/>
          </p:nvSpPr>
          <p:spPr>
            <a:xfrm flipV="1">
              <a:off x="7047000" y="4526640"/>
              <a:ext cx="6084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128720" y="4528080"/>
              <a:ext cx="10044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7242480" y="4524480"/>
              <a:ext cx="9972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366680" y="4528080"/>
              <a:ext cx="10044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7480440" y="4524480"/>
              <a:ext cx="9972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 flipV="1">
              <a:off x="7598520" y="4528080"/>
              <a:ext cx="6012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7612200" y="4583160"/>
            <a:ext cx="63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845320" y="1708200"/>
            <a:ext cx="0" cy="40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845320" y="4818240"/>
            <a:ext cx="0" cy="40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477120" y="2514600"/>
            <a:ext cx="635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6409800" y="4348080"/>
            <a:ext cx="636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400800" y="2819520"/>
            <a:ext cx="0" cy="41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421240" y="2293920"/>
            <a:ext cx="141480" cy="117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421240" y="4524480"/>
            <a:ext cx="141480" cy="117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238880" y="373392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7315200" y="3809880"/>
            <a:ext cx="3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7238880" y="3809880"/>
            <a:ext cx="479520" cy="265320"/>
            <a:chOff x="7238880" y="3809880"/>
            <a:chExt cx="479520" cy="265320"/>
          </a:xfrm>
        </p:grpSpPr>
        <p:sp>
          <p:nvSpPr>
            <p:cNvPr id="810" name=""/>
            <p:cNvSpPr/>
            <p:nvPr/>
          </p:nvSpPr>
          <p:spPr>
            <a:xfrm>
              <a:off x="7478640" y="3809880"/>
              <a:ext cx="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238880" y="3942360"/>
              <a:ext cx="47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318800" y="4008960"/>
              <a:ext cx="23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398720" y="4075200"/>
              <a:ext cx="7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6934320" y="2286360"/>
            <a:ext cx="666000" cy="171360"/>
            <a:chOff x="6934320" y="2286360"/>
            <a:chExt cx="666000" cy="171360"/>
          </a:xfrm>
        </p:grpSpPr>
        <p:sp>
          <p:nvSpPr>
            <p:cNvPr id="815" name=""/>
            <p:cNvSpPr/>
            <p:nvPr/>
          </p:nvSpPr>
          <p:spPr>
            <a:xfrm flipV="1">
              <a:off x="6934320" y="2288520"/>
              <a:ext cx="66240" cy="7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023240" y="2290320"/>
              <a:ext cx="109440" cy="16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7147080" y="2286360"/>
              <a:ext cx="108720" cy="16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82080" y="2290320"/>
              <a:ext cx="109440" cy="16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7405920" y="2286360"/>
              <a:ext cx="108720" cy="16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7534800" y="2290320"/>
              <a:ext cx="65520" cy="7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 flipH="1">
            <a:off x="5486400" y="2362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620120" y="236232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8229600" y="2362320"/>
            <a:ext cx="0" cy="2209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7619760" y="23623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7467480" y="3428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467480" y="34290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077320" y="3200400"/>
            <a:ext cx="228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401D2-A4F0-4619-9251-F71C9A702C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48520" y="152280"/>
            <a:ext cx="2666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20033"/>
                </a:solidFill>
                <a:latin typeface="Times New Roman"/>
              </a:rPr>
              <a:t>LVDS Model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71840" y="41907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azem Hegaz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ohammed Koran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 Approach for LVDS IBIS Model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ice Setu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I Curv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ID-SW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Generat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T Curv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Pin at 5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10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D41CF-A84F-4BBD-B82C-CF348B854A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 Approach for LVDS IBIS Model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pice Setu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I Curv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-Vcc To 2Vcc             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914400" y="2209680"/>
            <a:ext cx="7238880" cy="3886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I Curves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                        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MID-SW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LO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rot="5400000">
            <a:off x="1299960" y="2989080"/>
            <a:ext cx="2924280" cy="221616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122960" y="4336920"/>
            <a:ext cx="739800" cy="70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041560" y="5210280"/>
            <a:ext cx="226800" cy="250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914400" y="4197240"/>
            <a:ext cx="69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4905360" y="4621320"/>
            <a:ext cx="477360" cy="564840"/>
            <a:chOff x="4905360" y="4621320"/>
            <a:chExt cx="477360" cy="564840"/>
          </a:xfrm>
        </p:grpSpPr>
        <p:sp>
          <p:nvSpPr>
            <p:cNvPr id="838" name=""/>
            <p:cNvSpPr/>
            <p:nvPr/>
          </p:nvSpPr>
          <p:spPr>
            <a:xfrm>
              <a:off x="5144040" y="4621320"/>
              <a:ext cx="0" cy="338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905360" y="4960080"/>
              <a:ext cx="477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024160" y="5073120"/>
              <a:ext cx="23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089320" y="5186160"/>
              <a:ext cx="10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7122960" y="3203640"/>
            <a:ext cx="739800" cy="709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7566120" y="5046480"/>
            <a:ext cx="0" cy="28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566120" y="3913200"/>
            <a:ext cx="0" cy="42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7178760" y="3011400"/>
            <a:ext cx="750960" cy="96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7122960" y="4197240"/>
            <a:ext cx="739800" cy="99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05360" y="4621320"/>
            <a:ext cx="44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757760" y="4479840"/>
            <a:ext cx="73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5202360" y="4054320"/>
            <a:ext cx="2363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5202360" y="4054320"/>
            <a:ext cx="0" cy="425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292480" y="5346720"/>
            <a:ext cx="526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041200" y="2878200"/>
            <a:ext cx="551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554960" y="2878200"/>
            <a:ext cx="0" cy="41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94360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5943240" y="5486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5181480" y="2666880"/>
            <a:ext cx="457200" cy="5335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181480" y="2666880"/>
            <a:ext cx="533520" cy="5335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5029200" y="5105520"/>
            <a:ext cx="457200" cy="5331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952880" y="5105520"/>
            <a:ext cx="685800" cy="5331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962160" y="3581280"/>
            <a:ext cx="139680" cy="1050480"/>
            <a:chOff x="3962160" y="3581280"/>
            <a:chExt cx="139680" cy="1050480"/>
          </a:xfrm>
        </p:grpSpPr>
        <p:sp>
          <p:nvSpPr>
            <p:cNvPr id="861" name=""/>
            <p:cNvSpPr/>
            <p:nvPr/>
          </p:nvSpPr>
          <p:spPr>
            <a:xfrm>
              <a:off x="4037400" y="3581280"/>
              <a:ext cx="62640" cy="10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3962160" y="3721680"/>
              <a:ext cx="136440" cy="17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965400" y="3916800"/>
              <a:ext cx="136440" cy="17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3962160" y="4129560"/>
              <a:ext cx="136440" cy="17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965400" y="4324680"/>
              <a:ext cx="136440" cy="17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4035960" y="4528080"/>
              <a:ext cx="62640" cy="10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7" name=""/>
          <p:cNvSpPr/>
          <p:nvPr/>
        </p:nvSpPr>
        <p:spPr>
          <a:xfrm flipV="1">
            <a:off x="4038480" y="2895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038480" y="46483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886200" y="2819520"/>
            <a:ext cx="2286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886200" y="5257800"/>
            <a:ext cx="2286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9A91F-06CB-4884-90AC-77D99B2A5F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 Approach for LVDS IBIS Model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pice Setup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ID-SWING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t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33520" y="1981080"/>
            <a:ext cx="7848360" cy="4038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ID-SW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Avg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N           DC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r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_fix=50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                                                      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Lo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_fix=50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PAD                DC V</a:t>
            </a:r>
            <a:r>
              <a:rPr b="1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or V</a:t>
            </a:r>
            <a:r>
              <a:rPr b="1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rot="5400000">
            <a:off x="1288800" y="2657160"/>
            <a:ext cx="2870280" cy="235296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60720" y="2678040"/>
            <a:ext cx="2038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097000" y="2538360"/>
            <a:ext cx="239760" cy="246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38080" y="3962520"/>
            <a:ext cx="733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009880" y="5045040"/>
            <a:ext cx="2039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4921200" y="4348080"/>
            <a:ext cx="507600" cy="553680"/>
            <a:chOff x="4921200" y="4348080"/>
            <a:chExt cx="507600" cy="553680"/>
          </a:xfrm>
        </p:grpSpPr>
        <p:sp>
          <p:nvSpPr>
            <p:cNvPr id="880" name=""/>
            <p:cNvSpPr/>
            <p:nvPr/>
          </p:nvSpPr>
          <p:spPr>
            <a:xfrm>
              <a:off x="5175000" y="4348080"/>
              <a:ext cx="0" cy="33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921200" y="4680000"/>
              <a:ext cx="50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047560" y="4790880"/>
              <a:ext cx="254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116680" y="4901760"/>
              <a:ext cx="116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4025880" y="2678040"/>
            <a:ext cx="36082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868560" y="5045040"/>
            <a:ext cx="3765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634160" y="2678040"/>
            <a:ext cx="1800" cy="27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7634160" y="4765680"/>
            <a:ext cx="1800" cy="27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24440" y="4348080"/>
            <a:ext cx="471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759200" y="4210200"/>
            <a:ext cx="785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122800" y="3790800"/>
            <a:ext cx="25113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5180040" y="3809520"/>
            <a:ext cx="1440" cy="419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4114440" y="3276720"/>
            <a:ext cx="158760" cy="1112760"/>
            <a:chOff x="4114440" y="3276720"/>
            <a:chExt cx="158760" cy="1112760"/>
          </a:xfrm>
        </p:grpSpPr>
        <p:sp>
          <p:nvSpPr>
            <p:cNvPr id="893" name=""/>
            <p:cNvSpPr/>
            <p:nvPr/>
          </p:nvSpPr>
          <p:spPr>
            <a:xfrm>
              <a:off x="4199760" y="3276720"/>
              <a:ext cx="7128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4114440" y="3425760"/>
              <a:ext cx="15516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118040" y="3632400"/>
              <a:ext cx="155160" cy="18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4114440" y="3857760"/>
              <a:ext cx="15516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118040" y="4064400"/>
              <a:ext cx="155160" cy="18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4198320" y="4279680"/>
              <a:ext cx="71280" cy="10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7472160" y="2955960"/>
            <a:ext cx="249480" cy="560160"/>
            <a:chOff x="7472160" y="2955960"/>
            <a:chExt cx="249480" cy="560160"/>
          </a:xfrm>
        </p:grpSpPr>
        <p:sp>
          <p:nvSpPr>
            <p:cNvPr id="900" name=""/>
            <p:cNvSpPr/>
            <p:nvPr/>
          </p:nvSpPr>
          <p:spPr>
            <a:xfrm>
              <a:off x="7606440" y="2955960"/>
              <a:ext cx="112680" cy="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7472160" y="3031200"/>
              <a:ext cx="243720" cy="9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477920" y="3134520"/>
              <a:ext cx="243720" cy="9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7472160" y="3248640"/>
              <a:ext cx="243720" cy="9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477920" y="3352320"/>
              <a:ext cx="243720" cy="9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7603920" y="3461400"/>
              <a:ext cx="111960" cy="5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7472160" y="4210200"/>
            <a:ext cx="249480" cy="559800"/>
            <a:chOff x="7472160" y="4210200"/>
            <a:chExt cx="249480" cy="559800"/>
          </a:xfrm>
        </p:grpSpPr>
        <p:sp>
          <p:nvSpPr>
            <p:cNvPr id="907" name=""/>
            <p:cNvSpPr/>
            <p:nvPr/>
          </p:nvSpPr>
          <p:spPr>
            <a:xfrm>
              <a:off x="7606440" y="4210200"/>
              <a:ext cx="112680" cy="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7472160" y="4285440"/>
              <a:ext cx="243720" cy="9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477920" y="4388760"/>
              <a:ext cx="243720" cy="9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7472160" y="4502880"/>
              <a:ext cx="243720" cy="9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477920" y="4606200"/>
              <a:ext cx="243720" cy="9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7603920" y="4715280"/>
              <a:ext cx="111960" cy="5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7634160" y="3513240"/>
            <a:ext cx="1800" cy="69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4191120" y="2666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191120" y="43434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038480" y="2590920"/>
            <a:ext cx="2286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038480" y="4952880"/>
            <a:ext cx="2286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FAB55-8EAB-42A2-AB2A-9F7BE1155A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 Approach for LVDS IBIS Model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pice Setup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T Curv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533520" y="1981080"/>
            <a:ext cx="7848360" cy="4038840"/>
            <a:chOff x="533520" y="1981080"/>
            <a:chExt cx="7848360" cy="4038840"/>
          </a:xfrm>
        </p:grpSpPr>
        <p:sp>
          <p:nvSpPr>
            <p:cNvPr id="921" name=""/>
            <p:cNvSpPr/>
            <p:nvPr/>
          </p:nvSpPr>
          <p:spPr>
            <a:xfrm>
              <a:off x="533520" y="1981080"/>
              <a:ext cx="7848360" cy="4038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                                                                       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-T Curv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D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_fix=50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          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ISE                                                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E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FALL                                                                                                                                                                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_fix=50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PA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rot="5400000">
              <a:off x="1288800" y="2657160"/>
              <a:ext cx="2870280" cy="235296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60720" y="2678040"/>
              <a:ext cx="2038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097000" y="2538360"/>
              <a:ext cx="239760" cy="246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38080" y="3962520"/>
              <a:ext cx="733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009880" y="5045040"/>
              <a:ext cx="2039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4921200" y="4348080"/>
              <a:ext cx="507600" cy="553680"/>
              <a:chOff x="4921200" y="4348080"/>
              <a:chExt cx="507600" cy="553680"/>
            </a:xfrm>
          </p:grpSpPr>
          <p:sp>
            <p:nvSpPr>
              <p:cNvPr id="928" name=""/>
              <p:cNvSpPr/>
              <p:nvPr/>
            </p:nvSpPr>
            <p:spPr>
              <a:xfrm>
                <a:off x="5175000" y="4348080"/>
                <a:ext cx="0" cy="331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921200" y="4680000"/>
                <a:ext cx="50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47560" y="4790880"/>
                <a:ext cx="254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116680" y="4901760"/>
                <a:ext cx="116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32" name=""/>
            <p:cNvSpPr/>
            <p:nvPr/>
          </p:nvSpPr>
          <p:spPr>
            <a:xfrm>
              <a:off x="4025880" y="2678040"/>
              <a:ext cx="3608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868560" y="5045040"/>
              <a:ext cx="3765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634160" y="2678040"/>
              <a:ext cx="180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7634160" y="4765680"/>
              <a:ext cx="1800" cy="27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924440" y="4348080"/>
              <a:ext cx="471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759200" y="4210200"/>
              <a:ext cx="785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5122800" y="3790800"/>
              <a:ext cx="2511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5180040" y="3809520"/>
              <a:ext cx="1440" cy="41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7472160" y="2955960"/>
              <a:ext cx="249480" cy="560160"/>
              <a:chOff x="7472160" y="2955960"/>
              <a:chExt cx="249480" cy="560160"/>
            </a:xfrm>
          </p:grpSpPr>
          <p:sp>
            <p:nvSpPr>
              <p:cNvPr id="941" name=""/>
              <p:cNvSpPr/>
              <p:nvPr/>
            </p:nvSpPr>
            <p:spPr>
              <a:xfrm>
                <a:off x="7606440" y="2955960"/>
                <a:ext cx="112680" cy="5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H="1">
                <a:off x="7472160" y="303120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477920" y="313452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7472160" y="324864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477920" y="335232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V="1">
                <a:off x="7603920" y="3461400"/>
                <a:ext cx="111960" cy="5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7472160" y="4210200"/>
              <a:ext cx="249480" cy="559800"/>
              <a:chOff x="7472160" y="4210200"/>
              <a:chExt cx="249480" cy="559800"/>
            </a:xfrm>
          </p:grpSpPr>
          <p:sp>
            <p:nvSpPr>
              <p:cNvPr id="948" name=""/>
              <p:cNvSpPr/>
              <p:nvPr/>
            </p:nvSpPr>
            <p:spPr>
              <a:xfrm>
                <a:off x="7606440" y="4210200"/>
                <a:ext cx="112680" cy="5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>
                <a:off x="7472160" y="428544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77920" y="438876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>
                <a:off x="7472160" y="450288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477920" y="460620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7603920" y="4715280"/>
                <a:ext cx="111960" cy="5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4" name=""/>
            <p:cNvSpPr/>
            <p:nvPr/>
          </p:nvSpPr>
          <p:spPr>
            <a:xfrm>
              <a:off x="7634160" y="3513240"/>
              <a:ext cx="1800" cy="69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4114440" y="3429000"/>
              <a:ext cx="139680" cy="1050120"/>
              <a:chOff x="4114440" y="3429000"/>
              <a:chExt cx="139680" cy="1050120"/>
            </a:xfrm>
          </p:grpSpPr>
          <p:sp>
            <p:nvSpPr>
              <p:cNvPr id="956" name=""/>
              <p:cNvSpPr/>
              <p:nvPr/>
            </p:nvSpPr>
            <p:spPr>
              <a:xfrm>
                <a:off x="4189680" y="3429000"/>
                <a:ext cx="62640" cy="10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H="1">
                <a:off x="4114440" y="3569400"/>
                <a:ext cx="136440" cy="172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117680" y="3764520"/>
                <a:ext cx="136440" cy="171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>
                <a:off x="4114440" y="3976920"/>
                <a:ext cx="136440" cy="172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117680" y="4172040"/>
                <a:ext cx="136440" cy="171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V="1">
                <a:off x="4188240" y="4375440"/>
                <a:ext cx="62640" cy="10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2" name=""/>
            <p:cNvSpPr/>
            <p:nvPr/>
          </p:nvSpPr>
          <p:spPr>
            <a:xfrm flipV="1">
              <a:off x="4191120" y="266652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191120" y="44956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8480" y="25909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038480" y="4952880"/>
              <a:ext cx="2286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F7151-BFEF-4BD9-BE0F-513E2E5D0C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010280" cy="4950000"/>
          </a:xfrm>
          <a:prstGeom prst="rect">
            <a:avLst/>
          </a:prstGeom>
          <a:ln w="0">
            <a:noFill/>
          </a:ln>
        </p:spPr>
      </p:pic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 Approach for LVDS IBIS Modeling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mulation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ulation at 5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400B0-2A5F-4D7B-9A59-EB6AF3D8BF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781680" cy="4791240"/>
          </a:xfrm>
          <a:prstGeom prst="rect">
            <a:avLst/>
          </a:prstGeom>
          <a:ln w="0">
            <a:noFill/>
          </a:ln>
        </p:spPr>
      </p:pic>
      <p:sp>
        <p:nvSpPr>
          <p:cNvPr id="970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ulation at 1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C Shift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 Approach for LVDS IBIS Modeling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mulation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571500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5867280" y="411480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C03DE-C151-4FFE-9B3B-347A464A3B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 Approach for LVDS IBIS Model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ice Setu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I Curv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T Curv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Pin at 5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10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tial Pi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Loa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F47FA-C2AA-49E6-A6E8-9F11037F50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 Approach for LVDS IBIS Model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pice Setu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I Curv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990720" y="2057400"/>
            <a:ext cx="7696080" cy="3962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I Cu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[0-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]Ohm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Hi           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sz="20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Lo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R[0-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]Oh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AD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</a:t>
            </a: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rot="5400000">
            <a:off x="1506960" y="2719800"/>
            <a:ext cx="2814480" cy="23083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374920" y="2739960"/>
            <a:ext cx="2000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220840" y="2603520"/>
            <a:ext cx="236520" cy="241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990720" y="397044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220840" y="5062680"/>
            <a:ext cx="2000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396040" y="4379760"/>
            <a:ext cx="0" cy="32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146560" y="4707000"/>
            <a:ext cx="497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270400" y="4815000"/>
            <a:ext cx="24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338800" y="4924440"/>
            <a:ext cx="112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376880" y="2739960"/>
            <a:ext cx="3539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222800" y="5062680"/>
            <a:ext cx="3693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916760" y="2739960"/>
            <a:ext cx="0" cy="2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7916760" y="4789080"/>
            <a:ext cx="0" cy="27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7456320" y="2878200"/>
            <a:ext cx="768600" cy="955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7456320" y="3970440"/>
            <a:ext cx="768600" cy="955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146560" y="4379760"/>
            <a:ext cx="46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992840" y="4243320"/>
            <a:ext cx="76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5454360" y="3833640"/>
            <a:ext cx="246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5454720" y="3833640"/>
            <a:ext cx="0" cy="409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904160" y="2954160"/>
            <a:ext cx="111240" cy="5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7773480" y="3025800"/>
            <a:ext cx="236520" cy="8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778880" y="3124080"/>
            <a:ext cx="237960" cy="8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7773480" y="3232080"/>
            <a:ext cx="236520" cy="8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778880" y="3330720"/>
            <a:ext cx="237960" cy="8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7902720" y="3433680"/>
            <a:ext cx="107640" cy="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904160" y="4275000"/>
            <a:ext cx="111240" cy="5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7773480" y="4346640"/>
            <a:ext cx="236520" cy="8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778880" y="4444920"/>
            <a:ext cx="237960" cy="8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7773840" y="4572000"/>
            <a:ext cx="260640" cy="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778880" y="4651200"/>
            <a:ext cx="237960" cy="8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7902720" y="4754520"/>
            <a:ext cx="107640" cy="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904160" y="34815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248520" y="5181480"/>
            <a:ext cx="1304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5562720" y="4724280"/>
            <a:ext cx="522000" cy="660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638680" y="4724280"/>
            <a:ext cx="522360" cy="660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6477120" y="2819520"/>
            <a:ext cx="1172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715000" y="2362320"/>
            <a:ext cx="522360" cy="66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5791320" y="2362320"/>
            <a:ext cx="522000" cy="66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4266720" y="3276720"/>
            <a:ext cx="158760" cy="1112760"/>
            <a:chOff x="4266720" y="3276720"/>
            <a:chExt cx="158760" cy="1112760"/>
          </a:xfrm>
        </p:grpSpPr>
        <p:sp>
          <p:nvSpPr>
            <p:cNvPr id="1018" name=""/>
            <p:cNvSpPr/>
            <p:nvPr/>
          </p:nvSpPr>
          <p:spPr>
            <a:xfrm>
              <a:off x="4352040" y="3276720"/>
              <a:ext cx="7128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4266720" y="3425760"/>
              <a:ext cx="15516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270320" y="3632400"/>
              <a:ext cx="155160" cy="18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4266720" y="3857760"/>
              <a:ext cx="15516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270320" y="4064400"/>
              <a:ext cx="155160" cy="18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4350600" y="4279680"/>
              <a:ext cx="71280" cy="10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4" name=""/>
          <p:cNvSpPr/>
          <p:nvPr/>
        </p:nvSpPr>
        <p:spPr>
          <a:xfrm flipV="1">
            <a:off x="4343400" y="2743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343400" y="44197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191120" y="2666880"/>
            <a:ext cx="2286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191120" y="4952880"/>
            <a:ext cx="2286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8E2EC-098C-42CC-8892-434085C32F3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 Approach for LVDS IBIS Model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pice Setup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T Curv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533520" y="1981080"/>
            <a:ext cx="7848360" cy="4038840"/>
            <a:chOff x="533520" y="1981080"/>
            <a:chExt cx="7848360" cy="4038840"/>
          </a:xfrm>
        </p:grpSpPr>
        <p:sp>
          <p:nvSpPr>
            <p:cNvPr id="1031" name=""/>
            <p:cNvSpPr/>
            <p:nvPr/>
          </p:nvSpPr>
          <p:spPr>
            <a:xfrm>
              <a:off x="533520" y="1981080"/>
              <a:ext cx="7848360" cy="4038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                                                                       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-T Curv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D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_fix=50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          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ISE                                                 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E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FALL                                                                                                                                                                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_fix=50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PA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rot="5400000">
              <a:off x="1288800" y="2657160"/>
              <a:ext cx="2870280" cy="235296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160720" y="2678040"/>
              <a:ext cx="2038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097000" y="2538360"/>
              <a:ext cx="239760" cy="246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38080" y="3962520"/>
              <a:ext cx="733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009880" y="5045040"/>
              <a:ext cx="2039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4921200" y="4348080"/>
              <a:ext cx="507600" cy="553680"/>
              <a:chOff x="4921200" y="4348080"/>
              <a:chExt cx="507600" cy="553680"/>
            </a:xfrm>
          </p:grpSpPr>
          <p:sp>
            <p:nvSpPr>
              <p:cNvPr id="1038" name=""/>
              <p:cNvSpPr/>
              <p:nvPr/>
            </p:nvSpPr>
            <p:spPr>
              <a:xfrm>
                <a:off x="5175000" y="4348080"/>
                <a:ext cx="0" cy="331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921200" y="4680000"/>
                <a:ext cx="50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047560" y="4790880"/>
                <a:ext cx="254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116680" y="4901760"/>
                <a:ext cx="116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2" name=""/>
            <p:cNvSpPr/>
            <p:nvPr/>
          </p:nvSpPr>
          <p:spPr>
            <a:xfrm>
              <a:off x="4025880" y="2678040"/>
              <a:ext cx="3608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868560" y="5045040"/>
              <a:ext cx="3765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634160" y="2678040"/>
              <a:ext cx="180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7634160" y="4765680"/>
              <a:ext cx="1800" cy="27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924440" y="4348080"/>
              <a:ext cx="471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759200" y="4210200"/>
              <a:ext cx="785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5122800" y="3790800"/>
              <a:ext cx="2511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5180040" y="3809520"/>
              <a:ext cx="1440" cy="41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50" name=""/>
            <p:cNvGrpSpPr/>
            <p:nvPr/>
          </p:nvGrpSpPr>
          <p:grpSpPr>
            <a:xfrm>
              <a:off x="7472160" y="2955960"/>
              <a:ext cx="249480" cy="560160"/>
              <a:chOff x="7472160" y="2955960"/>
              <a:chExt cx="249480" cy="560160"/>
            </a:xfrm>
          </p:grpSpPr>
          <p:sp>
            <p:nvSpPr>
              <p:cNvPr id="1051" name=""/>
              <p:cNvSpPr/>
              <p:nvPr/>
            </p:nvSpPr>
            <p:spPr>
              <a:xfrm>
                <a:off x="7606440" y="2955960"/>
                <a:ext cx="112680" cy="5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7472160" y="303120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477920" y="313452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>
                <a:off x="7472160" y="324864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477920" y="335232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V="1">
                <a:off x="7603920" y="3461400"/>
                <a:ext cx="111960" cy="5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7472160" y="4210200"/>
              <a:ext cx="249480" cy="559800"/>
              <a:chOff x="7472160" y="4210200"/>
              <a:chExt cx="249480" cy="559800"/>
            </a:xfrm>
          </p:grpSpPr>
          <p:sp>
            <p:nvSpPr>
              <p:cNvPr id="1058" name=""/>
              <p:cNvSpPr/>
              <p:nvPr/>
            </p:nvSpPr>
            <p:spPr>
              <a:xfrm>
                <a:off x="7606440" y="4210200"/>
                <a:ext cx="112680" cy="5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>
                <a:off x="7472160" y="428544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477920" y="438876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>
                <a:off x="7472160" y="450288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477920" y="460620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7603920" y="4715280"/>
                <a:ext cx="111960" cy="5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4" name=""/>
            <p:cNvSpPr/>
            <p:nvPr/>
          </p:nvSpPr>
          <p:spPr>
            <a:xfrm>
              <a:off x="7634160" y="3513240"/>
              <a:ext cx="1800" cy="69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5" name=""/>
            <p:cNvGrpSpPr/>
            <p:nvPr/>
          </p:nvGrpSpPr>
          <p:grpSpPr>
            <a:xfrm>
              <a:off x="4114440" y="3429000"/>
              <a:ext cx="139680" cy="1050120"/>
              <a:chOff x="4114440" y="3429000"/>
              <a:chExt cx="139680" cy="1050120"/>
            </a:xfrm>
          </p:grpSpPr>
          <p:sp>
            <p:nvSpPr>
              <p:cNvPr id="1066" name=""/>
              <p:cNvSpPr/>
              <p:nvPr/>
            </p:nvSpPr>
            <p:spPr>
              <a:xfrm>
                <a:off x="4189680" y="3429000"/>
                <a:ext cx="62640" cy="10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4114440" y="3569400"/>
                <a:ext cx="136440" cy="172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117680" y="3764520"/>
                <a:ext cx="136440" cy="171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H="1">
                <a:off x="4114440" y="3976920"/>
                <a:ext cx="136440" cy="172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117680" y="4172040"/>
                <a:ext cx="136440" cy="171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V="1">
                <a:off x="4188240" y="4375440"/>
                <a:ext cx="62640" cy="10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2" name=""/>
            <p:cNvSpPr/>
            <p:nvPr/>
          </p:nvSpPr>
          <p:spPr>
            <a:xfrm flipV="1">
              <a:off x="4191120" y="266652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191120" y="44956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038480" y="25909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038480" y="4952880"/>
              <a:ext cx="2286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6A893-9FEA-4C18-8CA4-FD9A463F9D9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" descr=""/>
          <p:cNvPicPr/>
          <p:nvPr/>
        </p:nvPicPr>
        <p:blipFill>
          <a:blip r:embed="rId1"/>
          <a:stretch/>
        </p:blipFill>
        <p:spPr>
          <a:xfrm>
            <a:off x="1143000" y="1158840"/>
            <a:ext cx="7162920" cy="506088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>
            <a:off x="380880" y="990720"/>
            <a:ext cx="80773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ulation at 5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 Approach for LVDS IBIS Modeling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mulation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BDD72-C6CD-4343-B572-BE496B5295A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0033"/>
                </a:solidFill>
                <a:latin typeface="Arial"/>
              </a:rPr>
              <a:t>Outlin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VDS DC Analy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VDS Modeling Review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 Proposal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53C22-9082-4769-BE56-C020FEF665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" descr=""/>
          <p:cNvPicPr/>
          <p:nvPr/>
        </p:nvPicPr>
        <p:blipFill>
          <a:blip r:embed="rId1"/>
          <a:stretch/>
        </p:blipFill>
        <p:spPr>
          <a:xfrm>
            <a:off x="1219320" y="1268280"/>
            <a:ext cx="7010280" cy="4954680"/>
          </a:xfrm>
          <a:prstGeom prst="rect">
            <a:avLst/>
          </a:prstGeom>
          <a:ln w="0">
            <a:noFill/>
          </a:ln>
        </p:spPr>
      </p:pic>
      <p:sp>
        <p:nvSpPr>
          <p:cNvPr id="1080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ulation at 1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 Approach for LVDS IBIS Modeling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mul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ED862-8BEC-4B3D-805C-BAE522D3041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086600" cy="5005440"/>
          </a:xfrm>
          <a:prstGeom prst="rect">
            <a:avLst/>
          </a:prstGeom>
          <a:ln w="0">
            <a:noFill/>
          </a:ln>
        </p:spPr>
      </p:pic>
      <p:sp>
        <p:nvSpPr>
          <p:cNvPr id="1083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ulation at Lossy Coupled TL Terminated with LVDS RX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 Approach for LVDS IBIS Modeling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mulation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C1048-7D82-4197-8C3E-26581F5B07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Loads -Spice Set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 Approach for LVDS IBIS Modeling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mulation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85800" y="1676520"/>
            <a:ext cx="7543800" cy="3581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Differential Internal Terminated LVDS TX              Differential LVDS R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Z11=49Ohms    Z12=11Ohms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I/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Z22=49Ohms    Z21=11Oh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rot="5400000">
            <a:off x="1017720" y="3461400"/>
            <a:ext cx="2043360" cy="126684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933560" y="3230640"/>
            <a:ext cx="212760" cy="314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62120" y="4094280"/>
            <a:ext cx="645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068640" y="3300480"/>
            <a:ext cx="2662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068640" y="4809960"/>
            <a:ext cx="2662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1801440" y="4809960"/>
            <a:ext cx="126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rot="5400000">
            <a:off x="6231600" y="3355200"/>
            <a:ext cx="2043000" cy="126684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365880" y="3156120"/>
            <a:ext cx="210960" cy="314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715000" y="327672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715000" y="4800600"/>
            <a:ext cx="88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666520" y="3733920"/>
            <a:ext cx="193680" cy="724680"/>
            <a:chOff x="2666520" y="3733920"/>
            <a:chExt cx="193680" cy="724680"/>
          </a:xfrm>
        </p:grpSpPr>
        <p:sp>
          <p:nvSpPr>
            <p:cNvPr id="1099" name=""/>
            <p:cNvSpPr/>
            <p:nvPr/>
          </p:nvSpPr>
          <p:spPr>
            <a:xfrm>
              <a:off x="2770560" y="3733920"/>
              <a:ext cx="87120" cy="7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2666520" y="3830760"/>
              <a:ext cx="189000" cy="11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71200" y="3965400"/>
              <a:ext cx="189000" cy="11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2666520" y="4112280"/>
              <a:ext cx="189000" cy="11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671200" y="4246920"/>
              <a:ext cx="189000" cy="11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768760" y="4387320"/>
              <a:ext cx="87120" cy="7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 flipH="1">
            <a:off x="213372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2743200" y="3276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743200" y="4495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5943240" y="3733920"/>
            <a:ext cx="193680" cy="724680"/>
            <a:chOff x="5943240" y="3733920"/>
            <a:chExt cx="193680" cy="724680"/>
          </a:xfrm>
        </p:grpSpPr>
        <p:sp>
          <p:nvSpPr>
            <p:cNvPr id="1109" name=""/>
            <p:cNvSpPr/>
            <p:nvPr/>
          </p:nvSpPr>
          <p:spPr>
            <a:xfrm>
              <a:off x="6047280" y="3733920"/>
              <a:ext cx="87120" cy="7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5943240" y="3830760"/>
              <a:ext cx="189000" cy="11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947920" y="3965400"/>
              <a:ext cx="189000" cy="11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5943240" y="4112280"/>
              <a:ext cx="189000" cy="11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947920" y="4246920"/>
              <a:ext cx="189000" cy="11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6045480" y="4387320"/>
              <a:ext cx="87120" cy="7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5" name=""/>
          <p:cNvSpPr/>
          <p:nvPr/>
        </p:nvSpPr>
        <p:spPr>
          <a:xfrm>
            <a:off x="6019920" y="4495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6019920" y="3276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A2B8B-3049-4607-AFD0-96CC6CEB61E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086600" cy="5005440"/>
          </a:xfrm>
          <a:prstGeom prst="rect">
            <a:avLst/>
          </a:prstGeom>
          <a:ln w="0">
            <a:noFill/>
          </a:ln>
        </p:spPr>
      </p:pic>
      <p:sp>
        <p:nvSpPr>
          <p:cNvPr id="1118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imulation at Lossy Coupled TL Terminated with Terminated LVDS RX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 Approach for LVDS IBIS Modeling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mulation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4C43C-53A2-41A7-94B5-9A81BF6FA20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0033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VDS IBIS Modeling Needs High DC Resolu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ntional Approaches Does not Support Terminated LVDS IBIS Mode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al-I Supports only the Corresponding R_fix of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al-II Supports All Different Loading Condi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oving Internal Resistance is Another Modeling Approach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FCB74-56CB-4B5F-850E-8F01FAB1321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VDS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w Voltage Differential Signa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LVDS 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LVDS 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ow Swing (350mV)*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ow Power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ow Nois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“LVDS MEGABITS” National Semiconductor, April 25, 1997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20033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1752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10080" y="2209680"/>
            <a:ext cx="3429000" cy="242280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3733560" y="1996920"/>
            <a:ext cx="1662480" cy="1507320"/>
            <a:chOff x="3733560" y="1996920"/>
            <a:chExt cx="1662480" cy="1507320"/>
          </a:xfrm>
        </p:grpSpPr>
        <p:sp>
          <p:nvSpPr>
            <p:cNvPr id="105" name=""/>
            <p:cNvSpPr/>
            <p:nvPr/>
          </p:nvSpPr>
          <p:spPr>
            <a:xfrm>
              <a:off x="4572000" y="1996920"/>
              <a:ext cx="642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A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5400000">
              <a:off x="3614400" y="2451240"/>
              <a:ext cx="1033560" cy="79524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38480" y="3124080"/>
              <a:ext cx="131760" cy="16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438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91120" y="3200400"/>
              <a:ext cx="101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48320" y="3063600"/>
              <a:ext cx="747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AD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9E331-54FB-401F-983B-D51C4F8F55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DC Analysis</a:t>
            </a:r>
            <a:br>
              <a:rPr sz="2800"/>
            </a:b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-Terminated LVDS Buffe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minated LVDS Buffe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476760" y="3658680"/>
            <a:ext cx="1586160" cy="1506960"/>
            <a:chOff x="6476760" y="3658680"/>
            <a:chExt cx="1586160" cy="1506960"/>
          </a:xfrm>
        </p:grpSpPr>
        <p:sp>
          <p:nvSpPr>
            <p:cNvPr id="114" name=""/>
            <p:cNvSpPr/>
            <p:nvPr/>
          </p:nvSpPr>
          <p:spPr>
            <a:xfrm>
              <a:off x="7315200" y="3658680"/>
              <a:ext cx="642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AD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476760" y="3994200"/>
              <a:ext cx="1586160" cy="1171440"/>
              <a:chOff x="6476760" y="3994200"/>
              <a:chExt cx="1586160" cy="1171440"/>
            </a:xfrm>
          </p:grpSpPr>
          <p:sp>
            <p:nvSpPr>
              <p:cNvPr id="116" name=""/>
              <p:cNvSpPr/>
              <p:nvPr/>
            </p:nvSpPr>
            <p:spPr>
              <a:xfrm rot="5400000">
                <a:off x="6357960" y="4113000"/>
                <a:ext cx="1032840" cy="795240"/>
              </a:xfrm>
              <a:prstGeom prst="triangle">
                <a:avLst>
                  <a:gd name="adj" fmla="val 50000"/>
                </a:avLst>
              </a:prstGeom>
              <a:solidFill>
                <a:srgbClr val="33cc3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729480" y="4044600"/>
                <a:ext cx="131760" cy="159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880320" y="4095360"/>
                <a:ext cx="90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78800" y="4865040"/>
                <a:ext cx="101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7435800" y="4250880"/>
                <a:ext cx="101520" cy="461160"/>
                <a:chOff x="7435800" y="4250880"/>
                <a:chExt cx="101520" cy="4611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490520" y="4250880"/>
                  <a:ext cx="45720" cy="45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>
                  <a:off x="7435800" y="4312440"/>
                  <a:ext cx="99360" cy="75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437960" y="4398120"/>
                  <a:ext cx="99360" cy="75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7435800" y="4491720"/>
                  <a:ext cx="99360" cy="75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437960" y="4577400"/>
                  <a:ext cx="99360" cy="75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V="1">
                  <a:off x="7489440" y="4666680"/>
                  <a:ext cx="45720" cy="45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7315200" y="4725000"/>
                <a:ext cx="747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PAD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7486920" y="4095000"/>
                <a:ext cx="0" cy="15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486920" y="4712760"/>
                <a:ext cx="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6400440" y="1601640"/>
            <a:ext cx="1586160" cy="1507320"/>
            <a:chOff x="6400440" y="1601640"/>
            <a:chExt cx="1586160" cy="1507320"/>
          </a:xfrm>
        </p:grpSpPr>
        <p:sp>
          <p:nvSpPr>
            <p:cNvPr id="131" name=""/>
            <p:cNvSpPr/>
            <p:nvPr/>
          </p:nvSpPr>
          <p:spPr>
            <a:xfrm>
              <a:off x="7238880" y="1601640"/>
              <a:ext cx="642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AD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6281280" y="2055960"/>
              <a:ext cx="1033560" cy="79524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653160" y="1987560"/>
              <a:ext cx="131760" cy="16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04000" y="2038320"/>
              <a:ext cx="909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02480" y="2808360"/>
              <a:ext cx="101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38880" y="2668320"/>
              <a:ext cx="747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A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9482B-2C3F-44F0-A21D-87BD2C7CF5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DC Analysis </a:t>
            </a:r>
            <a:br>
              <a:rPr sz="2800"/>
            </a:b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2000" y="1371240"/>
            <a:ext cx="4419720" cy="4724280"/>
            <a:chOff x="4572000" y="1371240"/>
            <a:chExt cx="4419720" cy="4724280"/>
          </a:xfrm>
        </p:grpSpPr>
        <p:sp>
          <p:nvSpPr>
            <p:cNvPr id="139" name=""/>
            <p:cNvSpPr/>
            <p:nvPr/>
          </p:nvSpPr>
          <p:spPr>
            <a:xfrm flipV="1">
              <a:off x="4572000" y="1370520"/>
              <a:ext cx="4419720" cy="4724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5519880" y="1507680"/>
              <a:ext cx="3108240" cy="4224240"/>
              <a:chOff x="5519880" y="1507680"/>
              <a:chExt cx="3108240" cy="4224240"/>
            </a:xfrm>
          </p:grpSpPr>
          <p:sp>
            <p:nvSpPr>
              <p:cNvPr id="141" name=""/>
              <p:cNvSpPr/>
              <p:nvPr/>
            </p:nvSpPr>
            <p:spPr>
              <a:xfrm>
                <a:off x="5661000" y="1742400"/>
                <a:ext cx="423720" cy="645120"/>
              </a:xfrm>
              <a:prstGeom prst="rect">
                <a:avLst/>
              </a:prstGeom>
              <a:solidFill>
                <a:srgbClr val="96969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661000" y="2622600"/>
                <a:ext cx="423720" cy="645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61000" y="3972240"/>
                <a:ext cx="423720" cy="645120"/>
              </a:xfrm>
              <a:prstGeom prst="rect">
                <a:avLst/>
              </a:prstGeom>
              <a:solidFill>
                <a:srgbClr val="96969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661000" y="4852440"/>
                <a:ext cx="423720" cy="645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873040" y="2387880"/>
                <a:ext cx="0" cy="23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873040" y="4617720"/>
                <a:ext cx="0" cy="23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873040" y="2505240"/>
                <a:ext cx="1554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873040" y="4735080"/>
                <a:ext cx="1554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6579000" y="3385440"/>
                <a:ext cx="141120" cy="527040"/>
                <a:chOff x="6579000" y="3385440"/>
                <a:chExt cx="141120" cy="5270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6654960" y="3385440"/>
                  <a:ext cx="63360" cy="5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>
                  <a:off x="6579000" y="3456000"/>
                  <a:ext cx="137880" cy="86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582240" y="3553920"/>
                  <a:ext cx="137880" cy="86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6579000" y="3660840"/>
                  <a:ext cx="137880" cy="86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582240" y="3758760"/>
                  <a:ext cx="137880" cy="86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6653520" y="3860640"/>
                  <a:ext cx="63360" cy="51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6649920" y="3913560"/>
                <a:ext cx="0" cy="821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6649920" y="2505240"/>
                <a:ext cx="0" cy="87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5519880" y="1507680"/>
                <a:ext cx="706320" cy="234360"/>
                <a:chOff x="5519880" y="1507680"/>
                <a:chExt cx="706320" cy="234360"/>
              </a:xfrm>
            </p:grpSpPr>
            <p:sp>
              <p:nvSpPr>
                <p:cNvPr id="159" name=""/>
                <p:cNvSpPr/>
                <p:nvPr/>
              </p:nvSpPr>
              <p:spPr>
                <a:xfrm flipV="1">
                  <a:off x="5873040" y="1507680"/>
                  <a:ext cx="0" cy="23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5519880" y="1508040"/>
                  <a:ext cx="706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5519880" y="3737160"/>
                <a:ext cx="706320" cy="234360"/>
                <a:chOff x="5519880" y="3737160"/>
                <a:chExt cx="706320" cy="234360"/>
              </a:xfrm>
            </p:grpSpPr>
            <p:sp>
              <p:nvSpPr>
                <p:cNvPr id="162" name=""/>
                <p:cNvSpPr/>
                <p:nvPr/>
              </p:nvSpPr>
              <p:spPr>
                <a:xfrm flipV="1">
                  <a:off x="5873040" y="3737160"/>
                  <a:ext cx="0" cy="23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5519880" y="3737520"/>
                  <a:ext cx="706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661000" y="3268080"/>
                <a:ext cx="423720" cy="234360"/>
                <a:chOff x="5661000" y="3268080"/>
                <a:chExt cx="423720" cy="2343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872680" y="3268080"/>
                  <a:ext cx="0" cy="11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661000" y="3385080"/>
                  <a:ext cx="423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731560" y="3443760"/>
                  <a:ext cx="211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802120" y="3502440"/>
                  <a:ext cx="7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5661000" y="5497560"/>
                <a:ext cx="423720" cy="234360"/>
                <a:chOff x="5661000" y="5497560"/>
                <a:chExt cx="423720" cy="2343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872680" y="5497560"/>
                  <a:ext cx="0" cy="11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661000" y="5614560"/>
                  <a:ext cx="423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731560" y="5673240"/>
                  <a:ext cx="211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802120" y="5731920"/>
                  <a:ext cx="7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6508800" y="2446560"/>
                <a:ext cx="282240" cy="117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08800" y="4676400"/>
                <a:ext cx="282240" cy="117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7427160" y="2446560"/>
                <a:ext cx="613080" cy="166320"/>
                <a:chOff x="7427160" y="2446560"/>
                <a:chExt cx="613080" cy="166320"/>
              </a:xfrm>
            </p:grpSpPr>
            <p:sp>
              <p:nvSpPr>
                <p:cNvPr id="177" name=""/>
                <p:cNvSpPr/>
                <p:nvPr/>
              </p:nvSpPr>
              <p:spPr>
                <a:xfrm flipV="1">
                  <a:off x="7427160" y="2448720"/>
                  <a:ext cx="60840" cy="74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509240" y="2450160"/>
                  <a:ext cx="100440" cy="16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7623000" y="2446560"/>
                  <a:ext cx="100080" cy="16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747200" y="2450160"/>
                  <a:ext cx="100440" cy="16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7860960" y="2446560"/>
                  <a:ext cx="100080" cy="16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 flipV="1">
                  <a:off x="7979760" y="2450160"/>
                  <a:ext cx="60480" cy="74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7427160" y="4676400"/>
                <a:ext cx="613080" cy="166320"/>
                <a:chOff x="7427160" y="4676400"/>
                <a:chExt cx="613080" cy="166320"/>
              </a:xfrm>
            </p:grpSpPr>
            <p:sp>
              <p:nvSpPr>
                <p:cNvPr id="184" name=""/>
                <p:cNvSpPr/>
                <p:nvPr/>
              </p:nvSpPr>
              <p:spPr>
                <a:xfrm flipV="1">
                  <a:off x="7427160" y="4678560"/>
                  <a:ext cx="60840" cy="74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509240" y="4680000"/>
                  <a:ext cx="100440" cy="16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V="1">
                  <a:off x="7623000" y="4676400"/>
                  <a:ext cx="100080" cy="16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747200" y="4680000"/>
                  <a:ext cx="100440" cy="16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7860960" y="4676400"/>
                  <a:ext cx="100080" cy="16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 flipV="1">
                  <a:off x="7979760" y="4680000"/>
                  <a:ext cx="60480" cy="74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7992360" y="2505240"/>
                <a:ext cx="63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992360" y="4735080"/>
                <a:ext cx="63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628120" y="2505240"/>
                <a:ext cx="0" cy="222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8062560" y="3561480"/>
                <a:ext cx="56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062920" y="3561480"/>
                <a:ext cx="0" cy="23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062920" y="3796200"/>
                <a:ext cx="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851240" y="3913560"/>
                <a:ext cx="42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7921800" y="3972240"/>
                <a:ext cx="282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62920" y="3972240"/>
                <a:ext cx="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7851240" y="4089600"/>
                <a:ext cx="423720" cy="234360"/>
                <a:chOff x="7851240" y="4089600"/>
                <a:chExt cx="423720" cy="2343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8062920" y="4089600"/>
                  <a:ext cx="0" cy="11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851240" y="4206600"/>
                  <a:ext cx="423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921800" y="4265280"/>
                  <a:ext cx="211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992360" y="4323960"/>
                  <a:ext cx="7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>
                <a:off x="6226200" y="1859760"/>
                <a:ext cx="0" cy="41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226200" y="4969440"/>
                <a:ext cx="0" cy="41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861960" y="2622600"/>
                <a:ext cx="63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6791400" y="4500360"/>
                <a:ext cx="63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791400" y="2857320"/>
                <a:ext cx="0" cy="41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02120" y="2446560"/>
                <a:ext cx="141120" cy="11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802120" y="4676400"/>
                <a:ext cx="141120" cy="11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343040" y="1752120"/>
            <a:ext cx="4267080" cy="39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ll-u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PU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D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x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ull-down                             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INT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V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ull-up                                 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ADN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_fix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ull-down                 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52280" y="1371240"/>
            <a:ext cx="4191120" cy="4724280"/>
            <a:chOff x="152280" y="1371240"/>
            <a:chExt cx="4191120" cy="4724280"/>
          </a:xfrm>
        </p:grpSpPr>
        <p:sp>
          <p:nvSpPr>
            <p:cNvPr id="213" name=""/>
            <p:cNvSpPr/>
            <p:nvPr/>
          </p:nvSpPr>
          <p:spPr>
            <a:xfrm flipV="1">
              <a:off x="152280" y="1370520"/>
              <a:ext cx="4191120" cy="4724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84760" y="1743120"/>
              <a:ext cx="401760" cy="64440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84760" y="2622600"/>
              <a:ext cx="401760" cy="645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84760" y="3971880"/>
              <a:ext cx="401760" cy="64620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84760" y="4852800"/>
              <a:ext cx="401760" cy="644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86360" y="2387520"/>
              <a:ext cx="0" cy="2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86360" y="4618080"/>
              <a:ext cx="0" cy="23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86360" y="2504880"/>
              <a:ext cx="147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86360" y="4735440"/>
              <a:ext cx="147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1050840" y="1507680"/>
              <a:ext cx="669600" cy="235080"/>
              <a:chOff x="1050840" y="1507680"/>
              <a:chExt cx="669600" cy="235080"/>
            </a:xfrm>
          </p:grpSpPr>
          <p:sp>
            <p:nvSpPr>
              <p:cNvPr id="223" name=""/>
              <p:cNvSpPr/>
              <p:nvPr/>
            </p:nvSpPr>
            <p:spPr>
              <a:xfrm flipV="1">
                <a:off x="1385640" y="1507680"/>
                <a:ext cx="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1050840" y="1508040"/>
                <a:ext cx="66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1050840" y="3736440"/>
              <a:ext cx="669600" cy="235080"/>
              <a:chOff x="1050840" y="3736440"/>
              <a:chExt cx="669600" cy="235080"/>
            </a:xfrm>
          </p:grpSpPr>
          <p:sp>
            <p:nvSpPr>
              <p:cNvPr id="226" name=""/>
              <p:cNvSpPr/>
              <p:nvPr/>
            </p:nvSpPr>
            <p:spPr>
              <a:xfrm flipV="1">
                <a:off x="1385640" y="3736440"/>
                <a:ext cx="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1050840" y="3736800"/>
                <a:ext cx="66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1184760" y="3268440"/>
              <a:ext cx="401760" cy="235080"/>
              <a:chOff x="1184760" y="3268440"/>
              <a:chExt cx="401760" cy="235080"/>
            </a:xfrm>
          </p:grpSpPr>
          <p:sp>
            <p:nvSpPr>
              <p:cNvPr id="229" name=""/>
              <p:cNvSpPr/>
              <p:nvPr/>
            </p:nvSpPr>
            <p:spPr>
              <a:xfrm>
                <a:off x="1385640" y="3268440"/>
                <a:ext cx="0" cy="11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184760" y="3385800"/>
                <a:ext cx="40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51720" y="3444840"/>
                <a:ext cx="20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318680" y="3503520"/>
                <a:ext cx="66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184760" y="5497560"/>
              <a:ext cx="401760" cy="234720"/>
              <a:chOff x="1184760" y="5497560"/>
              <a:chExt cx="401760" cy="234720"/>
            </a:xfrm>
          </p:grpSpPr>
          <p:sp>
            <p:nvSpPr>
              <p:cNvPr id="234" name=""/>
              <p:cNvSpPr/>
              <p:nvPr/>
            </p:nvSpPr>
            <p:spPr>
              <a:xfrm>
                <a:off x="1385640" y="5497560"/>
                <a:ext cx="0" cy="11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184760" y="5614920"/>
                <a:ext cx="40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51720" y="5673600"/>
                <a:ext cx="20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318680" y="5732280"/>
                <a:ext cx="66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988640" y="2446200"/>
              <a:ext cx="267840" cy="117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88640" y="4676760"/>
              <a:ext cx="267840" cy="117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860200" y="2446200"/>
              <a:ext cx="579960" cy="166320"/>
              <a:chOff x="2860200" y="2446200"/>
              <a:chExt cx="579960" cy="166320"/>
            </a:xfrm>
          </p:grpSpPr>
          <p:sp>
            <p:nvSpPr>
              <p:cNvPr id="241" name=""/>
              <p:cNvSpPr/>
              <p:nvPr/>
            </p:nvSpPr>
            <p:spPr>
              <a:xfrm flipV="1">
                <a:off x="2860200" y="2448360"/>
                <a:ext cx="57600" cy="7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937600" y="2449800"/>
                <a:ext cx="95040" cy="16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3045600" y="2446200"/>
                <a:ext cx="94680" cy="16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62960" y="2449800"/>
                <a:ext cx="95040" cy="16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3270960" y="2446200"/>
                <a:ext cx="94680" cy="16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flipV="1">
                <a:off x="3382920" y="2449800"/>
                <a:ext cx="57240" cy="7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2860200" y="4676760"/>
              <a:ext cx="579960" cy="166320"/>
              <a:chOff x="2860200" y="4676760"/>
              <a:chExt cx="579960" cy="166320"/>
            </a:xfrm>
          </p:grpSpPr>
          <p:sp>
            <p:nvSpPr>
              <p:cNvPr id="248" name=""/>
              <p:cNvSpPr/>
              <p:nvPr/>
            </p:nvSpPr>
            <p:spPr>
              <a:xfrm flipV="1">
                <a:off x="2860200" y="4678920"/>
                <a:ext cx="57600" cy="7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937600" y="4680360"/>
                <a:ext cx="95040" cy="16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045600" y="4676760"/>
                <a:ext cx="94680" cy="16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162960" y="4680360"/>
                <a:ext cx="95040" cy="16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3270960" y="4676760"/>
                <a:ext cx="94680" cy="16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3382920" y="4680360"/>
                <a:ext cx="57240" cy="7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3396240" y="2504880"/>
              <a:ext cx="60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96240" y="4735440"/>
              <a:ext cx="60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98520" y="2504880"/>
              <a:ext cx="0" cy="223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462480" y="3562200"/>
              <a:ext cx="53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62480" y="3562200"/>
              <a:ext cx="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62480" y="3795480"/>
              <a:ext cx="0" cy="11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61960" y="3913200"/>
              <a:ext cx="40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3328200" y="3971880"/>
              <a:ext cx="26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62480" y="3971880"/>
              <a:ext cx="0" cy="11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3261960" y="4089240"/>
              <a:ext cx="402120" cy="235080"/>
              <a:chOff x="3261960" y="4089240"/>
              <a:chExt cx="402120" cy="235080"/>
            </a:xfrm>
          </p:grpSpPr>
          <p:sp>
            <p:nvSpPr>
              <p:cNvPr id="264" name=""/>
              <p:cNvSpPr/>
              <p:nvPr/>
            </p:nvSpPr>
            <p:spPr>
              <a:xfrm>
                <a:off x="3462840" y="4089240"/>
                <a:ext cx="0" cy="11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261960" y="4206600"/>
                <a:ext cx="40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328920" y="4265640"/>
                <a:ext cx="20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395880" y="4324320"/>
                <a:ext cx="66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1720800" y="1860480"/>
              <a:ext cx="0" cy="4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20800" y="4970520"/>
              <a:ext cx="0" cy="40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24160" y="2622600"/>
              <a:ext cx="60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256840" y="4500360"/>
              <a:ext cx="60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19040" y="2446200"/>
              <a:ext cx="133560" cy="11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19040" y="4676760"/>
              <a:ext cx="133560" cy="11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0" y="1752480"/>
            <a:ext cx="4267080" cy="39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ll-u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P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D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_f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ull-down                    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ull-up                               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ADN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_f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ull-down               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73404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Non-Terminated LV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73908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erminated LV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D87D0-33AA-4767-B053-CC85FAF422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DC Analysis </a:t>
            </a:r>
            <a:br>
              <a:rPr sz="2800"/>
            </a:b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1087560"/>
            <a:ext cx="8839440" cy="45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Terminated LVD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Terminated LV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PAD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PAD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D33CD-D357-4954-AC23-F61AFF74C5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Modeling Review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thod-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ce Set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34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A. Muranyi “ Introduction to IBIS Models and IBIS Model Making”, Sept. 11-13,2000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52280" y="1981080"/>
            <a:ext cx="8534520" cy="3886200"/>
            <a:chOff x="152280" y="1981080"/>
            <a:chExt cx="8534520" cy="3886200"/>
          </a:xfrm>
        </p:grpSpPr>
        <p:sp>
          <p:nvSpPr>
            <p:cNvPr id="282" name=""/>
            <p:cNvSpPr/>
            <p:nvPr/>
          </p:nvSpPr>
          <p:spPr>
            <a:xfrm>
              <a:off x="152280" y="1981080"/>
              <a:ext cx="4191120" cy="38862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           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-I Curv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DN</a:t>
              </a:r>
              <a:r>
                <a:rPr b="1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Hi                                      </a:t>
              </a: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R_f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Lo  </a:t>
              </a: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sz="2000" spc="-1" strike="noStrike" baseline="-25000">
                  <a:solidFill>
                    <a:srgbClr val="000000"/>
                  </a:solidFill>
                  <a:latin typeface="Times New Roman"/>
                </a:rPr>
                <a:t>PAD</a:t>
              </a: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sz="12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                                                       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</a:t>
              </a: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P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                           </a:t>
              </a: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sz="1800" spc="-1" strike="noStrike" baseline="-25000">
                  <a:solidFill>
                    <a:srgbClr val="000000"/>
                  </a:solidFill>
                  <a:latin typeface="Times New Roman"/>
                </a:rPr>
                <a:t>PAD                      </a:t>
              </a: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sz="1800" spc="-1" strike="noStrike" baseline="-25000">
                  <a:solidFill>
                    <a:srgbClr val="000000"/>
                  </a:solidFill>
                  <a:latin typeface="Times New Roman"/>
                </a:rPr>
                <a:t>RE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5400000">
              <a:off x="672480" y="2681280"/>
              <a:ext cx="1533600" cy="119988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62320" y="4191120"/>
              <a:ext cx="601560" cy="707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2209680" y="4114800"/>
              <a:ext cx="801720" cy="94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514240" y="3657600"/>
              <a:ext cx="299880" cy="353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2514240" y="3657240"/>
              <a:ext cx="299880" cy="353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39920" y="2631960"/>
              <a:ext cx="199800" cy="236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8600" y="3281400"/>
              <a:ext cx="61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81280" y="4191120"/>
              <a:ext cx="601920" cy="707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2209680" y="3048120"/>
              <a:ext cx="152280" cy="456480"/>
              <a:chOff x="2209680" y="3048120"/>
              <a:chExt cx="152280" cy="456480"/>
            </a:xfrm>
          </p:grpSpPr>
          <p:sp>
            <p:nvSpPr>
              <p:cNvPr id="292" name=""/>
              <p:cNvSpPr/>
              <p:nvPr/>
            </p:nvSpPr>
            <p:spPr>
              <a:xfrm>
                <a:off x="2291400" y="3048120"/>
                <a:ext cx="68400" cy="4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2209680" y="3109320"/>
                <a:ext cx="149040" cy="7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212920" y="3193920"/>
                <a:ext cx="149040" cy="7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2209680" y="3286440"/>
                <a:ext cx="149040" cy="7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212920" y="3371400"/>
                <a:ext cx="149040" cy="7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2289960" y="3459600"/>
                <a:ext cx="68400" cy="45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1523880" y="2743200"/>
              <a:ext cx="236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286000" y="27428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19320" y="380988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86000" y="35053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66880" y="38098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2438280" y="4876920"/>
              <a:ext cx="347400" cy="377640"/>
              <a:chOff x="2438280" y="4876920"/>
              <a:chExt cx="347400" cy="377640"/>
            </a:xfrm>
          </p:grpSpPr>
          <p:sp>
            <p:nvSpPr>
              <p:cNvPr id="304" name=""/>
              <p:cNvSpPr/>
              <p:nvPr/>
            </p:nvSpPr>
            <p:spPr>
              <a:xfrm>
                <a:off x="2611800" y="4876920"/>
                <a:ext cx="0" cy="22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438280" y="5103360"/>
                <a:ext cx="347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524680" y="5178960"/>
                <a:ext cx="174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572200" y="5254560"/>
                <a:ext cx="79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3657600" y="4876920"/>
              <a:ext cx="347400" cy="377640"/>
              <a:chOff x="3657600" y="4876920"/>
              <a:chExt cx="347400" cy="377640"/>
            </a:xfrm>
          </p:grpSpPr>
          <p:sp>
            <p:nvSpPr>
              <p:cNvPr id="309" name=""/>
              <p:cNvSpPr/>
              <p:nvPr/>
            </p:nvSpPr>
            <p:spPr>
              <a:xfrm>
                <a:off x="3831120" y="4876920"/>
                <a:ext cx="0" cy="22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657600" y="5103360"/>
                <a:ext cx="347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744000" y="5178960"/>
                <a:ext cx="174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91520" y="5254560"/>
                <a:ext cx="79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1965240" y="2117880"/>
              <a:ext cx="184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3809880" y="3048120"/>
              <a:ext cx="152280" cy="456480"/>
              <a:chOff x="3809880" y="3048120"/>
              <a:chExt cx="152280" cy="456480"/>
            </a:xfrm>
          </p:grpSpPr>
          <p:sp>
            <p:nvSpPr>
              <p:cNvPr id="315" name=""/>
              <p:cNvSpPr/>
              <p:nvPr/>
            </p:nvSpPr>
            <p:spPr>
              <a:xfrm>
                <a:off x="3891600" y="3048120"/>
                <a:ext cx="68400" cy="4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3809880" y="3109320"/>
                <a:ext cx="149040" cy="7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813120" y="3193920"/>
                <a:ext cx="149040" cy="7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3809880" y="3286440"/>
                <a:ext cx="149040" cy="7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813120" y="3371400"/>
                <a:ext cx="149040" cy="7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3890160" y="3459600"/>
                <a:ext cx="68400" cy="45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3886200" y="2743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86200" y="35053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19720" y="28051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95680" y="1981080"/>
              <a:ext cx="4191120" cy="38862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           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-T Curv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DN</a:t>
              </a:r>
              <a:r>
                <a:rPr b="1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RISE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</a:t>
              </a: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R_f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FALL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</a:t>
              </a: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R_fix</a:t>
              </a: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sz="12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                                                       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</a:t>
              </a: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P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                               </a:t>
              </a:r>
              <a:r>
                <a:rPr b="1" sz="1800" spc="-1" strike="noStrike" baseline="-25000">
                  <a:solidFill>
                    <a:srgbClr val="000000"/>
                  </a:solidFill>
                  <a:latin typeface="Times New Roman"/>
                </a:rPr>
                <a:t>                           </a:t>
              </a: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sz="1800" spc="-1" strike="noStrike" baseline="-25000">
                  <a:solidFill>
                    <a:srgbClr val="000000"/>
                  </a:solidFill>
                  <a:latin typeface="Times New Roman"/>
                </a:rPr>
                <a:t>RE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5400000">
              <a:off x="5015880" y="2681280"/>
              <a:ext cx="1533600" cy="119988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83320" y="2631960"/>
              <a:ext cx="199800" cy="236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72000" y="3281400"/>
              <a:ext cx="61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24680" y="4191120"/>
              <a:ext cx="601920" cy="707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6553080" y="3048120"/>
              <a:ext cx="152280" cy="456480"/>
              <a:chOff x="6553080" y="3048120"/>
              <a:chExt cx="152280" cy="456480"/>
            </a:xfrm>
          </p:grpSpPr>
          <p:sp>
            <p:nvSpPr>
              <p:cNvPr id="330" name=""/>
              <p:cNvSpPr/>
              <p:nvPr/>
            </p:nvSpPr>
            <p:spPr>
              <a:xfrm>
                <a:off x="6634800" y="3048120"/>
                <a:ext cx="68400" cy="4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6553080" y="3109320"/>
                <a:ext cx="149040" cy="7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556320" y="3193920"/>
                <a:ext cx="149040" cy="7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6553080" y="3286440"/>
                <a:ext cx="149040" cy="7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556320" y="3371400"/>
                <a:ext cx="149040" cy="7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6633360" y="3459600"/>
                <a:ext cx="68400" cy="45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5867280" y="2743200"/>
              <a:ext cx="236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629400" y="27428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62720" y="38098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29400" y="35053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8001000" y="4876920"/>
              <a:ext cx="347400" cy="377640"/>
              <a:chOff x="8001000" y="4876920"/>
              <a:chExt cx="347400" cy="377640"/>
            </a:xfrm>
          </p:grpSpPr>
          <p:sp>
            <p:nvSpPr>
              <p:cNvPr id="341" name=""/>
              <p:cNvSpPr/>
              <p:nvPr/>
            </p:nvSpPr>
            <p:spPr>
              <a:xfrm>
                <a:off x="8174520" y="4876920"/>
                <a:ext cx="0" cy="22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001000" y="5103360"/>
                <a:ext cx="347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087400" y="5178960"/>
                <a:ext cx="174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134920" y="5254560"/>
                <a:ext cx="79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6308640" y="2117880"/>
              <a:ext cx="184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8153280" y="3048120"/>
              <a:ext cx="152280" cy="456480"/>
              <a:chOff x="8153280" y="3048120"/>
              <a:chExt cx="152280" cy="456480"/>
            </a:xfrm>
          </p:grpSpPr>
          <p:sp>
            <p:nvSpPr>
              <p:cNvPr id="347" name=""/>
              <p:cNvSpPr/>
              <p:nvPr/>
            </p:nvSpPr>
            <p:spPr>
              <a:xfrm>
                <a:off x="8235000" y="3048120"/>
                <a:ext cx="68400" cy="4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8153280" y="3109320"/>
                <a:ext cx="149040" cy="7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156520" y="3193920"/>
                <a:ext cx="149040" cy="7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8153280" y="3286440"/>
                <a:ext cx="149040" cy="7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156520" y="3371400"/>
                <a:ext cx="149040" cy="7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8233560" y="3459600"/>
                <a:ext cx="68400" cy="45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8229600" y="2743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29600" y="35053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7315200" y="3733920"/>
              <a:ext cx="456480" cy="152280"/>
              <a:chOff x="7315200" y="3733920"/>
              <a:chExt cx="456480" cy="152280"/>
            </a:xfrm>
          </p:grpSpPr>
          <p:sp>
            <p:nvSpPr>
              <p:cNvPr id="356" name=""/>
              <p:cNvSpPr/>
              <p:nvPr/>
            </p:nvSpPr>
            <p:spPr>
              <a:xfrm flipV="1">
                <a:off x="7315200" y="3735720"/>
                <a:ext cx="45360" cy="68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376400" y="3737520"/>
                <a:ext cx="74880" cy="14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7461000" y="3733920"/>
                <a:ext cx="74520" cy="14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553520" y="3737520"/>
                <a:ext cx="74880" cy="14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7638480" y="3733920"/>
                <a:ext cx="74520" cy="14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 flipV="1">
                <a:off x="7726680" y="3737160"/>
                <a:ext cx="45000" cy="68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7772400" y="3809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00F54-08A9-412F-A43F-8692C2C0E8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Modeling Review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thod-I</a:t>
            </a:r>
            <a:br>
              <a:rPr sz="2800"/>
            </a:b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 Versus Spice; Problem State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28051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0" y="1981080"/>
            <a:ext cx="4191120" cy="3886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RISE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R_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FALL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R_load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AD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5092560" y="2681280"/>
            <a:ext cx="1533600" cy="120024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38680" y="3733920"/>
            <a:ext cx="200160" cy="236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3281400"/>
            <a:ext cx="61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001000" y="4191120"/>
            <a:ext cx="601560" cy="707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6629040" y="3048120"/>
            <a:ext cx="152280" cy="456480"/>
            <a:chOff x="6629040" y="3048120"/>
            <a:chExt cx="152280" cy="456480"/>
          </a:xfrm>
        </p:grpSpPr>
        <p:sp>
          <p:nvSpPr>
            <p:cNvPr id="372" name=""/>
            <p:cNvSpPr/>
            <p:nvPr/>
          </p:nvSpPr>
          <p:spPr>
            <a:xfrm>
              <a:off x="6711120" y="3048120"/>
              <a:ext cx="68400" cy="4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6629040" y="3109320"/>
              <a:ext cx="14868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32640" y="3193920"/>
              <a:ext cx="1486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6629040" y="3286440"/>
              <a:ext cx="14868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32640" y="3371400"/>
              <a:ext cx="1486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709680" y="3459600"/>
              <a:ext cx="68400" cy="4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5638680" y="2743200"/>
            <a:ext cx="2667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705720" y="27428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7280" y="380988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05720" y="3505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8153280" y="4876920"/>
            <a:ext cx="347400" cy="377640"/>
            <a:chOff x="8153280" y="4876920"/>
            <a:chExt cx="347400" cy="377640"/>
          </a:xfrm>
        </p:grpSpPr>
        <p:sp>
          <p:nvSpPr>
            <p:cNvPr id="383" name=""/>
            <p:cNvSpPr/>
            <p:nvPr/>
          </p:nvSpPr>
          <p:spPr>
            <a:xfrm>
              <a:off x="8326800" y="4876920"/>
              <a:ext cx="0" cy="22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153280" y="5103360"/>
              <a:ext cx="34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239680" y="5178960"/>
              <a:ext cx="17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87200" y="5254560"/>
              <a:ext cx="7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6384960" y="21178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8229240" y="3048120"/>
            <a:ext cx="152280" cy="456480"/>
            <a:chOff x="8229240" y="3048120"/>
            <a:chExt cx="152280" cy="456480"/>
          </a:xfrm>
        </p:grpSpPr>
        <p:sp>
          <p:nvSpPr>
            <p:cNvPr id="389" name=""/>
            <p:cNvSpPr/>
            <p:nvPr/>
          </p:nvSpPr>
          <p:spPr>
            <a:xfrm>
              <a:off x="8311320" y="3048120"/>
              <a:ext cx="68400" cy="4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8229240" y="3109320"/>
              <a:ext cx="14868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32840" y="3193920"/>
              <a:ext cx="1486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8229240" y="3286440"/>
              <a:ext cx="14868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32840" y="3371400"/>
              <a:ext cx="1486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8309880" y="3459600"/>
              <a:ext cx="68400" cy="4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8305920" y="274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05920" y="35053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7391520" y="3733920"/>
            <a:ext cx="456480" cy="152280"/>
            <a:chOff x="7391520" y="3733920"/>
            <a:chExt cx="456480" cy="152280"/>
          </a:xfrm>
        </p:grpSpPr>
        <p:sp>
          <p:nvSpPr>
            <p:cNvPr id="398" name=""/>
            <p:cNvSpPr/>
            <p:nvPr/>
          </p:nvSpPr>
          <p:spPr>
            <a:xfrm flipV="1">
              <a:off x="7391520" y="3735720"/>
              <a:ext cx="45360" cy="6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52720" y="3737520"/>
              <a:ext cx="74880" cy="14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7537320" y="3733920"/>
              <a:ext cx="74520" cy="14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29840" y="3737520"/>
              <a:ext cx="74880" cy="14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7714800" y="3733920"/>
              <a:ext cx="74520" cy="14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7803000" y="3737160"/>
              <a:ext cx="45000" cy="6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7848720" y="3809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" y="1981080"/>
            <a:ext cx="4191120" cy="3886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RISE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R_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ADN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R_f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V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5400000">
            <a:off x="748800" y="2681280"/>
            <a:ext cx="1533600" cy="120024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95280" y="3733920"/>
            <a:ext cx="200160" cy="236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4920" y="3281400"/>
            <a:ext cx="61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4724280"/>
            <a:ext cx="601920" cy="70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285640" y="3048120"/>
            <a:ext cx="152280" cy="456480"/>
            <a:chOff x="2285640" y="3048120"/>
            <a:chExt cx="152280" cy="456480"/>
          </a:xfrm>
        </p:grpSpPr>
        <p:sp>
          <p:nvSpPr>
            <p:cNvPr id="411" name=""/>
            <p:cNvSpPr/>
            <p:nvPr/>
          </p:nvSpPr>
          <p:spPr>
            <a:xfrm>
              <a:off x="2367720" y="3048120"/>
              <a:ext cx="68400" cy="4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285640" y="3109320"/>
              <a:ext cx="14868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89240" y="3193920"/>
              <a:ext cx="1486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285640" y="3286440"/>
              <a:ext cx="14868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89240" y="3371400"/>
              <a:ext cx="1486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2366280" y="3459600"/>
              <a:ext cx="68400" cy="4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295280" y="2743200"/>
            <a:ext cx="2667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362320" y="27428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362320" y="3505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3733920" y="5410080"/>
            <a:ext cx="347040" cy="378000"/>
            <a:chOff x="3733920" y="5410080"/>
            <a:chExt cx="347040" cy="378000"/>
          </a:xfrm>
        </p:grpSpPr>
        <p:sp>
          <p:nvSpPr>
            <p:cNvPr id="421" name=""/>
            <p:cNvSpPr/>
            <p:nvPr/>
          </p:nvSpPr>
          <p:spPr>
            <a:xfrm>
              <a:off x="3907440" y="5410080"/>
              <a:ext cx="0" cy="22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33920" y="5636520"/>
              <a:ext cx="347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820320" y="5712120"/>
              <a:ext cx="17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867480" y="5788080"/>
              <a:ext cx="7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2041560" y="21178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885840" y="3048120"/>
            <a:ext cx="152280" cy="456480"/>
            <a:chOff x="3885840" y="3048120"/>
            <a:chExt cx="152280" cy="456480"/>
          </a:xfrm>
        </p:grpSpPr>
        <p:sp>
          <p:nvSpPr>
            <p:cNvPr id="427" name=""/>
            <p:cNvSpPr/>
            <p:nvPr/>
          </p:nvSpPr>
          <p:spPr>
            <a:xfrm>
              <a:off x="3967920" y="3048120"/>
              <a:ext cx="68400" cy="4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3885840" y="3109320"/>
              <a:ext cx="14868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89440" y="3193920"/>
              <a:ext cx="1486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885840" y="3286440"/>
              <a:ext cx="14868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89440" y="3371400"/>
              <a:ext cx="1486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3966480" y="3459600"/>
              <a:ext cx="68400" cy="4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962520" y="274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62520" y="35053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23880" y="3809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2666880" y="4114800"/>
            <a:ext cx="152280" cy="456480"/>
            <a:chOff x="2666880" y="4114800"/>
            <a:chExt cx="152280" cy="456480"/>
          </a:xfrm>
        </p:grpSpPr>
        <p:sp>
          <p:nvSpPr>
            <p:cNvPr id="437" name=""/>
            <p:cNvSpPr/>
            <p:nvPr/>
          </p:nvSpPr>
          <p:spPr>
            <a:xfrm>
              <a:off x="2748600" y="4114800"/>
              <a:ext cx="68400" cy="4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2666880" y="4176000"/>
              <a:ext cx="14904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70120" y="4260600"/>
              <a:ext cx="1490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2666880" y="4353120"/>
              <a:ext cx="14904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70120" y="4438080"/>
              <a:ext cx="1490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2747160" y="4526280"/>
              <a:ext cx="68400" cy="4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274320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38280" y="4724280"/>
            <a:ext cx="601920" cy="70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4572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2590920" y="5410080"/>
            <a:ext cx="347040" cy="378000"/>
            <a:chOff x="2590920" y="5410080"/>
            <a:chExt cx="347040" cy="378000"/>
          </a:xfrm>
        </p:grpSpPr>
        <p:sp>
          <p:nvSpPr>
            <p:cNvPr id="447" name=""/>
            <p:cNvSpPr/>
            <p:nvPr/>
          </p:nvSpPr>
          <p:spPr>
            <a:xfrm>
              <a:off x="2764440" y="5410080"/>
              <a:ext cx="0" cy="22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590920" y="5636520"/>
              <a:ext cx="347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77320" y="5712120"/>
              <a:ext cx="17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24480" y="5788080"/>
              <a:ext cx="7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IBIS Approach for Internal Terminated LVDS Buff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44CE2-5495-4D2F-9DF6-EDA3BB2D5C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3T00:05:07Z</dcterms:created>
  <dc:creator>Jorge T Juliano, Jr.</dc:creator>
  <dc:description/>
  <dc:language>en-US</dc:language>
  <cp:lastModifiedBy>mkorany</cp:lastModifiedBy>
  <cp:lastPrinted>2001-01-23T06:17:43Z</cp:lastPrinted>
  <dcterms:modified xsi:type="dcterms:W3CDTF">2001-01-24T03:04:22Z</dcterms:modified>
  <cp:revision>155</cp:revision>
  <dc:subject/>
  <dc:title>No Slide Title</dc:title>
</cp:coreProperties>
</file>