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7019925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73152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0160" y="4507920"/>
            <a:ext cx="73152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18840" y="243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0160" y="450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18840" y="450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43360" y="243792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16560" y="243792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0160" y="450792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43360" y="450792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16560" y="450792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0160" y="243792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35697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8840" y="2437920"/>
            <a:ext cx="35697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370160" y="1371600"/>
            <a:ext cx="7315200" cy="21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8840" y="2437920"/>
            <a:ext cx="35697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0160" y="450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0160" y="243792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35697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8840" y="243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118840" y="450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18840" y="243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370160" y="4507920"/>
            <a:ext cx="73152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73152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370160" y="4507920"/>
            <a:ext cx="73152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18840" y="243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370160" y="450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118840" y="450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843360" y="243792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16560" y="243792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370160" y="450792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843360" y="450792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16560" y="450792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35697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18840" y="2437920"/>
            <a:ext cx="35697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370160" y="1371600"/>
            <a:ext cx="7315200" cy="21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18840" y="2437920"/>
            <a:ext cx="35697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0160" y="450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35697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18840" y="243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18840" y="450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18840" y="243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0160" y="4507920"/>
            <a:ext cx="73152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60440" y="457200"/>
            <a:ext cx="8226360" cy="5943600"/>
            <a:chOff x="460440" y="457200"/>
            <a:chExt cx="8226360" cy="5943600"/>
          </a:xfrm>
        </p:grpSpPr>
        <p:sp>
          <p:nvSpPr>
            <p:cNvPr id="1" name=""/>
            <p:cNvSpPr/>
            <p:nvPr/>
          </p:nvSpPr>
          <p:spPr>
            <a:xfrm>
              <a:off x="893880" y="1019160"/>
              <a:ext cx="0" cy="538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3320" y="457200"/>
              <a:ext cx="5981760" cy="19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71680" y="5867280"/>
              <a:ext cx="401400" cy="201600"/>
            </a:xfrm>
            <a:custGeom>
              <a:avLst/>
              <a:gdLst/>
              <a:ahLst/>
              <a:rect l="l" t="t" r="r" b="b"/>
              <a:pathLst>
                <a:path w="253" h="127">
                  <a:moveTo>
                    <a:pt x="0" y="126"/>
                  </a:moveTo>
                  <a:lnTo>
                    <a:pt x="0" y="0"/>
                  </a:lnTo>
                  <a:lnTo>
                    <a:pt x="252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77720" y="5934240"/>
              <a:ext cx="505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273C4054-B79F-48D3-8623-C160130224A2}" type="slidenum"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705720" y="638280"/>
              <a:ext cx="198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" name="Cadence%20Logo%20Web%20Red" descr=""/>
            <p:cNvPicPr/>
            <p:nvPr/>
          </p:nvPicPr>
          <p:blipFill>
            <a:blip r:embed="rId2"/>
            <a:stretch/>
          </p:blipFill>
          <p:spPr>
            <a:xfrm>
              <a:off x="7351560" y="855720"/>
              <a:ext cx="1335240" cy="3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460440" y="644400"/>
              <a:ext cx="446040" cy="45576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90640" y="644400"/>
              <a:ext cx="3427200" cy="37476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370160" y="243792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28560" indent="-171360">
              <a:spcBef>
                <a:spcPts val="75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171360">
              <a:spcBef>
                <a:spcPts val="75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549440" indent="-173160">
              <a:spcBef>
                <a:spcPts val="75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2514600" indent="-228600">
              <a:spcBef>
                <a:spcPts val="75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2514600" indent="-228600">
              <a:spcBef>
                <a:spcPts val="75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2514600" indent="-228600">
              <a:spcBef>
                <a:spcPts val="75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728280" y="541620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460440" y="457200"/>
            <a:ext cx="8226360" cy="5943600"/>
            <a:chOff x="460440" y="457200"/>
            <a:chExt cx="8226360" cy="5943600"/>
          </a:xfrm>
        </p:grpSpPr>
        <p:sp>
          <p:nvSpPr>
            <p:cNvPr id="49" name=""/>
            <p:cNvSpPr/>
            <p:nvPr/>
          </p:nvSpPr>
          <p:spPr>
            <a:xfrm>
              <a:off x="733320" y="457200"/>
              <a:ext cx="5981760" cy="19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98560" y="1092240"/>
              <a:ext cx="0" cy="5308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705720" y="638280"/>
              <a:ext cx="198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" name="Cadence%20Logo%20Web%20Red%20Title" descr=""/>
            <p:cNvPicPr/>
            <p:nvPr/>
          </p:nvPicPr>
          <p:blipFill>
            <a:blip r:embed="rId2"/>
            <a:stretch/>
          </p:blipFill>
          <p:spPr>
            <a:xfrm>
              <a:off x="4313160" y="1731960"/>
              <a:ext cx="2421000" cy="6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460440" y="644400"/>
              <a:ext cx="446040" cy="45576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90640" y="644400"/>
              <a:ext cx="3427200" cy="37476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1848600" y="6127560"/>
            <a:ext cx="2846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adence Design Systems, In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28440" y="3098880"/>
            <a:ext cx="6620040" cy="9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624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3" marL="1376280" algn="ctr">
              <a:spcBef>
                <a:spcPts val="561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4" marL="2286000" algn="ctr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228600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228600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28440" y="3098880"/>
            <a:ext cx="6620040" cy="9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PROPOSED NEW DIRECTIONS FOR IBIS PCB SIGNAL INTEGRITY MODELS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676520" y="4723920"/>
            <a:ext cx="6619680" cy="15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"/>
          <p:cNvSpPr/>
          <p:nvPr/>
        </p:nvSpPr>
        <p:spPr>
          <a:xfrm>
            <a:off x="1752480" y="56188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an C Do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Example of IBIS-X Data Section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[Model] switchou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odel_type Terminato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| variabl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yp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in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_comp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pF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A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[Temperature Range]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25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[Voltage Range]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5.0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4.75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5.25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[Rac]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k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A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[Cac]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0.5pF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A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Example of IBIS-X Circuit Topology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[Define Model] Terminato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.inherit model_bas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.node t1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sistor Rac (pin t1)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 = [Rac] || shor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apacitor Cac (t1 gnd)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 = [Cac] || ope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sistor Rpwr (pin power_clamp_ref) R = [Rpower] || ope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sistor Rgnd (pin gnd_clamp_ref) R = [Rgnd] || ope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[End Define Model]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Circuit Elements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asic Elements: resistors, capacitors, inductors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quation controlled sourc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iecewise linear table driven sourc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dvanced transmission lines: RLGC = function (frequency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riggers: detect threshold transition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larms: report violation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Heritage behavioral drivers and load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Proposed HTML compatible IBIS/IBIS-X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riginally proposed as a IBIS 4.0 feature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eature only activated for documents with a HTML declaration at the start of the fil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ines with “&lt;“ in column one are assumed to be HTML formatting commands to be ignored by IBIS parser.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chine readable text can be displayed with full formatt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raphics can be incorporated into comments. Allows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28560" indent="-171360">
              <a:spcBef>
                <a:spcPts val="68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Schematic symbols 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628560" indent="-171360">
              <a:spcBef>
                <a:spcPts val="68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connector pinout diagram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HTML compatible IBIS Example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raphics from HTML IBIS example go her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Source for HTML IBIS Example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ource for HTML IBIS example goes her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IBIS-X Advantages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BIS-X meets the goal of being inherently extensible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artitioning IBIS into a structure template and a data section separates of the re-usable portion of the model from that which is specific to a device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partitioning also separates out the data sheet which should be relatively easy to populate from the structure template which may require advanced modeling skill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IBIS-X Advantages (continued)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vices in a wide range of logic families should be able to share the same structure template.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n appropriate template will allow existing IBIS models to be read by IBIS-X tools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odal structure allows multiple levels of abstraction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IBIS-X Concerns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 high degree of expertise and specialization will be required to create new IBIS-X structure templates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odel developers will have to be trained to create more than one type of data shee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mulation tools will have to be much more intelligent in their model syntax checking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task of model validation will be more difficult than at prese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Further IBIS-X Work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162720" indent="-16272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t first stage of the definition proces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96880" indent="-162720">
              <a:spcBef>
                <a:spcPts val="68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Formal specification is now being created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596880" indent="-162720">
              <a:spcBef>
                <a:spcPts val="68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Target date has yet to be set for full Open Forum review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162720" indent="-16272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ncerns of what level of abstraction to use for basic building blocks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96880" indent="-162720">
              <a:spcBef>
                <a:spcPts val="68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SPICE primitive, controlled voltage and current source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596880" indent="-162720">
              <a:spcBef>
                <a:spcPts val="68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Nodal charge, flux equation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162720" indent="-16272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an more work from existing analog behavioral standards be incorporated into this proposa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62720" indent="-16272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an XML methodology be adopted for the data section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IBIS: I/O Buffer Information Specification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chine-readable analog behavioral description of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28560" indent="-171360">
              <a:spcBef>
                <a:spcPts val="68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digital integrated circuit I/Os.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628560" indent="-171360">
              <a:spcBef>
                <a:spcPts val="68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terminator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628560" indent="-171360">
              <a:spcBef>
                <a:spcPts val="68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packages and simple electrical module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imary target is PCB interconnect simul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re of present I/O buffer model is tabular I/V and V/T curve data derived from measurement or full circuit simulation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Conclusions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IBIS-X proposal represents a promising way to move the task of defining the simulation model data sheet from the standards committee to the expert user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BIS-X support will require an increase in the sophistication of validation tools and increased training for model developers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Acknowledgements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IBIS Open Forum continues to provide technological innovation for the mutual benefit of EDA customers, EDA vendors and IC manufacturer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IBIS Open Forum: Futures Subcommittee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adence: Ian Dodd,   (Mike LaBonte - no longer active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BM: Michael Cohe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novEDA: John Angulo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dependent: Al Davi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tel: Arpad Muranyi, Stephen Peters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entor Graphics: Bob Ros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xas Instruments: Stephen Nola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Brief IBIS History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992 Intel invited Cadence and other EDA vendors to define a common behavioral modeling languag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993 IBIS 1.0 released, Open Forum established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995 IBIS Open Forum affiliated with EIA, IBIS 2.1 approv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s ANSI/EIA-656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999 IBIS 3.2 approved as ANSI/EIA-656A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IBIS Major Feature Additions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BIS 1.0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28560" indent="-171360">
              <a:spcBef>
                <a:spcPts val="68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I/V Curve Data, simple Rise and Fall Time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BIS 2.1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28560" indent="-171360">
              <a:spcBef>
                <a:spcPts val="68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V/T Curve Data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628560" indent="-171360">
              <a:spcBef>
                <a:spcPts val="68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Delay measurement specification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628560" indent="-171360">
              <a:spcBef>
                <a:spcPts val="68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Package model 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628560" indent="-171360">
              <a:spcBef>
                <a:spcPts val="68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Differential logic support, supply pin mapping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BIS 3.2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28560" indent="-171360">
              <a:spcBef>
                <a:spcPts val="68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Series elements, driver scheduling, bus hold and lots more!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IBIS modeling advantages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mulations are faster than for equivalent structural models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jority of present day devices can be accurately modeled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ata sheet style description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tellectual property is protected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dopted by all the major EDA vendors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ny Semiconductor vendors routinely provide IBIS models for new products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IBIS limitations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eature changes require new keywords to be debated, agreed upon and ratified through the international standards proces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ate of requests for feature changes is accelerating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odels assume a fixed circuit topology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esent accuracy is inadequate for today's needs in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28560" indent="-171360">
              <a:spcBef>
                <a:spcPts val="68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input transition detection 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628560" indent="-171360">
              <a:spcBef>
                <a:spcPts val="68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simultaneous switching noise 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628560" indent="-171360">
              <a:spcBef>
                <a:spcPts val="68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power delivery.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628560" indent="-171360">
              <a:spcBef>
                <a:spcPts val="68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coupling within packages and more!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Goals for the next generation of IBIS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marL="150480" indent="-1504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vide an extensible syntax so new technologies and requirements can be supported without changing the standard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50480" indent="-1504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llow the advanced model creator to define the model’s structural topology and parameter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50480" indent="-1504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upport equation based modeling in addition to tables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50480" indent="-1504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intain backward compatibility with previous IBIS version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50480" indent="-1504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upport public key encryp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50480" indent="-1504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condary Goa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2960" indent="-150480">
              <a:spcBef>
                <a:spcPts val="68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Allow HTML compatibility so text can be formatted and pictures, graphs and diagrams can be included in comments.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IBIS-X the proposed next generation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xtend the data shee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28560" indent="-171360">
              <a:spcBef>
                <a:spcPts val="68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remove requirement limiting keywords to those defined in the standard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628560" indent="-171360">
              <a:spcBef>
                <a:spcPts val="68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Allow each data point to have an arbitrary number of values rather than the three representing typical, minimum and maximum in the present standard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dd a new structure templat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The IBIS-X structure template 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164160" indent="-164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s created by the advanced modeler and is used for many devices by customizing the data section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64160" indent="-164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fines the structural topology of the simulation model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03360" indent="-164160">
              <a:spcBef>
                <a:spcPts val="68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SPICE style nodal description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603360" indent="-164160">
              <a:spcBef>
                <a:spcPts val="68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flexible set of behavioral simulation element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603360" indent="-164160">
              <a:spcBef>
                <a:spcPts val="68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macro language for creating model prototype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164160" indent="-164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ps the keyword specified data file entries to parameters on elements in the model structure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64160" indent="-164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ps the sets of values for data points to process, temperature and other simulation user specified condition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7T08:20:33Z</dcterms:created>
  <dc:creator>Ian C Dodd</dc:creator>
  <dc:description/>
  <dc:language>en-US</dc:language>
  <cp:lastModifiedBy>bobr</cp:lastModifiedBy>
  <cp:lastPrinted>2001-01-18T23:52:59Z</cp:lastPrinted>
  <dcterms:modified xsi:type="dcterms:W3CDTF">2001-01-25T22:33:35Z</dcterms:modified>
  <cp:revision>23</cp:revision>
  <dc:subject/>
  <dc:title>PROPOSED NEW DIRECTIONS FOR IBIS PCB SIGNAL INTEGRITY MODELS</dc:title>
</cp:coreProperties>
</file>