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2808-B0BF-4314-86C2-60F74337B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e passed the IBIS parser with no errors or warning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 acts as a terminator for SCSI busses.  It will terminate the SCSI line into the appropriate R and V.  The model is an output model though, complete with pullup and pulldown tables and rise and fall ti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rtial model of an 789 part.   This one seems to be a model of an input.  The notes indicate that the data is an approximation of data on the IV characteristics above and below the power rails and only models the IV characteristics for the remainder of the model.  It has an interesting definition of the MAX mod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warning for an input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ere is a bug in the IBIS parser.  0.00V is within 2% of 0.00V last I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 seems to have 2 pin models, one for an output called Out2 and one for an input Din1.  But wait, there’s more.  Out2 is called mii_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set of tables for a model Inpu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definition of typ/min/m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Vinl and Vin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he data is consistent, 0.00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put with pullup and ramp dat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 very weak pull down for an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interesting definition of min/typ/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something that is described as an nii_IN have a pull down or is modeled as I/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model with rise and f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5.10 psec rise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very interesting VT wavefor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ing waveform is not very interesting eith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in model for the 789 part.  The same kinds of qualifiers are pres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y define the function of the two model, one is an output and the other in an inpu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asses with warning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odeled as an I/O pin.  Funny min/typ/max definitions.  Compare the data in this table with the data in the ground clamp ta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ny min/typ/max defini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clamp and pulldown seem to be the same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eived a request from a customer to QC models for a project he was working on.  All of the models we received were collected by the customer from the respective IC manufactur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t values for the fall are suspiciou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 that was defined as an input is modeled as an output.  Vinl and Vinh are not realistic.  The min/typ/max definitions are wrong.  A very weak driver to say the leas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weak pullup with consistent dV/d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QC process we used to validate the models is more complex than shown here, I only used the above two steps for the purposes of this presentation.  Each model was checked for IBIS syntax by the IBIS parser and then was visually inspected.  The problems found/discussed were fairly obvious.  Most files had more problems than show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change the name and part number to protect the guilty.  This part is a low skew clock driver/buff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sults from the IBIS parser.  Note the mismatch between the endpoints from the AC waveforms and the values predicted by the IV curves.  I’ll propose a change to the parser.  If the difference is more than 10% it should be flagged as an error, not a war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part of the model.  I’m concerned about the C_comp value being the same for the min/typ/max cases.  But that is a small concern compared to the zero current in the pulldown table in the active reg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Ultra2 LVD/SE SCSI Terminato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4CE61-B816-40EE-A572-48F75C423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F29A-B9D3-4788-A3D4-F391DD83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59D1D-DA1A-4D35-BA05-0B9BD1266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507D9-998E-481E-8E95-8B6EE7F77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1F97F-7B3A-4575-A0C9-17E18FAB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9B23-D2C8-487A-B4F6-507DF86F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7169-28EF-4651-AD2C-4799C5A92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D5C6-A60A-416D-A171-231169CD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7984-9FE7-4371-BCE2-EB129012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E171-95A0-41C2-A5B0-1CF59081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890C-40B1-4C75-B206-5BE44E80D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7D53-E422-483A-8B3D-067A5F296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uar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24816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Joy of Web Model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957F-93CF-4BE4-98F5-F5E8BB05A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SKO2001-Body" descr=""/>
          <p:cNvPicPr/>
          <p:nvPr/>
        </p:nvPicPr>
        <p:blipFill>
          <a:blip r:embed="rId2"/>
          <a:stretch/>
        </p:blipFill>
        <p:spPr>
          <a:xfrm>
            <a:off x="0" y="6111720"/>
            <a:ext cx="9144000" cy="74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6858000"/>
        </p:xfrm>
        <a:graphic>
          <a:graphicData uri="http://schemas.openxmlformats.org/presentationml/2006/ole">
            <p:oleObj progId="PowerPoint.Show.12" r:id="rId1" spid="">
              <p:embed/>
              <p:pic>
                <p:nvPicPr>
                  <p:cNvPr id="5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345</a:t>
            </a:r>
            <a:endParaRPr b="0" lang="en-US" sz="4400" spc="-1" strike="noStrike">
              <a:solidFill>
                <a:srgbClr val="000000"/>
              </a:solidFill>
              <a:latin typeface="Times New Roman"/>
            </a:endParaRPr>
          </a:p>
        </p:txBody>
      </p:sp>
      <p:sp>
        <p:nvSpPr>
          <p:cNvPr id="68" name=""/>
          <p:cNvSpPr/>
          <p:nvPr/>
        </p:nvSpPr>
        <p:spPr>
          <a:xfrm>
            <a:off x="842400" y="2438280"/>
            <a:ext cx="7188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stem"/>
              </a:rPr>
              <a:t>Checking 12345.ibs for IBIS 2.1 Compatibi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stem"/>
              </a:rPr>
              <a:t>Errors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System"/>
              </a:rPr>
              <a:t>File Pa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345</a:t>
            </a:r>
            <a:br>
              <a:rPr sz="4400"/>
            </a:br>
            <a:r>
              <a:rPr b="0" lang="en-US" sz="4400" spc="-1" strike="noStrike">
                <a:solidFill>
                  <a:srgbClr val="000000"/>
                </a:solidFill>
                <a:latin typeface="Times New Roman"/>
              </a:rPr>
              <a:t>Ultra2 LVD/SE SCSI Terminator</a:t>
            </a:r>
            <a:endParaRPr b="0" lang="en-US" sz="4400" spc="-1" strike="noStrike">
              <a:solidFill>
                <a:srgbClr val="000000"/>
              </a:solidFill>
              <a:latin typeface="Times New Roman"/>
            </a:endParaRPr>
          </a:p>
        </p:txBody>
      </p:sp>
      <p:sp>
        <p:nvSpPr>
          <p:cNvPr id="70" name=""/>
          <p:cNvSpPr/>
          <p:nvPr/>
        </p:nvSpPr>
        <p:spPr>
          <a:xfrm>
            <a:off x="609480" y="2286000"/>
            <a:ext cx="7736040" cy="38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          rnp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_type       </a:t>
            </a:r>
            <a:r>
              <a:rPr b="1" lang="en-US" sz="1400" spc="-1" strike="noStrike">
                <a:solidFill>
                  <a:srgbClr val="3333cc"/>
                </a:solidFill>
                <a:latin typeface="Courier New"/>
              </a:rPr>
              <a:t>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comp           3.00pF              3.00pF              3.00p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meas=1.5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mperature Range]       27.00               70.00               0.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ltage Range]           5.00V               4.00V               5.50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ull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dV/dt_r          67.20u/1.39n        71.40u/1.03n        67.20u/1.41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dV/dt_f          -0.53m/0.19n        -0.34m/0.24n        -0.64m/0.15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_load = 0.10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 [Model] rnp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345</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d Vend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id would pass info on to correct gro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sponse y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74" name=""/>
          <p:cNvSpPr/>
          <p:nvPr/>
        </p:nvSpPr>
        <p:spPr>
          <a:xfrm>
            <a:off x="1092600" y="2057400"/>
            <a:ext cx="7130160" cy="33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IBIS file miiin3x.ibs created by s2ibis2 version 0.91B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North Carolina State University Electronics Research Laboratory  199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BIS ver]       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le name]      789_in_e.i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le Rev]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ate]           Friday, June 23,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ource]         Semiconducto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otes]          </a:t>
            </a:r>
            <a:r>
              <a:rPr b="1" lang="en-US" sz="1200" spc="-1" strike="noStrike">
                <a:solidFill>
                  <a:srgbClr val="3333cc"/>
                </a:solidFill>
                <a:latin typeface="Courier New"/>
              </a:rPr>
              <a:t>Unless otherwise specified, the data above and below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typical POWER supply rails is presented only as a rou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approximation based on lab measurements</a:t>
            </a:r>
            <a:r>
              <a:rPr b="1" lang="en-US" sz="1200" spc="-1" strike="noStrike">
                <a:solidFill>
                  <a:srgbClr val="000000"/>
                </a:solidFill>
                <a:latin typeface="Courier New"/>
              </a:rPr>
              <a:t>. The pin parasit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re from simulated dat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isclaimer]     </a:t>
            </a:r>
            <a:r>
              <a:rPr b="1" lang="en-US" sz="1200" spc="-1" strike="noStrike">
                <a:solidFill>
                  <a:srgbClr val="3333cc"/>
                </a:solidFill>
                <a:latin typeface="Courier New"/>
              </a:rPr>
              <a:t>This file only describes the I/V characteristics</a:t>
            </a:r>
            <a:r>
              <a:rPr b="1" lang="en-US" sz="1200" spc="-1" strike="noStrike">
                <a:solidFill>
                  <a:srgbClr val="000000"/>
                </a:solidFill>
                <a:latin typeface="Courier New"/>
              </a:rPr>
              <a:t> of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andard digital type pads for the 33333 product. </a:t>
            </a:r>
            <a:r>
              <a:rPr b="1" lang="en-US" sz="1200" spc="-1" strike="noStrike">
                <a:solidFill>
                  <a:srgbClr val="3333cc"/>
                </a:solidFill>
                <a:latin typeface="Courier New"/>
              </a:rPr>
              <a:t>Note,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MAX corner represents the worst case operation (low supp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voltage, high temperature, slow spice models).</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76" name=""/>
          <p:cNvSpPr/>
          <p:nvPr/>
        </p:nvSpPr>
        <p:spPr>
          <a:xfrm>
            <a:off x="1141920" y="1752480"/>
            <a:ext cx="7046280" cy="469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stem"/>
              </a:rPr>
              <a:t>Checking 789_in_e.ibs for IBIS 2.1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System"/>
              </a:rPr>
              <a:t>WARNING - Model 'mii_IN': TYP AC Rising Endpoints ( 0.00V,  0.0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System"/>
              </a:rPr>
              <a:t>          </a:t>
            </a:r>
            <a:r>
              <a:rPr b="1" lang="en-US" sz="1400" spc="-1" strike="noStrike">
                <a:solidFill>
                  <a:srgbClr val="3333cc"/>
                </a:solidFill>
                <a:latin typeface="System"/>
              </a:rPr>
              <a:t>0.000V (2%) of (-0.00V, -0.00V) on VI curves for 50 Ohms to 0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WARNING - Model 'mii_IN': TYP AC Falling Endpoints ( 3.30V,  3.3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          </a:t>
            </a:r>
            <a:r>
              <a:rPr b="0" lang="en-US" sz="1400" spc="-1" strike="noStrike">
                <a:solidFill>
                  <a:srgbClr val="000000"/>
                </a:solidFill>
                <a:latin typeface="System"/>
              </a:rPr>
              <a:t>0.000V (2%) of ( 3.30V,  3.30V) on VI curves for 50 Ohms to 3.3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WARNING - Model 'mii_IN': MIN AC Rising Endpoints ( 0.00V,  0.0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          </a:t>
            </a:r>
            <a:r>
              <a:rPr b="0" lang="en-US" sz="1400" spc="-1" strike="noStrike">
                <a:solidFill>
                  <a:srgbClr val="000000"/>
                </a:solidFill>
                <a:latin typeface="System"/>
              </a:rPr>
              <a:t>0.000V (2%) of (-0.00V, -0.00V) on VI curves for 50 Ohms to 0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WARNING - Model 'mii_IN': MIN AC Falling Endpoints ( 3.30V,  3.3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          </a:t>
            </a:r>
            <a:r>
              <a:rPr b="0" lang="en-US" sz="1400" spc="-1" strike="noStrike">
                <a:solidFill>
                  <a:srgbClr val="000000"/>
                </a:solidFill>
                <a:latin typeface="System"/>
              </a:rPr>
              <a:t>0.000V (2%) of ( 3.30V,  3.30V) on VI curves for 50 Ohms to 3.3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WARNING - Model 'mii_IN': MAX AC Rising Endpoints ( 0.00V,  0.0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          </a:t>
            </a:r>
            <a:r>
              <a:rPr b="0" lang="en-US" sz="1400" spc="-1" strike="noStrike">
                <a:solidFill>
                  <a:srgbClr val="000000"/>
                </a:solidFill>
                <a:latin typeface="System"/>
              </a:rPr>
              <a:t>0.000V (2%) of (-0.00V, -0.00V) on VI curves for 50 Ohms to 0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WARNING - Model 'mii_IN': MAX AC Falling Endpoints ( 3.30V,  3.30V) not with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stem"/>
              </a:rPr>
              <a:t>          </a:t>
            </a:r>
            <a:r>
              <a:rPr b="0" lang="en-US" sz="1400" spc="-1" strike="noStrike">
                <a:solidFill>
                  <a:srgbClr val="000000"/>
                </a:solidFill>
                <a:latin typeface="System"/>
              </a:rPr>
              <a:t>0.000V (2%) of ( 3.30V,  3.30V) on VI curves for 50 Ohms to 3.3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stem"/>
              </a:rPr>
              <a:t>Errors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stem"/>
              </a:rPr>
              <a:t>Warnings: 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stem"/>
              </a:rPr>
              <a:t>File P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78" name=""/>
          <p:cNvSpPr/>
          <p:nvPr/>
        </p:nvSpPr>
        <p:spPr>
          <a:xfrm>
            <a:off x="1244520" y="1916280"/>
            <a:ext cx="694728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omponent mii_IBIS_mode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ponent] mii_IBIS_mode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nufacturer]   Semiconducto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ck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pkg            1.74                1.47                2.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_pkg            8.16nH              6.59nH              9.64n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_pkg            1.02pF              650.00fF            1.39p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in]  signal_name          model_name           R_pin     L_pin     C_p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WR    VCC                  P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ND1   GND                  G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D2   out2                 mii_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1in   Din1                 Inpu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80" name=""/>
          <p:cNvSpPr/>
          <p:nvPr/>
        </p:nvSpPr>
        <p:spPr>
          <a:xfrm>
            <a:off x="1601640" y="1303200"/>
            <a:ext cx="574344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odel </a:t>
            </a:r>
            <a:r>
              <a:rPr b="1" lang="en-US" sz="1000" spc="-1" strike="noStrike">
                <a:solidFill>
                  <a:srgbClr val="3333cc"/>
                </a:solidFill>
                <a:latin typeface="Courier New"/>
              </a:rPr>
              <a:t>Inpu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          </a:t>
            </a:r>
            <a:r>
              <a:rPr b="1" lang="en-US" sz="1000" spc="-1" strike="noStrike">
                <a:solidFill>
                  <a:srgbClr val="3333cc"/>
                </a:solidFill>
                <a:latin typeface="Courier New"/>
              </a:rPr>
              <a:t>Inpu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_type       </a:t>
            </a:r>
            <a:r>
              <a:rPr b="1" lang="en-US" sz="1000" spc="-1" strike="noStrike">
                <a:solidFill>
                  <a:srgbClr val="3333cc"/>
                </a:solidFill>
                <a:latin typeface="Courier New"/>
              </a:rPr>
              <a:t>Outp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larity         Non-Inver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Vinl =   0.00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Vinh =   3.30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_comp           472.00fF            615.00fF            352.00f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Temperature Range]       25.00               -40.00              15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Voltage Range]           3.30V               3.46V               3.13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3333cc"/>
                </a:solidFill>
                <a:latin typeface="Courier New"/>
              </a:rPr>
              <a:t>Pulldown</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3333cc"/>
                </a:solidFill>
                <a:latin typeface="Courier New"/>
              </a:rPr>
              <a:t>-3.3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1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0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1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2.9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0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1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2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3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40       -0.00A              -0.00A              -0.0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82" name=""/>
          <p:cNvSpPr/>
          <p:nvPr/>
        </p:nvSpPr>
        <p:spPr>
          <a:xfrm>
            <a:off x="1317960" y="2068560"/>
            <a:ext cx="621576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ll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oltage     I(typ)              I(min)              I(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3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1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200" spc="-1" strike="noStrike">
                <a:solidFill>
                  <a:srgbClr val="000000"/>
                </a:solidFill>
                <a:latin typeface="Courier New"/>
              </a:rPr>
              <a:t>6.0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2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V/dt_r          0.00/0.00           0.00/0.00           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V/dt_f          0.00/0.00           0.00/0.00           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Model] </a:t>
            </a:r>
            <a:r>
              <a:rPr b="1" lang="en-US" sz="1200" spc="-1" strike="noStrike">
                <a:solidFill>
                  <a:srgbClr val="3333cc"/>
                </a:solidFill>
                <a:latin typeface="Courier New"/>
              </a:rPr>
              <a:t>Inpu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84" name=""/>
          <p:cNvSpPr/>
          <p:nvPr/>
        </p:nvSpPr>
        <p:spPr>
          <a:xfrm>
            <a:off x="1677960" y="1066680"/>
            <a:ext cx="5667120" cy="542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          mii_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_type       </a:t>
            </a:r>
            <a:r>
              <a:rPr b="1" lang="en-US" sz="1000" spc="-1" strike="noStrike">
                <a:solidFill>
                  <a:srgbClr val="3333cc"/>
                </a:solidFill>
                <a:latin typeface="Courier New"/>
              </a:rPr>
              <a:t>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larity         Non-Inver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nl = 800.00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nh =   2.00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_comp           472.00fF            615.00fF            352.00f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3333cc"/>
                </a:solidFill>
                <a:latin typeface="Courier New"/>
              </a:rPr>
              <a:t>Temperature Range]       25.00               -40.00              15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Voltage Range]           3.30V               3.46V               3.13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Pulld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30       -5.48A              -5.33A              -5.79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10       -5.03A              -4.88A              -5.34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90       -4.59A              -4.43A              -4.9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70       -4.14A              -3.99A              -4.46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3333cc"/>
                </a:solidFill>
                <a:latin typeface="Courier New"/>
              </a:rPr>
              <a:t>0.00      -48.98pA            -48.54pA            -10.40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10      923.30nA              1.44uA            525.30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20        1.57uA              2.39uA            931.20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30        2.04uA              3.02uA              1.2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40        2.37uA              3.46uA              1.4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50        2.60uA              3.76uA              1.6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2.90        3.02uA              4.25uA              2.0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00        3.02uA              4.26uA              2.0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10        3.02uA              4.26uA              2.05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20        3.03uA              4.26uA              2.05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30        3.03uA              4.27uA              2.06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40        3.04uA              4.27uA              2.06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50        3.04uA              4.28uA              2.0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60        3.04uA              4.28uA              2.0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86" name=""/>
          <p:cNvSpPr/>
          <p:nvPr/>
        </p:nvSpPr>
        <p:spPr>
          <a:xfrm>
            <a:off x="2057400" y="1828800"/>
            <a:ext cx="5486400" cy="313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1" lang="en-US" sz="1000" spc="-1" strike="noStrike">
                <a:solidFill>
                  <a:srgbClr val="3333cc"/>
                </a:solidFill>
                <a:latin typeface="Courier New"/>
              </a:rPr>
              <a:t>Pullup</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3333cc"/>
                </a:solidFill>
                <a:latin typeface="Courier New"/>
              </a:rPr>
              <a:t>-3.30        3.14uA              4.38uA              2.23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10        3.14uA              4.38uA              2.22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2.90        3.13uA              4.37uA              2.21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2.70        3.12uA              4.36uA              2.19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20        3.02uA              4.27uA              2.0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30        3.02uA              4.26uA              2.03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40        3.02uA              4.26uA              2.03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0.50        3.02uA              4.26uA              2.02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60       -2.30uA             -1.90uA             -6.24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70       -3.60uA             -2.83uA            -47.26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80      -45.61uA             -3.56uA           -163.80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3.90     -863.10uA             -8.58uA           -329.50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Courier New"/>
              </a:rPr>
              <a:t>   </a:t>
            </a:r>
            <a:r>
              <a:rPr b="0" lang="en-US" sz="1000" spc="-1" strike="noStrike">
                <a:solidFill>
                  <a:srgbClr val="3333cc"/>
                </a:solidFill>
                <a:latin typeface="Courier New"/>
              </a:rPr>
              <a:t>4.00      -11.38mA           -284.60uA           -516.60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Joy of Web Model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Dagostin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CX Modeling Manag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tor Graphics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88" name=""/>
          <p:cNvSpPr/>
          <p:nvPr/>
        </p:nvSpPr>
        <p:spPr>
          <a:xfrm>
            <a:off x="752400" y="2514600"/>
            <a:ext cx="7755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ariable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dV/dt_r          0.00/0.00           0.00/0.00           4.74n/</a:t>
            </a:r>
            <a:r>
              <a:rPr b="1" lang="en-US" sz="1400" spc="-1" strike="noStrike">
                <a:solidFill>
                  <a:srgbClr val="ff0066"/>
                </a:solidFill>
                <a:latin typeface="Courier New"/>
              </a:rPr>
              <a:t>-235.10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dV/dt_f          0.00/0.00           0.00/0.00           0.00/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90" name=""/>
          <p:cNvSpPr/>
          <p:nvPr/>
        </p:nvSpPr>
        <p:spPr>
          <a:xfrm>
            <a:off x="1469880" y="1763640"/>
            <a:ext cx="603288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ising Wave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fixture = 5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_fixture = 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time           V(typ)              V(min)              V(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S          0.00V               0.00V             520.00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00pS      -974.50nV             -1.16uV             -1.24u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00.00pS       415.05nV             78.40nV              2.24u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00pS         0.00V               0.00V             420.93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00.00pS         0.00V               0.00V             402.80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nS         0.00V               0.00V             229.33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40nS         0.00V               0.00V             520.30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60nS         0.00V               0.00V             521.33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80nS         0.00V               0.00V             516.65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0nS         0.00V               0.00V             527.90n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in</a:t>
            </a:r>
            <a:endParaRPr b="0" lang="en-US" sz="4400" spc="-1" strike="noStrike">
              <a:solidFill>
                <a:srgbClr val="000000"/>
              </a:solidFill>
              <a:latin typeface="Times New Roman"/>
            </a:endParaRPr>
          </a:p>
        </p:txBody>
      </p:sp>
      <p:sp>
        <p:nvSpPr>
          <p:cNvPr id="92" name=""/>
          <p:cNvSpPr/>
          <p:nvPr/>
        </p:nvSpPr>
        <p:spPr>
          <a:xfrm>
            <a:off x="1447920" y="1752480"/>
            <a:ext cx="62481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alling Wave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fixture = 5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_fixture = 3.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time           V(typ)              V(min)              V(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0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2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4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6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8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0n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Model] mii_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94" name=""/>
          <p:cNvSpPr/>
          <p:nvPr/>
        </p:nvSpPr>
        <p:spPr>
          <a:xfrm>
            <a:off x="990720" y="2068560"/>
            <a:ext cx="74674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BIS ver]       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 name]      789_out_e.i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 Rev]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e]           Friday, June 23,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urce]         Semiconducto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tes]</a:t>
            </a:r>
            <a:r>
              <a:rPr b="1" lang="en-US" sz="1200" spc="-1" strike="noStrike">
                <a:solidFill>
                  <a:srgbClr val="000000"/>
                </a:solidFill>
                <a:latin typeface="Courier New"/>
              </a:rPr>
              <a:t>          </a:t>
            </a:r>
            <a:r>
              <a:rPr b="1" lang="en-US" sz="1200" spc="-1" strike="noStrike">
                <a:solidFill>
                  <a:srgbClr val="3333cc"/>
                </a:solidFill>
                <a:latin typeface="Courier New"/>
              </a:rPr>
              <a:t>Unless otherwise specified, the data above and below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typical POWER supply rails is presented only as a rou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approximation based on lab measurements</a:t>
            </a:r>
            <a:r>
              <a:rPr b="1" lang="en-US" sz="1200" spc="-1" strike="noStrike">
                <a:solidFill>
                  <a:srgbClr val="000000"/>
                </a:solidFill>
                <a:latin typeface="Courier New"/>
              </a:rPr>
              <a:t>. </a:t>
            </a:r>
            <a:r>
              <a:rPr b="0" lang="en-US" sz="1200" spc="-1" strike="noStrike">
                <a:solidFill>
                  <a:srgbClr val="000000"/>
                </a:solidFill>
                <a:latin typeface="Courier New"/>
              </a:rPr>
              <a:t>The pin parasit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re from simulated dat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claimer]     </a:t>
            </a:r>
            <a:r>
              <a:rPr b="1" lang="en-US" sz="1200" spc="-1" strike="noStrike">
                <a:solidFill>
                  <a:srgbClr val="3333cc"/>
                </a:solidFill>
                <a:latin typeface="Courier New"/>
              </a:rPr>
              <a:t>This file only describes the I/V characteristics</a:t>
            </a:r>
            <a:r>
              <a:rPr b="0" lang="en-US" sz="1200" spc="-1" strike="noStrike">
                <a:solidFill>
                  <a:srgbClr val="000000"/>
                </a:solidFill>
                <a:latin typeface="Courier New"/>
              </a:rPr>
              <a:t> of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ndard digital type pads for the 789 product. </a:t>
            </a:r>
            <a:r>
              <a:rPr b="1" lang="en-US" sz="1200" spc="-1" strike="noStrike">
                <a:solidFill>
                  <a:srgbClr val="3333cc"/>
                </a:solidFill>
                <a:latin typeface="Courier New"/>
              </a:rPr>
              <a:t>Note,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MAX corner represents the worst case operation (low supp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voltage, high temperature, slow spice models).</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96" name=""/>
          <p:cNvSpPr/>
          <p:nvPr/>
        </p:nvSpPr>
        <p:spPr>
          <a:xfrm>
            <a:off x="1320480" y="2144880"/>
            <a:ext cx="6947280" cy="246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ponent] mii_IBIS_mode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nufacturer]   Semiconducto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ck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pkg            1.74                1.47                2.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_pkg            8.16nH              6.59nH              9.64n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_pkg            1.02pF              650.00fF            1.39p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in]  signal_name          model_name           R_pin     L_pin     C_p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WR    VCC                  P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ND1   GND                  G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PAD    out2                 mii_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D1in   Din1                 Inpu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98" name=""/>
          <p:cNvSpPr/>
          <p:nvPr/>
        </p:nvSpPr>
        <p:spPr>
          <a:xfrm>
            <a:off x="1596240" y="1905120"/>
            <a:ext cx="6000840" cy="3926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Checking 789_out_e.ibs for IBIS 2.1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TYP AC Rising Endpoints ( </a:t>
            </a:r>
            <a:r>
              <a:rPr b="1" lang="en-US" sz="1200" spc="-1" strike="noStrike">
                <a:solidFill>
                  <a:srgbClr val="3333cc"/>
                </a:solidFill>
                <a:latin typeface="System"/>
              </a:rPr>
              <a:t>0.00V,  1.18V</a:t>
            </a:r>
            <a:r>
              <a:rPr b="0" lang="en-US" sz="1200" spc="-1" strike="noStrike">
                <a:solidFill>
                  <a:srgbClr val="000000"/>
                </a:solidFill>
                <a:latin typeface="System"/>
              </a:rPr>
              <a:t>)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24V (2%) of </a:t>
            </a:r>
            <a:r>
              <a:rPr b="1" lang="en-US" sz="1200" spc="-1" strike="noStrike">
                <a:solidFill>
                  <a:srgbClr val="3333cc"/>
                </a:solidFill>
                <a:latin typeface="System"/>
              </a:rPr>
              <a:t>(-0.00V,  0.58V</a:t>
            </a:r>
            <a:r>
              <a:rPr b="0" lang="en-US" sz="1200" spc="-1" strike="noStrike">
                <a:solidFill>
                  <a:srgbClr val="000000"/>
                </a:solidFill>
                <a:latin typeface="System"/>
              </a:rPr>
              <a:t>) on VI curves for 50 Ohms to 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TYP AC Falling Endpoints ( </a:t>
            </a:r>
            <a:r>
              <a:rPr b="1" lang="en-US" sz="1200" spc="-1" strike="noStrike">
                <a:solidFill>
                  <a:srgbClr val="3333cc"/>
                </a:solidFill>
                <a:latin typeface="System"/>
              </a:rPr>
              <a:t>2.13V,  3.30V</a:t>
            </a:r>
            <a:r>
              <a:rPr b="0" lang="en-US" sz="1200" spc="-1" strike="noStrike">
                <a:solidFill>
                  <a:srgbClr val="000000"/>
                </a:solidFill>
                <a:latin typeface="System"/>
              </a:rPr>
              <a:t>)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23V (2%) of ( </a:t>
            </a:r>
            <a:r>
              <a:rPr b="1" lang="en-US" sz="1200" spc="-1" strike="noStrike">
                <a:solidFill>
                  <a:srgbClr val="3333cc"/>
                </a:solidFill>
                <a:latin typeface="System"/>
              </a:rPr>
              <a:t>1.14V,  2.42V</a:t>
            </a:r>
            <a:r>
              <a:rPr b="0" lang="en-US" sz="1200" spc="-1" strike="noStrike">
                <a:solidFill>
                  <a:srgbClr val="000000"/>
                </a:solidFill>
                <a:latin typeface="System"/>
              </a:rPr>
              <a:t>) on VI curves for 50 Ohms to 3.3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MIN AC Rising Endpoints ( 0.00V,  1.54V)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31V (2%) of (-0.00V,  0.64V) on VI curves for 50 Ohms to 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MIN AC Falling Endpoints ( 1.52V,  3.30V)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36V (2%) of ( 0.63V,  2.31V) on VI curves for 50 Ohms to 3.3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MAX AC Rising Endpoints ( 0.00V,  0.82V)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16V (2%) of (-0.00V,  0.53V) on VI curves for 50 Ohms to 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 - Model 'mii_OUT': MAX AC Falling Endpoints ( 2.67V,  3.30V) not with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          </a:t>
            </a:r>
            <a:r>
              <a:rPr b="0" lang="en-US" sz="1200" spc="-1" strike="noStrike">
                <a:solidFill>
                  <a:srgbClr val="000000"/>
                </a:solidFill>
                <a:latin typeface="System"/>
              </a:rPr>
              <a:t>0.013V (2%) of ( 2.04V,  2.67V) on VI curves for 50 Ohms to 3.3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Errors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Warnings: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stem"/>
              </a:rPr>
              <a:t>File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00" name=""/>
          <p:cNvSpPr/>
          <p:nvPr/>
        </p:nvSpPr>
        <p:spPr>
          <a:xfrm>
            <a:off x="1449360" y="1371600"/>
            <a:ext cx="5667120" cy="481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          mii_O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l_type       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larity         Non-Inver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nl = 800.00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inh =   2.00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_comp           472.00fF            615.00fF            352.00f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Temperature Range]       25.00               -40.00              15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Voltage Range]           3.30V               3.46V               3.13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Pulldown</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a:t>
            </a:r>
            <a:r>
              <a:rPr b="1" lang="en-US" sz="1000" spc="-1" strike="noStrike">
                <a:solidFill>
                  <a:srgbClr val="3333cc"/>
                </a:solidFill>
                <a:latin typeface="Courier New"/>
              </a:rPr>
              <a:t>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30       -5.48A              -5.33A              -5.79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10       -5.03A              -4.88A              -5.34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90       -4.59A              -4.43A              -4.90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70       -4.14A              -3.99A              -4.46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20        6.32mA             10.76mA              3.05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30        9.09mA             15.39mA              4.42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0       11.60mA             19.48mA              5.68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0       13.82mA             23.02mA              6.82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0       15.77mA             26.01mA              7.85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0       17.44mA             28.45mA              8.76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33cc"/>
                </a:solidFill>
                <a:latin typeface="Courier New"/>
              </a:rPr>
              <a:t>0.80       18.83mA             30.37mA              9.55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urier New"/>
              </a:rPr>
              <a:t>   </a:t>
            </a:r>
            <a:r>
              <a:rPr b="1" lang="en-US" sz="1000" spc="-1" strike="noStrike">
                <a:solidFill>
                  <a:srgbClr val="3333cc"/>
                </a:solidFill>
                <a:latin typeface="Courier New"/>
              </a:rPr>
              <a:t>0.90       19.96mA             31.78mA             10.24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       20.82mA             32.81mA             10.80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10       21.46mA             33.66mA             11.26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20       21.97mA             34.34mA             11.60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02" name=""/>
          <p:cNvSpPr/>
          <p:nvPr/>
        </p:nvSpPr>
        <p:spPr>
          <a:xfrm>
            <a:off x="1600200" y="2057400"/>
            <a:ext cx="61722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ll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oltage     </a:t>
            </a:r>
            <a:r>
              <a:rPr b="1" lang="en-US" sz="1200" spc="-1" strike="noStrike">
                <a:solidFill>
                  <a:srgbClr val="3333cc"/>
                </a:solidFill>
                <a:latin typeface="Courier New"/>
              </a:rPr>
              <a:t>I(typ)              I(min)              I(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30        3.17uA              4.49uA              2.35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10        3.16uA              4.45uA              2.31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90        3.14uA              4.42uA              2.28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40      -14.68mA            -21.58mA             -8.96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50      -16.16mA            -23.53mA            -10.01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60      -17.56mA            -25.38mA            -11.01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3333cc"/>
                </a:solidFill>
                <a:latin typeface="Courier New"/>
              </a:rPr>
              <a:t>1.70      -18.87mA            -27.15mA            -11.96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1.80      -20.10mA            -28.82mA            -12.84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0      -21.25mA            -30.39mA            -13.67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      -22.31mA            -31.86mA            -14.44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04" name=""/>
          <p:cNvSpPr/>
          <p:nvPr/>
        </p:nvSpPr>
        <p:spPr>
          <a:xfrm>
            <a:off x="1849680" y="2066760"/>
            <a:ext cx="5758560" cy="410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3333cc"/>
                </a:solidFill>
                <a:latin typeface="Courier New"/>
              </a:rPr>
              <a:t>GND_clamp</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oltage     </a:t>
            </a:r>
            <a:r>
              <a:rPr b="1" lang="en-US" sz="1200" spc="-1" strike="noStrike">
                <a:solidFill>
                  <a:srgbClr val="3333cc"/>
                </a:solidFill>
                <a:latin typeface="Courier New"/>
              </a:rPr>
              <a:t>I(typ)              I(min)              I(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30       -5.48A              -5.33A              -5.79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20       -5.25A              -5.10A              -5.57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10       -5.03A              -4.88A              -5.34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00       -4.81A              -4.66A              -5.12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90       -4.59A              -4.43A              -4.9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80       -4.37A              -4.21A              -4.68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70       -4.14A              -3.99A              -4.46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20        6.32mA             10.76mA              3.05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30        9.09mA             15.39mA              4.42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40       11.60mA             19.48mA              5.68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50       13.82mA             23.02mA              6.82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60       15.77mA             26.01mA              7.85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70       17.44mA             28.45mA              8.76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3333cc"/>
                </a:solidFill>
                <a:latin typeface="Courier New"/>
              </a:rPr>
              <a:t>0.80       18.83mA             30.37mA              9.55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a:t>
            </a:r>
            <a:r>
              <a:rPr b="1" lang="en-US" sz="1200" spc="-1" strike="noStrike">
                <a:solidFill>
                  <a:srgbClr val="3333cc"/>
                </a:solidFill>
                <a:latin typeface="Courier New"/>
              </a:rPr>
              <a:t>0.90       19.96mA             31.78mA             10.24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       20.82mA             32.81mA             10.80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0       21.46mA             33.66mA             11.26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0       21.97mA             34.34mA             11.60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06" name=""/>
          <p:cNvSpPr/>
          <p:nvPr/>
        </p:nvSpPr>
        <p:spPr>
          <a:xfrm>
            <a:off x="1981080" y="1447920"/>
            <a:ext cx="533412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WER_cl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30        3.17uA              4.49uA              2.35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20        3.16uA              4.46uA              2.33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10        3.16uA              4.45uA              2.31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00        3.15uA              4.43uA              2.29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90        3.14uA              4.42uA              2.28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80        3.14uA              4.41uA              2.2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70        3.13uA              4.40uA              2.25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60        3.13uA              4.39uA              2.24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50        3.12uA              4.38uA              2.23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40        3.12uA              4.37uA              2.22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30        3.11uA              4.37uA              2.21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20        3.11uA              4.36uA              2.20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30        3.08uA              4.32uA              2.12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20        3.07uA              4.32uA              2.12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10        3.07uA              4.31uA              2.11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        3.07uA              4.31uA              2.11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90        3.06uA              4.31uA              2.10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80        3.06uA              4.30uA              2.09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0        3.06uA              4.30uA              2.09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0        3.05uA              4.30uA              2.08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0        3.05uA              4.29uA              2.0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0        3.05uA              4.29uA              2.07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30        3.04uA              4.28uA              2.06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20        3.04uA              4.28uA              2.06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10        3.04uA              4.28uA              2.05u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0        3.03uA              4.27uA              2.04u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s from the Web</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IBIS models are all from the IC manufactur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as asked to QC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ere all for a single project for the same custo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08" name=""/>
          <p:cNvSpPr/>
          <p:nvPr/>
        </p:nvSpPr>
        <p:spPr>
          <a:xfrm>
            <a:off x="1143000" y="1371600"/>
            <a:ext cx="70866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V/dt_r          705.00m/331.03p     923.40m/209.06p     492.66m/571.48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V/dt_f          700.80m/</a:t>
            </a:r>
            <a:r>
              <a:rPr b="1" lang="en-US" sz="1200" spc="-1" strike="noStrike">
                <a:solidFill>
                  <a:srgbClr val="3333cc"/>
                </a:solidFill>
                <a:latin typeface="Courier New"/>
              </a:rPr>
              <a:t>700.00p</a:t>
            </a:r>
            <a:r>
              <a:rPr b="0" lang="en-US" sz="1200" spc="-1" strike="noStrike">
                <a:solidFill>
                  <a:srgbClr val="000000"/>
                </a:solidFill>
                <a:latin typeface="Courier New"/>
              </a:rPr>
              <a:t>     1.08/</a:t>
            </a:r>
            <a:r>
              <a:rPr b="1" lang="en-US" sz="1200" spc="-1" strike="noStrike">
                <a:solidFill>
                  <a:srgbClr val="3333cc"/>
                </a:solidFill>
                <a:latin typeface="Courier New"/>
              </a:rPr>
              <a:t>400.00p</a:t>
            </a:r>
            <a:r>
              <a:rPr b="0" lang="en-US" sz="1200" spc="-1" strike="noStrike">
                <a:solidFill>
                  <a:srgbClr val="000000"/>
                </a:solidFill>
                <a:latin typeface="Courier New"/>
              </a:rPr>
              <a:t>        379.20m/</a:t>
            </a:r>
            <a:r>
              <a:rPr b="1" lang="en-US" sz="1200" spc="-1" strike="noStrike">
                <a:solidFill>
                  <a:srgbClr val="3333cc"/>
                </a:solidFill>
                <a:latin typeface="Courier New"/>
              </a:rPr>
              <a:t>800.00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ising Wave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fixture = 5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_fixture = 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time           V(typ)              V(min)              V(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S          0.00V               0.00V               0.0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00pS       278.54uV           -119.46uV             -6.89u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00.00pS        -9.53mV            -38.20mV            690.25u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00pS       -31.53mV            307.20mV            -13.37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00.00pS        21.79mV              1.17V             -32.68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nS       448.43mV              1.47V             -18.43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0nS       885.60mV              1.54V              -3.51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40nS         1.05V               1.54V              73.24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60nS         1.14V               1.54V             264.4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80nS         1.16V               1.54V             457.35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nS         1.17V               1.54V             612.75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20nS         1.17V               1.54V             712.0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40nS         1.17V               1.54V             765.2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60nS         1.18V               1.54V             792.3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80nS         1.18V               1.54V             807.4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00nS         1.18V               1.54V             813.40m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0nS         1.18V               1.54V             821.10m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10" name=""/>
          <p:cNvSpPr/>
          <p:nvPr/>
        </p:nvSpPr>
        <p:spPr>
          <a:xfrm>
            <a:off x="1447920" y="1752480"/>
            <a:ext cx="617220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alling Wavef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_fixture = 5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_fixture = 3.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time           V(typ)              V(min)              V(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00.00pS         3.30V               3.3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00pS         3.30V               2.93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00.00pS         3.20V               2.35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nS         2.82V               1.90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0nS         2.57V               1.68V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40nS         2.48V               1.61V               3.19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60nS         2.34V               1.57V               3.05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80nS         2.23V               1.54V               2.94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nS         2.18V               1.53V               2.85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20nS         2.16V               1.53V               2.78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40nS         2.15V               1.52V               2.74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60nS         2.14V               1.52V               2.72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80nS         2.14V               1.52V               2.7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00nS         2.13V               1.52V               2.69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00nS         2.13V               1.52V               2.67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12" name=""/>
          <p:cNvSpPr/>
          <p:nvPr/>
        </p:nvSpPr>
        <p:spPr>
          <a:xfrm>
            <a:off x="1167480" y="1533600"/>
            <a:ext cx="6764400" cy="483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odel]          </a:t>
            </a:r>
            <a:r>
              <a:rPr b="1" lang="en-US" sz="1200" spc="-1" strike="noStrike">
                <a:solidFill>
                  <a:srgbClr val="3333cc"/>
                </a:solidFill>
                <a:latin typeface="Courier New"/>
              </a:rPr>
              <a:t>Inpu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odel_type       </a:t>
            </a:r>
            <a:r>
              <a:rPr b="1" lang="en-US" sz="1200" spc="-1" strike="noStrike">
                <a:solidFill>
                  <a:srgbClr val="3333cc"/>
                </a:solidFill>
                <a:latin typeface="Courier New"/>
              </a:rPr>
              <a:t>Out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olarity         Non-Inver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Vinl =   0.0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Vinh =   3.30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_comp           472.00fF            615.00fF            352.00f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Temperature Range]       25.00               -40.00              15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Voltage Range]           3.30V               3.46V               3.13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3333cc"/>
                </a:solidFill>
                <a:latin typeface="Courier New"/>
              </a:rPr>
              <a:t>Pulldown</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oltage     </a:t>
            </a:r>
            <a:r>
              <a:rPr b="1" lang="en-US" sz="1200" spc="-1" strike="noStrike">
                <a:solidFill>
                  <a:srgbClr val="3333cc"/>
                </a:solidFill>
                <a:latin typeface="Courier New"/>
              </a:rPr>
              <a:t>I(typ)              I(min)              I(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3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1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9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2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3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4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5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4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6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8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20       -0.00A              -0.00A              -0.00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_out</a:t>
            </a:r>
            <a:endParaRPr b="0" lang="en-US" sz="4400" spc="-1" strike="noStrike">
              <a:solidFill>
                <a:srgbClr val="000000"/>
              </a:solidFill>
              <a:latin typeface="Times New Roman"/>
            </a:endParaRPr>
          </a:p>
        </p:txBody>
      </p:sp>
      <p:sp>
        <p:nvSpPr>
          <p:cNvPr id="114" name=""/>
          <p:cNvSpPr/>
          <p:nvPr/>
        </p:nvSpPr>
        <p:spPr>
          <a:xfrm>
            <a:off x="1371600" y="1600200"/>
            <a:ext cx="6553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3333cc"/>
                </a:solidFill>
                <a:latin typeface="Courier New"/>
              </a:rPr>
              <a:t>Pullup</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voltage     I(typ)              I(min)              I(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3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1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9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2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3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4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5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6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8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0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20       -0.00A              -0.00A              -0.00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R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 variable       typ                 min                 ma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dV/dt_r          0.00/0.00           0.00/0.00           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urier New"/>
              </a:rPr>
              <a:t>dV/dt_f          0.00/0.00           0.00/0.00           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Model] </a:t>
            </a:r>
            <a:r>
              <a:rPr b="1" lang="en-US" sz="1200" spc="-1" strike="noStrike">
                <a:solidFill>
                  <a:srgbClr val="3333cc"/>
                </a:solidFill>
                <a:latin typeface="Courier New"/>
              </a:rPr>
              <a:t>Inpu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89</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d Vend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do a better job of making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do a much better job of QC’ing models before they are rele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SKO2001-Clos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ed file with IBISCK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Insp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ock Driver</a:t>
            </a:r>
            <a:endParaRPr b="0" lang="en-US" sz="5400" spc="-1" strike="noStrike">
              <a:solidFill>
                <a:srgbClr val="000000"/>
              </a:solidFill>
              <a:latin typeface="Times New Roman"/>
            </a:endParaRPr>
          </a:p>
        </p:txBody>
      </p:sp>
      <p:sp>
        <p:nvSpPr>
          <p:cNvPr id="58" name=""/>
          <p:cNvSpPr/>
          <p:nvPr/>
        </p:nvSpPr>
        <p:spPr>
          <a:xfrm>
            <a:off x="370080" y="2438280"/>
            <a:ext cx="871524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IBIS file clock.ibs created by s2ibis2 version 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North Carolina State University Electronics Research Laboratory  199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BIS ver]       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name]      clock.i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Rev]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e]           Monday, January 24,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Company1, In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es]          1. Temperatures: typ=25C, min=100C, max=0C 2. Comp1 0.5 Doub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oly Double Metal process 3. RRmp rates based on 500 ohm lo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ock Driver</a:t>
            </a:r>
            <a:endParaRPr b="0" lang="en-US" sz="5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hecking clock.ibs for IBIS 2.1 Compatibility...</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RNING - Model 'out': TYP AC Falling Endpoints ( 0.04V,  3.30V) not within 0.065V (2%) of ( </a:t>
            </a:r>
            <a:r>
              <a:rPr b="1" i="1" lang="en-US" sz="2000" spc="-1" strike="noStrike" u="sng">
                <a:solidFill>
                  <a:srgbClr val="3333cc"/>
                </a:solidFill>
                <a:uFillTx/>
                <a:latin typeface="Courier New"/>
              </a:rPr>
              <a:t>3.30V,  3.30V</a:t>
            </a:r>
            <a:r>
              <a:rPr b="1" lang="en-US" sz="1600" spc="-1" strike="noStrike">
                <a:solidFill>
                  <a:srgbClr val="000000"/>
                </a:solidFill>
                <a:latin typeface="Courier New"/>
              </a:rPr>
              <a:t>) on VI curves for 500 Ohms to 3.3V</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RNING - Model 'out': MIN AC Falling Endpoints ( 0.07V,  3.00V) not within 0.059V (2%) of ( </a:t>
            </a:r>
            <a:r>
              <a:rPr b="1" i="1" lang="en-US" sz="2000" spc="-1" strike="noStrike" u="sng">
                <a:solidFill>
                  <a:srgbClr val="3333cc"/>
                </a:solidFill>
                <a:uFillTx/>
                <a:latin typeface="Courier New"/>
              </a:rPr>
              <a:t>3.00V,  3.00V</a:t>
            </a:r>
            <a:r>
              <a:rPr b="1" lang="en-US" sz="1600" spc="-1" strike="noStrike">
                <a:solidFill>
                  <a:srgbClr val="000000"/>
                </a:solidFill>
                <a:latin typeface="Courier New"/>
              </a:rPr>
              <a:t>) on VI curves for 500 Ohms to 3V</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RNING - Model 'out': MAX AC Falling Endpoints ( 0.03V,  3.60V) not within0.071V (2%) of ( </a:t>
            </a:r>
            <a:r>
              <a:rPr b="1" i="1" lang="en-US" sz="2000" spc="-1" strike="noStrike" u="sng">
                <a:solidFill>
                  <a:srgbClr val="3333cc"/>
                </a:solidFill>
                <a:uFillTx/>
                <a:latin typeface="Courier New"/>
              </a:rPr>
              <a:t>3.30V,  3.60V</a:t>
            </a:r>
            <a:r>
              <a:rPr b="1" lang="en-US" sz="1600" spc="-1" strike="noStrike">
                <a:solidFill>
                  <a:srgbClr val="000000"/>
                </a:solidFill>
                <a:latin typeface="Courier New"/>
              </a:rPr>
              <a:t>) on VI curves for 500 Ohms to 3.6V</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3333cc"/>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Courier New"/>
              </a:rPr>
              <a:t>File Passed</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ock Driver</a:t>
            </a:r>
            <a:endParaRPr b="0" lang="en-US" sz="5400" spc="-1" strike="noStrike">
              <a:solidFill>
                <a:srgbClr val="000000"/>
              </a:solidFill>
              <a:latin typeface="Times New Roman"/>
            </a:endParaRPr>
          </a:p>
        </p:txBody>
      </p:sp>
      <p:sp>
        <p:nvSpPr>
          <p:cNvPr id="62" name=""/>
          <p:cNvSpPr/>
          <p:nvPr/>
        </p:nvSpPr>
        <p:spPr>
          <a:xfrm>
            <a:off x="752400" y="1600200"/>
            <a:ext cx="7755120" cy="456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_type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olarity        Inver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able          Active-Hig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comp           </a:t>
            </a:r>
            <a:r>
              <a:rPr b="1" lang="en-US" sz="1400" spc="-1" strike="noStrike">
                <a:solidFill>
                  <a:srgbClr val="3333cc"/>
                </a:solidFill>
                <a:latin typeface="Courier New"/>
              </a:rPr>
              <a:t>7.00pF              7.00pF              7.00p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mperature Range]       25.00               100.00              0.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ltage Range]           3.30V               3.00V               3.60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3.30       0.000A              0.000A              0.000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3.20        0.000A              0.000A              0.000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3.30        0.000A              0.000A              0.000A</a:t>
            </a: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40        0.13A              79.70mA              0.18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50        0.13A               0.11A               0.18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60        0.13A               0.21A               0.18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50        2.86A               3.64A               2.25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70        3.23A               4.02A               2.63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90        3.61A               4.40A               3.00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6.10        3.99A               4.77A               3.38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6.60        4.94A               5.72A               4.33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ck Driver</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d manufacturer tw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d corrected model after second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erminator 12345</a:t>
            </a:r>
            <a:endParaRPr b="0" lang="en-US" sz="5400" spc="-1" strike="noStrike">
              <a:solidFill>
                <a:srgbClr val="000000"/>
              </a:solidFill>
              <a:latin typeface="Times New Roman"/>
            </a:endParaRPr>
          </a:p>
        </p:txBody>
      </p:sp>
      <p:sp>
        <p:nvSpPr>
          <p:cNvPr id="66" name=""/>
          <p:cNvSpPr/>
          <p:nvPr/>
        </p:nvSpPr>
        <p:spPr>
          <a:xfrm>
            <a:off x="545040" y="2157480"/>
            <a:ext cx="786168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BIS ver]       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le name]      12345.i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le Rev]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e]           20 May 199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urce] Semiconductor2 -- 12345 HSPICE mo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otes]          Created by S.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onent 1234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onent]      1234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nufacturer] Semiconducto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variable       typ                 min                 m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_pkg            20.00m              16.00m              24.00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_pkg            1.50nH              1.10nH              1.90n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_pkg            0.15pF              0.10pF              0.20p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22:33:37Z</dcterms:created>
  <dc:creator>Tom Dagostino</dc:creator>
  <dc:description/>
  <dc:language>en-US</dc:language>
  <cp:lastModifiedBy>bobr</cp:lastModifiedBy>
  <dcterms:modified xsi:type="dcterms:W3CDTF">2001-01-20T00:48:42Z</dcterms:modified>
  <cp:revision>17</cp:revision>
  <dc:subject/>
  <dc:title>QS5818</dc:title>
</cp:coreProperties>
</file>