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5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7D9-345F-4819-AA23-BAD109557E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Img"/>
          </p:nvPr>
        </p:nvSpPr>
        <p:spPr>
          <a:xfrm>
            <a:off x="1217160" y="698400"/>
            <a:ext cx="4573800" cy="343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body"/>
          </p:nvPr>
        </p:nvSpPr>
        <p:spPr>
          <a:xfrm>
            <a:off x="933120" y="4376520"/>
            <a:ext cx="514188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17520" y="698400"/>
            <a:ext cx="4573800" cy="3430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3120" y="4376520"/>
            <a:ext cx="514188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- Common Access Method - SCSI software layering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 - Serial Storage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92004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4480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528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92004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4480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E88-CCA2-457A-9463-FEA9F162DA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797-6D25-4CFB-83BE-6D5614E93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1CC-F2D6-40FF-BC2A-D39DA53BF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70C-593A-4535-BF01-F5FB11C511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812-B534-4F96-AFD7-4887F49926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40000" y="398160"/>
            <a:ext cx="770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3A4-3E9E-43E7-82C6-829A107586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E2A-6D12-4263-A579-61149F235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234-BAB0-44A1-B585-1C19E44218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056-0539-410B-AC28-B194125E5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420-2A80-4B2D-9BBF-B0ED3A6D69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A83-ED7E-41DC-98C0-EAEF7DC64A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2004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480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9528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2004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480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B6F-F6C5-4914-8BF4-13FD3DDBE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440000" y="398160"/>
            <a:ext cx="770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37240"/>
            <a:ext cx="9142560" cy="3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dd1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82960">
              <a:lnSpc>
                <a:spcPct val="87000"/>
              </a:lnSpc>
              <a:spcBef>
                <a:spcPts val="119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7000"/>
              </a:lnSpc>
              <a:spcBef>
                <a:spcPts val="1199"/>
              </a:spcBef>
              <a:buClr>
                <a:srgbClr val="003399"/>
              </a:buClr>
              <a:buSzPct val="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357560" indent="-22608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697400" indent="-22608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697400" indent="-226080">
              <a:lnSpc>
                <a:spcPct val="87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697400" indent="-226080">
              <a:lnSpc>
                <a:spcPct val="87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5562720" y="0"/>
            <a:ext cx="3579840" cy="428760"/>
          </a:xfrm>
          <a:prstGeom prst="rect">
            <a:avLst/>
          </a:prstGeom>
          <a:solidFill>
            <a:srgbClr val="0e2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36760" y="1527120"/>
            <a:ext cx="7705800" cy="0"/>
          </a:xfrm>
          <a:prstGeom prst="line">
            <a:avLst/>
          </a:prstGeom>
          <a:ln w="12600">
            <a:solidFill>
              <a:srgbClr val="cb9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5560920" cy="428760"/>
          </a:xfrm>
          <a:prstGeom prst="rect">
            <a:avLst/>
          </a:prstGeom>
          <a:gradFill rotWithShape="0">
            <a:gsLst>
              <a:gs pos="0">
                <a:srgbClr val="0e2b6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38120"/>
            <a:ext cx="3579840" cy="47520"/>
          </a:xfrm>
          <a:prstGeom prst="rect">
            <a:avLst/>
          </a:prstGeom>
          <a:solidFill>
            <a:srgbClr val="cb9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38120"/>
            <a:ext cx="5560920" cy="47520"/>
          </a:xfrm>
          <a:prstGeom prst="rect">
            <a:avLst/>
          </a:prstGeom>
          <a:gradFill rotWithShape="0">
            <a:gsLst>
              <a:gs pos="0">
                <a:srgbClr val="cb902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152040" y="57960"/>
            <a:ext cx="2595960" cy="24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Communications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2920" y="6116760"/>
            <a:ext cx="698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49400" y="643248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24520" y="3214800"/>
            <a:ext cx="13273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0720" y="627120"/>
            <a:ext cx="789120" cy="807840"/>
          </a:xfrm>
          <a:prstGeom prst="rect">
            <a:avLst/>
          </a:prstGeom>
          <a:solidFill>
            <a:srgbClr val="0e2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5760" y="665280"/>
            <a:ext cx="1326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88920" y="665280"/>
            <a:ext cx="59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2b64"/>
                </a:solidFill>
                <a:latin typeface="Times New Roman"/>
              </a:rPr>
              <a:t>L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686800" y="152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9BC-6D1A-4179-91D3-AF2DBF27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0"/>
            <a:ext cx="3579840" cy="76212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7560" y="3111480"/>
            <a:ext cx="8066160" cy="0"/>
          </a:xfrm>
          <a:prstGeom prst="line">
            <a:avLst/>
          </a:prstGeom>
          <a:ln w="12600">
            <a:solidFill>
              <a:srgbClr val="cb9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81360" cy="762120"/>
          </a:xfrm>
          <a:prstGeom prst="rect">
            <a:avLst/>
          </a:prstGeom>
          <a:gradFill rotWithShape="0">
            <a:gsLst>
              <a:gs pos="0">
                <a:srgbClr val="00267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81360" y="760320"/>
            <a:ext cx="3579840" cy="47880"/>
          </a:xfrm>
          <a:prstGeom prst="rect">
            <a:avLst/>
          </a:prstGeom>
          <a:solidFill>
            <a:srgbClr val="cb9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0320"/>
            <a:ext cx="2781360" cy="47880"/>
          </a:xfrm>
          <a:prstGeom prst="rect">
            <a:avLst/>
          </a:prstGeom>
          <a:gradFill rotWithShape="0">
            <a:gsLst>
              <a:gs pos="0">
                <a:srgbClr val="cb902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61200" y="0"/>
            <a:ext cx="27813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6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1200" y="760320"/>
            <a:ext cx="2781360" cy="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90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2920" y="6116760"/>
            <a:ext cx="698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9400" y="6445080"/>
            <a:ext cx="6858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7960" y="5908680"/>
            <a:ext cx="789120" cy="808200"/>
          </a:xfrm>
          <a:prstGeom prst="rect">
            <a:avLst/>
          </a:prstGeom>
          <a:solidFill>
            <a:srgbClr val="0e2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53000" y="5946840"/>
            <a:ext cx="1326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8320" y="5946840"/>
            <a:ext cx="5922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2b64"/>
                </a:solidFill>
                <a:latin typeface="Times New Roman"/>
              </a:rPr>
              <a:t>L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5475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0"/>
            <a:ext cx="9140760" cy="685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4920"/>
            <a:ext cx="5410080" cy="459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munications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87000"/>
              </a:lnSpc>
              <a:spcBef>
                <a:spcPts val="1049"/>
              </a:spcBef>
              <a:buClr>
                <a:srgbClr val="003399"/>
              </a:buClr>
              <a:buSzPct val="5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3270240"/>
            <a:ext cx="686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Compensation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Solu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80960" y="18284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un length encoded compensation at the transmit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6568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nsmitter overdrives unless two or more data bits are sequentially the same val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6568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data bit and subsequent bits of the same value have the drive level reduc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6568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rive strength, rise time and fallback are programma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680" indent="-26568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ining pattern upon initialization with bit rate negoti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Eye Dia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ith Transmitter Compens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50814" t="55381" r="21631" b="16670"/>
          <a:stretch/>
        </p:blipFill>
        <p:spPr>
          <a:xfrm>
            <a:off x="1447920" y="1828800"/>
            <a:ext cx="62481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Signal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 hoc group of T10 tasked to write an ANSI/ NCITS Technical Report specifying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5992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SI physical environment common simulation methodology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5992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ing of devices, cables, connectors, termina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5992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gnal performance information exchange standar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5992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thods for extracting electrical and signal attrib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5992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ptable modeling metho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5992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ptable simulation metho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Signal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oup has selected IBIS as the data exchange format f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miconductor device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rminator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nector models (when codifie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uld like to continue to use IBIS if fallback modeling can be accomoda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40 Years of SCS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90720" y="2222640"/>
          <a:ext cx="7196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22640"/>
                    <a:ext cx="7196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BIS and SCSI Fallback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80960" y="1828800"/>
            <a:ext cx="7763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BIS 3.2 can be used for present SCSI devic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ngle-ended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voltage differential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w voltage differential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SI 320 Mbyte/s drivers characteristic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fferential current mode transmit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gotiable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level parallel positive and negative current dr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programmable fallb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BIS and SCSI Fallback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allback can not be modeled in IBIS 3.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river schedule keyword is clo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eds bit position dependency not tim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ture may include overdrive past 1st b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eds accommodation for parallel current mode driv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posed IBIS Modific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d Fallback Schedule Keywor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ilar in construction to Driver s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cribes switching sequence fallback model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lay parameters are in terms of bit ti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ommodates min, typ, max cond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fferential op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current sources and sinks for each l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and IBIS Futu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xt generation of SCSI has a 640 Mbyte/s transfer rate scheduled for 200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ll use transmitter fallback compens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verdrive may extend past 1st b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ll most likely also implement adaptive receiver equaliz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sequent generations may include phase encod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do we fit this in with the future IBIS 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mall Computer Systems Interfa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olution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hugart Associates Sytems Interface (SASI) developed in the late ‘70’, single-ended, 8 bit bus, 1.5Mbytes/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voltage differential, early 90’s, 10MBytes/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6 bit bus, mid 90’s, 40 Mbytes/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w-voltage differential, late 90’s, 80 MBytes/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aptive signaling, early 00’s, 320 Mbytes/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Specification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57040" indent="-2570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ed by T10 which also develops standards for CAM, and S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10 is a Technical Committee of the National Committee for Information Technology Standards (NCIT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CITS is accredited by and operates under rules approved by the American National Standards Institute (ANSI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CITS was formerly known as the X3 Committ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elected Members of T10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514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apt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ansy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gilent Technolo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oca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irrus Log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isco Sys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q Compu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llas Semiconduct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ll Compu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stman Kod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ule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43200" y="190476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ule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aby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neral Dynami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igalab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ewlett Packa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tachi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B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omeg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SI Log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tsushi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905120"/>
            <a:ext cx="2209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h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yl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na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hili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a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n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a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905120"/>
            <a:ext cx="2209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eko E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emens Nixd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ndard Micro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orag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n Micro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yco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7000"/>
              </a:lnSpc>
              <a:spcBef>
                <a:spcPts val="751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S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Configur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s structure with 27 data, 8 ground, 4 termination power, 2 reserve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68 conductors, 90-120 ohms, single ended or different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5 meters point-to-poi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2.5 meters with 16 stub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owable loading of 30pF / stu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Structu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FIG4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Issu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 transfer rate of 320MBytes/se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tup and hold decreas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ter-symbol interfe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ble charge time decreas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actor in 16 capacitively loaded stub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ottom line - data error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Eye Dia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ithout Compens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2715" t="55381" r="58918" b="17742"/>
          <a:stretch/>
        </p:blipFill>
        <p:spPr>
          <a:xfrm>
            <a:off x="1371600" y="1828800"/>
            <a:ext cx="6629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Worst Case Eye Simul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ithout Compens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5959" t="25556" r="21631" b="12224"/>
          <a:stretch/>
        </p:blipFill>
        <p:spPr>
          <a:xfrm>
            <a:off x="1371600" y="1752480"/>
            <a:ext cx="586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8:15:23Z</dcterms:created>
  <dc:creator>KREEVES</dc:creator>
  <dc:description/>
  <cp:keywords>Embedded Systems Show ESS London ARM MIPS CPU subsystem LSI Logic TinyRISC MiniRISC ARM7 ARM9 SerialICE-2 EJTAG development tools</cp:keywords>
  <dc:language>en-US</dc:language>
  <cp:lastModifiedBy>Lawrence C. Barnes</cp:lastModifiedBy>
  <cp:lastPrinted>1999-08-13T13:34:46Z</cp:lastPrinted>
  <dcterms:modified xsi:type="dcterms:W3CDTF">2001-01-26T20:49:53Z</dcterms:modified>
  <cp:revision>11</cp:revision>
  <dc:subject>ESS - London</dc:subject>
  <dc:title>Storage Standard Products Division </dc:title>
</cp:coreProperties>
</file>