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4985-C1E7-499D-97BC-4BDD9C1E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B7F5-8FAD-4A91-BDEB-FBE2DC73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BE9-CC47-49E8-98AB-1585D9DF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3C0-01F1-4F4B-BFEF-73CE1649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FE43-82D0-4F84-8EF5-E982BD86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E4D5-6421-4FCD-BDC6-9C098939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F924-CFE2-4B19-949E-4012EFD7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3CFC-7D58-4375-A725-C179E6BB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1D61-39C2-42C5-BBE3-2CC5FCB4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8804-4874-4CF3-911C-25C532FE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48CA-34B0-408C-AB5A-3FE2FAFD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05C-4A9C-428D-9E90-D0E2D593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0A05-12C7-4C43-BAD4-820EFF82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7C91-F595-401D-A5CB-30887190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32E2-CE8E-4952-B4FB-1858D87B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3F75-E44B-4956-9CBC-B69EAA6B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4A44-5106-49B6-A1A9-E431B6E3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DD8-65F9-4CEB-B296-85C90EFA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B756-1FA4-48D6-B8E5-5FEEDA43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D8FC-5B92-4AA0-A8AE-D2FC6980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CB07-B77B-43E5-82B0-1B4FBA8C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550-8A31-46A8-8F00-5FCD0366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A157-7E1E-4756-B8BF-007A9D88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CFE-6C29-484F-B3F9-8F97F50D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E013-6898-4ABF-A937-51840BA6E1D4}" type="datetime">
              <a:rPr b="0" lang="en-US" sz="14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IBIS Open Forum Sum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7236-243C-4CCF-8780-A52BAD53DB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6AFB-BA6C-4211-A893-7A174894A92D}" type="datetime">
              <a:rPr b="0" lang="en-US" sz="1400" spc="-1" strike="noStrike">
                <a:solidFill>
                  <a:srgbClr val="5e574e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0A14-C69A-4CB0-82F7-8D0BFA6DB8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ussion - Future of IB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IBIS-X proposa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ephen Peters, Intel Corp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Proposal:  IBIS-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BIS Exten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ain features that support Board level simulators and electrical rule drive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” centric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declaration of drivers and receiver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 that enables timing and waveform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features that support circuit type simul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multi-ported models (explicit pwr/gnd pin connectio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al interconnects of passive and controlled sourc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path for external models (I.e. API interf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D86-8E63-49D5-BE3E-8E57928989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D351D-C9BC-4E9E-AB27-6074DC327F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BIS-X: General Out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 Header s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 S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pin to individual model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 S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model type (input, output, I/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s data book specs of I/O p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model ports, port -&gt; pin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ce to put guts of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D2BE-CF1F-461F-8B9D-F389E387B68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6D915-4942-41E8-B483-1055CB3198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le Header S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543600" y="1927080"/>
            <a:ext cx="6886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 HEA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file header info remains pretty much the same as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current IBIS sp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Template Version]   version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Comment Char]       | by de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File Name]          file name.i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Date]              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ource]             ASCII tex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Notes]              ASCII tex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Disclaimer]         ASCII tex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Copyright]          ASCII tex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FC5-81DB-4EBC-A895-A1522B9807A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128BA-C177-46A3-81DA-B2D1D7ECD2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 S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851120"/>
            <a:ext cx="85345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Begin Componen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Component]          component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Manufacture]        manufactures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Pin] pin_name  signal_name  model_name  port_name  R_pin  L_pin  C_p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ote: only a *model_name* is allowed, not a submodel name.  To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BIS compatible descriptions NC, PWR and GND are legal pin connections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 generic R_pin, L_pin and C_pin can be included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Diff Pi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verting_pin  non_inverting   skew_typ  skew_typ  skew_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Model Selecto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End Componen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2D33-1086-4E99-9200-B0FCC74AA38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84D14-03FD-433E-864F-EFE25BAD41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S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406080" y="1749600"/>
            <a:ext cx="694728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Begin Model]           model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el_type =            select from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_comp* =               I/O capacitanc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Temperature_Range]     typ min ma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Pullup Reference]      typ min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Pulldown Reference]    typ min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POWER Clamp Reference] typ min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GND Clamp Reference]   typ min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Receiver Reference]    type min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Driver Spec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timing test loads, Vmeas, etc.  Use if a model is an output or I/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Receiver Spec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input thresholds, overshoot/undershoot thresholds, etc. Use if a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 a receiver or I/O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Port list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ort_name port_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see accompanying li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Begin Model Descriptio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put the guts of the model he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End Model Descriptio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End Model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2729-B98F-4245-B801-EC78B166CE4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6658A-8AAC-4EA7-9E0B-D42FDE5F8F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Section - Port Lis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545040" y="1774800"/>
            <a:ext cx="78616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Port list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rt_name port_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port types ar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mary_io   | primary I/O p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llup_ref   | power connection p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lldown_ref | power connection p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wrclamp_ref | power connection p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ndclamp_ref | power connection p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cvr_ref     | power connection p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nd          | reference p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tl          | a digital (1/0) control p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alog       | an analog control p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im_in      | external stimulus (not a component p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cevier_out | output of a receiver (not a component p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D6C-55F4-4A19-A33D-9F9306C461B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AB944-4AEB-4A60-82B3-F2506C748F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Section - Description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370440" y="1725480"/>
            <a:ext cx="86083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a traditional behavioral description, the following keywords are suppor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Pullup]/[Pulldown]/[POWER Clamp]/[GND Clamp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Rising Waveform]/[Falling Wavefor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Ramp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TTgnd]/[TTpow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Driver Schedul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Add Submodel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SubModel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 OR 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 nodal description connects passive components, submodels and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ltage and current sources together.  Transistors are not supported, b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 general three terminal device is included.  Syntax would be some m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mon denominator of the existing SPICE varia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xxx  node1  node2    value= explicit value or equation  (resista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xxx  node1  node2    value= explicit value or equation  (inducta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xxx  node1  node2    value= explicit value or equation  (capacita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xxx  node1  node2    value= explicit value, equation or table  (V sour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xxx  node1  node2    value= explicit value, equation or table  (I sour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xxx  node1  node2 node3 value = equation or table(s) (three terminal devi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xxx  port1=&gt;node1, port2=&gt;node2, ...parameter1=&gt;value,... (submod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3A06-2A7B-4CA3-9539-E28A9D8A3E8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70C65-CAD4-46B8-91F9-AC1335DB6E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8:23:48Z</dcterms:created>
  <dc:creator>MD6 Engineering Computing</dc:creator>
  <dc:description/>
  <dc:language>en-US</dc:language>
  <cp:lastModifiedBy>MD6 Engineering Computing</cp:lastModifiedBy>
  <dcterms:modified xsi:type="dcterms:W3CDTF">2000-01-29T00:07:55Z</dcterms:modified>
  <cp:revision>11</cp:revision>
  <dc:subject/>
  <dc:title>No Slide Title</dc:title>
</cp:coreProperties>
</file>