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200600" y="689760"/>
            <a:ext cx="4538880" cy="340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94080" y="4312440"/>
            <a:ext cx="5552280" cy="40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33720" y="-1440"/>
            <a:ext cx="300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372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1440"/>
            <a:ext cx="300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7560" y="4343400"/>
            <a:ext cx="50770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483240"/>
            <a:ext cx="9142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cc"/>
                </a:solidFill>
                <a:latin typeface="Arial"/>
              </a:rPr>
              <a:t>PAGE </a:t>
            </a:r>
            <a:fld id="{28444036-281E-4D63-A446-EBE9C7F7AF1A}" type="slidenum">
              <a:rPr b="1" lang="en-US" sz="9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3204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27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971640" y="6297120"/>
            <a:ext cx="2146320" cy="4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-fes.fm.intel.com/pcdse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60200" y="6292800"/>
            <a:ext cx="732240" cy="446400"/>
            <a:chOff x="160200" y="6292800"/>
            <a:chExt cx="732240" cy="4464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160200" y="6292800"/>
              <a:ext cx="61272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741240" y="6507000"/>
              <a:ext cx="586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400" y="6487920"/>
              <a:ext cx="2570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1" lang="en-US" sz="1000" spc="-1" strike="noStrike" baseline="30000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27720" y="349200"/>
            <a:ext cx="939960" cy="760680"/>
            <a:chOff x="27720" y="349200"/>
            <a:chExt cx="939960" cy="760680"/>
          </a:xfrm>
        </p:grpSpPr>
        <p:sp>
          <p:nvSpPr>
            <p:cNvPr id="8" name=""/>
            <p:cNvSpPr/>
            <p:nvPr/>
          </p:nvSpPr>
          <p:spPr>
            <a:xfrm flipH="1" rot="8916600">
              <a:off x="38160" y="596520"/>
              <a:ext cx="919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1102"/>
                  </a:moveTo>
                  <a:arcTo wR="10800" hR="10800" stAng="96163" swAng="10671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1102"/>
                  </a:moveTo>
                  <a:arcTo wR="10800" hR="10800" stAng="96163" swAng="10671432"/>
                </a:path>
              </a:pathLst>
            </a:custGeom>
            <a:noFill/>
            <a:ln w="28440">
              <a:solidFill>
                <a:srgbClr val="4c3d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222480" y="523800"/>
              <a:ext cx="566640" cy="428400"/>
              <a:chOff x="222480" y="523800"/>
              <a:chExt cx="566640" cy="428400"/>
            </a:xfrm>
          </p:grpSpPr>
          <p:sp>
            <p:nvSpPr>
              <p:cNvPr id="10" name=""/>
              <p:cNvSpPr txBox="1"/>
              <p:nvPr/>
            </p:nvSpPr>
            <p:spPr>
              <a:xfrm>
                <a:off x="554040" y="523800"/>
                <a:ext cx="23508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</a:rPr>
                  <a:t>I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cbcbcb"/>
                      </a:gs>
                    </a:gsLst>
                    <a:lin ang="13500000"/>
                  </a:gradFill>
                  <a:latin typeface="Times New Roman"/>
                  <a:ea typeface="Times New Roman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222480" y="523800"/>
                <a:ext cx="28332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</a:rPr>
                  <a:t>S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cbcbcb"/>
                      </a:gs>
                    </a:gsLst>
                    <a:lin ang="13500000"/>
                  </a:gra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 flipH="1" rot="8916600">
              <a:off x="36720" y="596160"/>
              <a:ext cx="91836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0985"/>
                  </a:moveTo>
                  <a:arcTo wR="10800" hR="10800" stAng="10741070" swAng="11125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0985"/>
                  </a:moveTo>
                  <a:arcTo wR="10800" hR="10800" stAng="10741070" swAng="11125369"/>
                </a:path>
              </a:pathLst>
            </a:custGeom>
            <a:noFill/>
            <a:ln w="28440">
              <a:solidFill>
                <a:srgbClr val="4c3d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800280" y="349200"/>
              <a:ext cx="137880" cy="12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e</a:t>
              </a:r>
              <a:endPara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581ddb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4" name="pcg_treatment_color" descr=""/>
          <p:cNvPicPr/>
          <p:nvPr/>
        </p:nvPicPr>
        <p:blipFill>
          <a:blip r:embed="rId3"/>
          <a:stretch/>
        </p:blipFill>
        <p:spPr>
          <a:xfrm>
            <a:off x="7537320" y="6078600"/>
            <a:ext cx="1387440" cy="61416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99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85800" indent="-228600">
              <a:buClr>
                <a:srgbClr val="99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buClr>
                <a:srgbClr val="99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18960" y="6283440"/>
            <a:ext cx="693720" cy="431640"/>
            <a:chOff x="318960" y="6283440"/>
            <a:chExt cx="693720" cy="4316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69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28720" y="6453360"/>
              <a:ext cx="4608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4480" y="6413400"/>
              <a:ext cx="23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48112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IBIS Summit Meeting at DesignCo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Westin Hotel, Santa Clara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January 31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18960" y="6283440"/>
            <a:ext cx="668520" cy="406440"/>
            <a:chOff x="318960" y="6283440"/>
            <a:chExt cx="668520" cy="40644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318960" y="6283440"/>
              <a:ext cx="66852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28720" y="6453360"/>
              <a:ext cx="4608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4480" y="6413400"/>
              <a:ext cx="23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1297080"/>
            <a:ext cx="9144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ture directions for IB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414320"/>
            <a:ext cx="9144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rpad Murany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ignal Integrity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e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rpad.muranyi@inte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253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-fes.fm.intel.com/pcdse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cg_treatment_color" descr=""/>
          <p:cNvPicPr/>
          <p:nvPr/>
        </p:nvPicPr>
        <p:blipFill>
          <a:blip r:embed="rId3"/>
          <a:stretch/>
        </p:blipFill>
        <p:spPr>
          <a:xfrm>
            <a:off x="7540560" y="6078600"/>
            <a:ext cx="1387440" cy="61416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27720" y="358920"/>
            <a:ext cx="939960" cy="760680"/>
            <a:chOff x="27720" y="358920"/>
            <a:chExt cx="939960" cy="760680"/>
          </a:xfrm>
        </p:grpSpPr>
        <p:sp>
          <p:nvSpPr>
            <p:cNvPr id="70" name=""/>
            <p:cNvSpPr/>
            <p:nvPr/>
          </p:nvSpPr>
          <p:spPr>
            <a:xfrm flipH="1" rot="8916600">
              <a:off x="38160" y="606240"/>
              <a:ext cx="919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1102"/>
                  </a:moveTo>
                  <a:arcTo wR="10800" hR="10800" stAng="96163" swAng="10671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1102"/>
                  </a:moveTo>
                  <a:arcTo wR="10800" hR="10800" stAng="96163" swAng="10671432"/>
                </a:path>
              </a:pathLst>
            </a:custGeom>
            <a:noFill/>
            <a:ln w="28440">
              <a:solidFill>
                <a:srgbClr val="4c3d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22480" y="533520"/>
              <a:ext cx="566640" cy="428400"/>
              <a:chOff x="222480" y="533520"/>
              <a:chExt cx="566640" cy="428400"/>
            </a:xfrm>
          </p:grpSpPr>
          <p:sp>
            <p:nvSpPr>
              <p:cNvPr id="72" name=""/>
              <p:cNvSpPr txBox="1"/>
              <p:nvPr/>
            </p:nvSpPr>
            <p:spPr>
              <a:xfrm>
                <a:off x="554040" y="533520"/>
                <a:ext cx="23508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</a:rPr>
                  <a:t>I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cbcbcb"/>
                      </a:gs>
                    </a:gsLst>
                    <a:lin ang="13500000"/>
                  </a:gradFill>
                  <a:latin typeface="Times New Roman"/>
                  <a:ea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222480" y="533520"/>
                <a:ext cx="28332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</a:rPr>
                  <a:t>S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cbcbcb"/>
                      </a:gs>
                    </a:gsLst>
                    <a:lin ang="13500000"/>
                  </a:gra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H="1" rot="8916600">
              <a:off x="36720" y="605880"/>
              <a:ext cx="91836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0985"/>
                  </a:moveTo>
                  <a:arcTo wR="10800" hR="10800" stAng="10741070" swAng="11125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0985"/>
                  </a:moveTo>
                  <a:arcTo wR="10800" hR="10800" stAng="10741070" swAng="11125369"/>
                </a:path>
              </a:pathLst>
            </a:custGeom>
            <a:noFill/>
            <a:ln w="28440">
              <a:solidFill>
                <a:srgbClr val="4c3d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800280" y="358920"/>
              <a:ext cx="137880" cy="12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e</a:t>
              </a:r>
              <a:endPara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581ddb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7610400" y="246240"/>
          <a:ext cx="122868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10400" y="246240"/>
                    <a:ext cx="12286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3004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71760" y="1536840"/>
            <a:ext cx="45054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e-mail reflector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tages of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requ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6080" y="228600"/>
            <a:ext cx="739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BIS e-mail reflector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3680" y="1066680"/>
            <a:ext cx="76406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ted a thought provoker message to the IBIS e-mail reflector in early December of 1999 to get feedback on what everyone thinks should be done with the IBIS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numerous responses with varying opin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ot of good observations and suggestions were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Davis proposed a specific syntax and volunteered to help writ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zed the responses and sorted ideas into various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s, 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(comments, 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we need IB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to keep and/or ad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guage, 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e to a similar discussion running on the SI-list reflector, not every aspect of IBIS modeling was mentioned in this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mmary can be found in the Appendix of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6080" y="228600"/>
            <a:ext cx="739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6080" y="1066680"/>
            <a:ext cx="7394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urrent IBIS syntax is inflexible because the majority of the keywords are based on (individual) assumptions and usage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 need to be removed or incorporated in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ge rules of keywords should be generalized or be uni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nectivity between die and package is also based on assumptions and usage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s detailed return current path and power distribution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Pin Mapping] doesn’t provide a complet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type of a syntax slows down growth and limits the possibility of adding of new features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ost every new feature requires a new key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keywords usually bring new assumptions and usage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pecification with such syntax becomes unmanag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ve slightly different syntax (could soon) exist for interconnects alone: segmented uncoupled package, full matrix package, Electrical Board Description file, connector model, on-die interconn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6080" y="228600"/>
            <a:ext cx="739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6080" y="1066680"/>
            <a:ext cx="7470720" cy="48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scalable, general purpose nodal syntax could solve most of our current and futur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alab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wo, three, … N-terminal black bo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eral purpos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llow anything in the black bo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elements and/or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ive and/or active devices, building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3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, G, L, C, T-lines, packages, PCB interconnects, diodes, transistors, anything from inverters to full/partial buffer block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kind of description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3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s (IV, Vt, RV, RT, Rt, Rf, Lf, CV, etc.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3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rixes, expressions, transfer functions, S-parameter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 a “node” for radiated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da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llow arbitrary connections between black boxes and between a collection of black boxes and the outsid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multiple black boxes per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sted black boxes should also be 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6080" y="228600"/>
            <a:ext cx="739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lock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41480" y="1049400"/>
            <a:ext cx="7619760" cy="4952880"/>
            <a:chOff x="1041480" y="1049400"/>
            <a:chExt cx="7619760" cy="4952880"/>
          </a:xfrm>
        </p:grpSpPr>
        <p:sp>
          <p:nvSpPr>
            <p:cNvPr id="88" name=""/>
            <p:cNvSpPr/>
            <p:nvPr/>
          </p:nvSpPr>
          <p:spPr>
            <a:xfrm>
              <a:off x="1041480" y="1049400"/>
              <a:ext cx="7619760" cy="49528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4080" y="1076400"/>
              <a:ext cx="64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C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124080" y="1359000"/>
              <a:ext cx="5334120" cy="4333320"/>
              <a:chOff x="3124080" y="1359000"/>
              <a:chExt cx="5334120" cy="4333320"/>
            </a:xfrm>
          </p:grpSpPr>
          <p:sp>
            <p:nvSpPr>
              <p:cNvPr id="91" name=""/>
              <p:cNvSpPr/>
              <p:nvPr/>
            </p:nvSpPr>
            <p:spPr>
              <a:xfrm>
                <a:off x="3200400" y="1359000"/>
                <a:ext cx="5181480" cy="4333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581280" y="1823040"/>
                <a:ext cx="4419720" cy="3559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277440" y="1359000"/>
                <a:ext cx="121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ack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56160" y="1978200"/>
                <a:ext cx="2355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ie interconn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647600" y="38354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647600" y="49960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4800600" y="3835080"/>
                <a:ext cx="304560" cy="1160640"/>
                <a:chOff x="4800600" y="3835080"/>
                <a:chExt cx="304560" cy="1160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800600" y="4299480"/>
                  <a:ext cx="30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00600" y="4454280"/>
                  <a:ext cx="30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952880" y="4454280"/>
                  <a:ext cx="0" cy="54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V="1">
                  <a:off x="4952880" y="3835080"/>
                  <a:ext cx="0" cy="464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257800" y="3989880"/>
                <a:ext cx="1828800" cy="851040"/>
              </a:xfrm>
              <a:prstGeom prst="rect">
                <a:avLst/>
              </a:prstGeom>
              <a:solidFill>
                <a:srgbClr val="ffff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52880" y="3835440"/>
                <a:ext cx="76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52880" y="4996080"/>
                <a:ext cx="1676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15000" y="4840920"/>
                <a:ext cx="0" cy="154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15000" y="3835440"/>
                <a:ext cx="0" cy="15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3581280" y="4918320"/>
                <a:ext cx="1066320" cy="154440"/>
                <a:chOff x="3581280" y="4918320"/>
                <a:chExt cx="1066320" cy="1544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581280" y="49960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V="1">
                  <a:off x="3733560" y="4918320"/>
                  <a:ext cx="76320" cy="77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09880" y="491868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3962160" y="491868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4266720" y="491868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4114440" y="4918680"/>
                  <a:ext cx="15264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419360" y="4918680"/>
                  <a:ext cx="76320" cy="77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4495320" y="49960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581280" y="3757320"/>
                <a:ext cx="1066320" cy="154440"/>
                <a:chOff x="3581280" y="3757320"/>
                <a:chExt cx="1066320" cy="1544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581280" y="38350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3733560" y="3757320"/>
                  <a:ext cx="76320" cy="77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809880" y="375768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3962160" y="375768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4266720" y="375768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4114440" y="3757680"/>
                  <a:ext cx="15264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419360" y="3757680"/>
                  <a:ext cx="76320" cy="77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4495320" y="38350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5638680" y="476388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38680" y="3912480"/>
                <a:ext cx="152280" cy="1548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76560" y="3757680"/>
                <a:ext cx="15264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76560" y="4918680"/>
                <a:ext cx="15264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10280" y="433836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3124080" y="2597040"/>
                <a:ext cx="152280" cy="2475720"/>
                <a:chOff x="3124080" y="2597040"/>
                <a:chExt cx="152280" cy="2475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124080" y="491832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24080" y="453168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124080" y="4144320"/>
                  <a:ext cx="152280" cy="154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124080" y="375768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124080" y="337068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24080" y="2983680"/>
                  <a:ext cx="152280" cy="154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4080" y="259704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7086600" y="44154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924680" y="433836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05560" y="4338360"/>
                <a:ext cx="15264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3504960" y="2597040"/>
                <a:ext cx="152280" cy="2475720"/>
                <a:chOff x="3504960" y="2597040"/>
                <a:chExt cx="152280" cy="2475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504960" y="491832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504960" y="453168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504960" y="4144320"/>
                  <a:ext cx="152280" cy="154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504960" y="375768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04960" y="337068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04960" y="2983680"/>
                  <a:ext cx="152280" cy="154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504960" y="2597040"/>
                  <a:ext cx="152280" cy="1544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800600" y="2674080"/>
                <a:ext cx="304560" cy="1160640"/>
                <a:chOff x="4800600" y="2674080"/>
                <a:chExt cx="304560" cy="11606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00600" y="3138480"/>
                  <a:ext cx="30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800600" y="3293280"/>
                  <a:ext cx="30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52880" y="3293280"/>
                  <a:ext cx="0" cy="54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952880" y="2674080"/>
                  <a:ext cx="0" cy="464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581280" y="2596680"/>
                <a:ext cx="1066320" cy="154440"/>
                <a:chOff x="3581280" y="2596680"/>
                <a:chExt cx="1066320" cy="1544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581280" y="267444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733560" y="2596680"/>
                  <a:ext cx="76320" cy="77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09880" y="259704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3962160" y="259704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4266720" y="2597040"/>
                  <a:ext cx="15228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4114440" y="2597040"/>
                  <a:ext cx="152640" cy="15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419360" y="2597040"/>
                  <a:ext cx="76320" cy="77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4495320" y="267444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flipH="1">
                <a:off x="4647600" y="26744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238880" y="2674080"/>
                <a:ext cx="0" cy="15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52880" y="267444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76560" y="2597040"/>
                <a:ext cx="15264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553080" y="3912480"/>
                <a:ext cx="152280" cy="1548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86400" y="4222080"/>
                <a:ext cx="457200" cy="386640"/>
              </a:xfrm>
              <a:prstGeom prst="rect">
                <a:avLst/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22080"/>
                <a:ext cx="457200" cy="3866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38680" y="4144680"/>
                <a:ext cx="152280" cy="1548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53080" y="4144680"/>
                <a:ext cx="152280" cy="1548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781680" y="433836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53080" y="453168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7280" y="433836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24480" y="433836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38680" y="453168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15000" y="3989880"/>
                <a:ext cx="0" cy="2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15000" y="4608720"/>
                <a:ext cx="0" cy="2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43600" y="44154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29400" y="4608720"/>
                <a:ext cx="0" cy="387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29400" y="3989880"/>
                <a:ext cx="0" cy="2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58000" y="4415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53080" y="476388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00400" y="267444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00400" y="306144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0400" y="344808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00400" y="383544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00400" y="422208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00400" y="46087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00400" y="499608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01000" y="44154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81280" y="30614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81280" y="34480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81280" y="42220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81280" y="46087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81680" y="2829240"/>
                <a:ext cx="914400" cy="851040"/>
              </a:xfrm>
              <a:prstGeom prst="rect">
                <a:avLst/>
              </a:prstGeom>
              <a:solidFill>
                <a:srgbClr val="ffff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19760" y="3177720"/>
                <a:ext cx="15264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96080" y="325476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24680" y="3177720"/>
                <a:ext cx="15228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305560" y="3177720"/>
                <a:ext cx="15264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62560" y="2751840"/>
                <a:ext cx="152640" cy="1548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62560" y="3603240"/>
                <a:ext cx="152640" cy="154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001000" y="325476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38880" y="3680280"/>
                <a:ext cx="0" cy="131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29400" y="4996080"/>
                <a:ext cx="60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629400" y="2674080"/>
                <a:ext cx="0" cy="131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73600" y="495720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591240" y="495396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589440" y="2639160"/>
                <a:ext cx="76320" cy="770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08400" y="3144960"/>
                <a:ext cx="604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ffe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76640" y="3994560"/>
                <a:ext cx="604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ffe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828080" y="1882800"/>
              <a:ext cx="81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5120" y="2301840"/>
              <a:ext cx="533160" cy="3048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362320" y="2606760"/>
              <a:ext cx="152280" cy="2437920"/>
              <a:chOff x="2362320" y="2606760"/>
              <a:chExt cx="152280" cy="2437920"/>
            </a:xfrm>
          </p:grpSpPr>
          <p:sp>
            <p:nvSpPr>
              <p:cNvPr id="215" name=""/>
              <p:cNvSpPr/>
              <p:nvPr/>
            </p:nvSpPr>
            <p:spPr>
              <a:xfrm>
                <a:off x="2362320" y="26067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62320" y="298764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62320" y="33685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62320" y="3749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62320" y="413064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62320" y="45115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62320" y="4892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828800" y="2606760"/>
              <a:ext cx="152280" cy="2437920"/>
              <a:chOff x="1828800" y="2606760"/>
              <a:chExt cx="152280" cy="2437920"/>
            </a:xfrm>
          </p:grpSpPr>
          <p:sp>
            <p:nvSpPr>
              <p:cNvPr id="223" name=""/>
              <p:cNvSpPr/>
              <p:nvPr/>
            </p:nvSpPr>
            <p:spPr>
              <a:xfrm>
                <a:off x="1828800" y="26067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28800" y="298764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28800" y="33685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28800" y="3749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28800" y="413064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800" y="45115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4892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438280" y="306396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383544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34495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6080" y="228600"/>
            <a:ext cx="739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dvant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6080" y="1066680"/>
            <a:ext cx="73944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s current IBIS format (backward compat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 boxes could hold current IBIS information blocks, (Model, Package, EBD, Connector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s IMIC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terminal black boxes with the appropriate tables could be used to describe tran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s full SPIC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terminal black boxes with process file information (or process file references) could be used to describe tran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retes, diodes and N-well resistors could be described simi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ows any level of abstraction available for flexibility, accuracy, and security (IP prot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havioral and/or transistor level modeling could be 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building blocks could be constructed to describe any behavior to any accurac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protection through behavioral description still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rewrite the spec for every new buffer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6080" y="228600"/>
            <a:ext cx="739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urp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6080" y="1066680"/>
            <a:ext cx="7394400" cy="49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yntax is practically the same as the SPICE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 boxes are equivalents of sub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erminal black boxes are equivalents of C, D, L, R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terminal black boxes are equivalents of M, Q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 terminal black boxes are equivalents of E, F, G, H, T-lin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difference is in the extensive behaviora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SPICE flavors do not have good behavioral elements, if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3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, F, G, H elements are not available in every SPICE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3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, F, G, H elements are not sufficient for behavioral buffer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bitrary level of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3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icated buffer behavior can be broken up into several blocks, each of which can be a simple behavioral sub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32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xed mode models could consist of behavioral predriver with a transistorized output stage, for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rder line between “model” or “just data” becomes blur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yntax includes some netlisting due to its nodal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description utilizes full SPICE features, it will be a “mod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only behavioral blocks are used, the file will contain “data”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16080" y="228600"/>
            <a:ext cx="739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ion requ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1066680"/>
            <a:ext cx="68198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need to adopt a SPICE-like nodal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re-invent the wh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PICE syntax alone may not be sufficient for every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 oriented programming language style syntax may be another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could define not just the data but the “assumptions” as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format may be more vendor 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 language should also be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47000" y="4103640"/>
            <a:ext cx="65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t’s make this our next major go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08:43:34Z</dcterms:created>
  <dc:creator>Arpad Muranyi</dc:creator>
  <dc:description>IBIS face to face summit at DAC 1999
Hilton Hotel
New Orleans, Louisiana
June 21, 1999</dc:description>
  <dc:language>en-US</dc:language>
  <cp:lastModifiedBy>Arpad Muranyi</cp:lastModifiedBy>
  <cp:lastPrinted>1999-06-18T22:42:06Z</cp:lastPrinted>
  <dcterms:modified xsi:type="dcterms:W3CDTF">2000-01-30T09:07:31Z</dcterms:modified>
  <cp:revision>318</cp:revision>
  <dc:subject/>
  <dc:title>Equations in IBIS models?</dc:title>
</cp:coreProperties>
</file>