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9A3D-CEE9-44B4-8852-5D0BEB75A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67820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4920" y="3654000"/>
            <a:ext cx="67820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89A9-BD18-4269-9B6E-5890392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7036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6DF9-4B26-4CD0-B8AE-7C97CB1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87760" y="106632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0960" y="106632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4920" y="365400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87760" y="365400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0960" y="365400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7356-E706-4D04-B069-FF067EF3F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7A57-BE01-4609-A703-DA3F7F1C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06EE-A411-4812-817D-F73759F2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8CAF-4686-49F3-828E-8D4D272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E1A3-5C71-47F4-8529-B19E7B3E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C582-25E9-41AA-B3EE-4E236C01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92C1-38C5-4495-BCE8-487F1D6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7036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7448-56CD-4825-A21C-7D7C310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4920" y="3654000"/>
            <a:ext cx="67820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2091-13C5-4A41-9887-475E34DD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45520" y="74520"/>
            <a:ext cx="1666800" cy="43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503-2AB0-4F74-8531-FECC82DE9E18}" type="datetime5">
              <a:rPr b="1" i="1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238520" y="6477120"/>
            <a:ext cx="1752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 # </a:t>
            </a:r>
            <a:fld id="{F26DE88C-94A2-41CB-BBA7-FAAE96F30DF4}" type="slidenum"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840" y="6499080"/>
            <a:ext cx="812340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760320" cy="6858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9160" y="634824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9" y="19"/>
                </a:moveTo>
                <a:lnTo>
                  <a:pt x="19" y="0"/>
                </a:lnTo>
                <a:lnTo>
                  <a:pt x="0" y="0"/>
                </a:lnTo>
                <a:lnTo>
                  <a:pt x="0" y="19"/>
                </a:lnTo>
                <a:lnTo>
                  <a:pt x="19" y="19"/>
                </a:lnTo>
              </a:path>
            </a:pathLst>
          </a:custGeom>
          <a:solidFill>
            <a:srgbClr val="00a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9160" y="6407280"/>
            <a:ext cx="31680" cy="152280"/>
          </a:xfrm>
          <a:custGeom>
            <a:avLst/>
            <a:gdLst/>
            <a:ahLst/>
            <a:rect l="l" t="t" r="r" b="b"/>
            <a:pathLst>
              <a:path w="20" h="96">
                <a:moveTo>
                  <a:pt x="19" y="95"/>
                </a:moveTo>
                <a:lnTo>
                  <a:pt x="19" y="0"/>
                </a:lnTo>
                <a:lnTo>
                  <a:pt x="0" y="0"/>
                </a:lnTo>
                <a:lnTo>
                  <a:pt x="0" y="95"/>
                </a:lnTo>
                <a:lnTo>
                  <a:pt x="19" y="95"/>
                </a:lnTo>
              </a:path>
            </a:pathLst>
          </a:custGeom>
          <a:solidFill>
            <a:srgbClr val="00a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1920" y="6348240"/>
            <a:ext cx="274680" cy="282600"/>
          </a:xfrm>
          <a:custGeom>
            <a:avLst/>
            <a:gdLst/>
            <a:ahLst/>
            <a:rect l="l" t="t" r="r" b="b"/>
            <a:pathLst>
              <a:path w="173" h="178">
                <a:moveTo>
                  <a:pt x="77" y="113"/>
                </a:moveTo>
                <a:lnTo>
                  <a:pt x="120" y="113"/>
                </a:lnTo>
                <a:lnTo>
                  <a:pt x="120" y="109"/>
                </a:lnTo>
                <a:lnTo>
                  <a:pt x="119" y="104"/>
                </a:lnTo>
                <a:lnTo>
                  <a:pt x="113" y="98"/>
                </a:lnTo>
                <a:lnTo>
                  <a:pt x="108" y="94"/>
                </a:lnTo>
                <a:lnTo>
                  <a:pt x="100" y="93"/>
                </a:lnTo>
                <a:lnTo>
                  <a:pt x="91" y="94"/>
                </a:lnTo>
                <a:lnTo>
                  <a:pt x="84" y="99"/>
                </a:lnTo>
                <a:lnTo>
                  <a:pt x="79" y="105"/>
                </a:lnTo>
                <a:lnTo>
                  <a:pt x="77" y="113"/>
                </a:lnTo>
                <a:lnTo>
                  <a:pt x="77" y="133"/>
                </a:lnTo>
                <a:lnTo>
                  <a:pt x="79" y="141"/>
                </a:lnTo>
                <a:lnTo>
                  <a:pt x="83" y="148"/>
                </a:lnTo>
                <a:lnTo>
                  <a:pt x="90" y="154"/>
                </a:lnTo>
                <a:lnTo>
                  <a:pt x="94" y="156"/>
                </a:lnTo>
                <a:lnTo>
                  <a:pt x="100" y="156"/>
                </a:lnTo>
                <a:lnTo>
                  <a:pt x="106" y="155"/>
                </a:lnTo>
                <a:lnTo>
                  <a:pt x="111" y="153"/>
                </a:lnTo>
                <a:lnTo>
                  <a:pt x="116" y="149"/>
                </a:lnTo>
                <a:lnTo>
                  <a:pt x="119" y="144"/>
                </a:lnTo>
                <a:lnTo>
                  <a:pt x="143" y="144"/>
                </a:lnTo>
                <a:lnTo>
                  <a:pt x="140" y="151"/>
                </a:lnTo>
                <a:lnTo>
                  <a:pt x="138" y="157"/>
                </a:lnTo>
                <a:lnTo>
                  <a:pt x="133" y="163"/>
                </a:lnTo>
                <a:lnTo>
                  <a:pt x="128" y="167"/>
                </a:lnTo>
                <a:lnTo>
                  <a:pt x="121" y="173"/>
                </a:lnTo>
                <a:lnTo>
                  <a:pt x="115" y="174"/>
                </a:lnTo>
                <a:lnTo>
                  <a:pt x="107" y="176"/>
                </a:lnTo>
                <a:lnTo>
                  <a:pt x="100" y="177"/>
                </a:lnTo>
                <a:lnTo>
                  <a:pt x="91" y="176"/>
                </a:lnTo>
                <a:lnTo>
                  <a:pt x="84" y="174"/>
                </a:lnTo>
                <a:lnTo>
                  <a:pt x="76" y="170"/>
                </a:lnTo>
                <a:lnTo>
                  <a:pt x="69" y="165"/>
                </a:lnTo>
                <a:lnTo>
                  <a:pt x="63" y="159"/>
                </a:lnTo>
                <a:lnTo>
                  <a:pt x="58" y="152"/>
                </a:lnTo>
                <a:lnTo>
                  <a:pt x="54" y="143"/>
                </a:lnTo>
                <a:lnTo>
                  <a:pt x="52" y="134"/>
                </a:lnTo>
                <a:lnTo>
                  <a:pt x="38" y="135"/>
                </a:lnTo>
                <a:lnTo>
                  <a:pt x="29" y="133"/>
                </a:lnTo>
                <a:lnTo>
                  <a:pt x="24" y="132"/>
                </a:lnTo>
                <a:lnTo>
                  <a:pt x="21" y="129"/>
                </a:lnTo>
                <a:lnTo>
                  <a:pt x="18" y="126"/>
                </a:lnTo>
                <a:lnTo>
                  <a:pt x="16" y="121"/>
                </a:lnTo>
                <a:lnTo>
                  <a:pt x="15" y="115"/>
                </a:lnTo>
                <a:lnTo>
                  <a:pt x="14" y="109"/>
                </a:lnTo>
                <a:lnTo>
                  <a:pt x="14" y="54"/>
                </a:lnTo>
                <a:lnTo>
                  <a:pt x="0" y="54"/>
                </a:lnTo>
                <a:lnTo>
                  <a:pt x="0" y="35"/>
                </a:lnTo>
                <a:lnTo>
                  <a:pt x="15" y="35"/>
                </a:lnTo>
                <a:lnTo>
                  <a:pt x="15" y="0"/>
                </a:lnTo>
                <a:lnTo>
                  <a:pt x="38" y="0"/>
                </a:lnTo>
                <a:lnTo>
                  <a:pt x="38" y="35"/>
                </a:lnTo>
                <a:lnTo>
                  <a:pt x="56" y="35"/>
                </a:lnTo>
                <a:lnTo>
                  <a:pt x="56" y="54"/>
                </a:lnTo>
                <a:lnTo>
                  <a:pt x="39" y="54"/>
                </a:lnTo>
                <a:lnTo>
                  <a:pt x="39" y="101"/>
                </a:lnTo>
                <a:lnTo>
                  <a:pt x="40" y="108"/>
                </a:lnTo>
                <a:lnTo>
                  <a:pt x="42" y="112"/>
                </a:lnTo>
                <a:lnTo>
                  <a:pt x="46" y="113"/>
                </a:lnTo>
                <a:lnTo>
                  <a:pt x="52" y="114"/>
                </a:lnTo>
                <a:lnTo>
                  <a:pt x="53" y="114"/>
                </a:lnTo>
                <a:lnTo>
                  <a:pt x="54" y="105"/>
                </a:lnTo>
                <a:lnTo>
                  <a:pt x="57" y="98"/>
                </a:lnTo>
                <a:lnTo>
                  <a:pt x="62" y="91"/>
                </a:lnTo>
                <a:lnTo>
                  <a:pt x="68" y="85"/>
                </a:lnTo>
                <a:lnTo>
                  <a:pt x="74" y="81"/>
                </a:lnTo>
                <a:lnTo>
                  <a:pt x="82" y="77"/>
                </a:lnTo>
                <a:lnTo>
                  <a:pt x="91" y="73"/>
                </a:lnTo>
                <a:lnTo>
                  <a:pt x="100" y="73"/>
                </a:lnTo>
                <a:lnTo>
                  <a:pt x="109" y="73"/>
                </a:lnTo>
                <a:lnTo>
                  <a:pt x="117" y="77"/>
                </a:lnTo>
                <a:lnTo>
                  <a:pt x="124" y="81"/>
                </a:lnTo>
                <a:lnTo>
                  <a:pt x="130" y="85"/>
                </a:lnTo>
                <a:lnTo>
                  <a:pt x="136" y="93"/>
                </a:lnTo>
                <a:lnTo>
                  <a:pt x="140" y="100"/>
                </a:lnTo>
                <a:lnTo>
                  <a:pt x="143" y="109"/>
                </a:lnTo>
                <a:lnTo>
                  <a:pt x="145" y="119"/>
                </a:lnTo>
                <a:lnTo>
                  <a:pt x="147" y="119"/>
                </a:lnTo>
                <a:lnTo>
                  <a:pt x="147" y="0"/>
                </a:lnTo>
                <a:lnTo>
                  <a:pt x="172" y="0"/>
                </a:lnTo>
                <a:lnTo>
                  <a:pt x="172" y="133"/>
                </a:lnTo>
                <a:lnTo>
                  <a:pt x="77" y="133"/>
                </a:lnTo>
                <a:lnTo>
                  <a:pt x="77" y="113"/>
                </a:lnTo>
              </a:path>
            </a:pathLst>
          </a:custGeom>
          <a:solidFill>
            <a:srgbClr val="00a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87200" y="6402240"/>
            <a:ext cx="130320" cy="157320"/>
          </a:xfrm>
          <a:custGeom>
            <a:avLst/>
            <a:gdLst/>
            <a:ahLst/>
            <a:rect l="l" t="t" r="r" b="b"/>
            <a:pathLst>
              <a:path w="82" h="99">
                <a:moveTo>
                  <a:pt x="25" y="33"/>
                </a:moveTo>
                <a:lnTo>
                  <a:pt x="28" y="29"/>
                </a:lnTo>
                <a:lnTo>
                  <a:pt x="32" y="26"/>
                </a:lnTo>
                <a:lnTo>
                  <a:pt x="36" y="24"/>
                </a:lnTo>
                <a:lnTo>
                  <a:pt x="41" y="23"/>
                </a:lnTo>
                <a:lnTo>
                  <a:pt x="48" y="25"/>
                </a:lnTo>
                <a:lnTo>
                  <a:pt x="53" y="29"/>
                </a:lnTo>
                <a:lnTo>
                  <a:pt x="56" y="36"/>
                </a:lnTo>
                <a:lnTo>
                  <a:pt x="57" y="39"/>
                </a:lnTo>
                <a:lnTo>
                  <a:pt x="57" y="44"/>
                </a:lnTo>
                <a:lnTo>
                  <a:pt x="57" y="98"/>
                </a:lnTo>
                <a:lnTo>
                  <a:pt x="81" y="98"/>
                </a:lnTo>
                <a:lnTo>
                  <a:pt x="81" y="39"/>
                </a:lnTo>
                <a:lnTo>
                  <a:pt x="81" y="30"/>
                </a:lnTo>
                <a:lnTo>
                  <a:pt x="78" y="23"/>
                </a:lnTo>
                <a:lnTo>
                  <a:pt x="75" y="15"/>
                </a:lnTo>
                <a:lnTo>
                  <a:pt x="72" y="10"/>
                </a:lnTo>
                <a:lnTo>
                  <a:pt x="69" y="7"/>
                </a:lnTo>
                <a:lnTo>
                  <a:pt x="65" y="5"/>
                </a:lnTo>
                <a:lnTo>
                  <a:pt x="60" y="3"/>
                </a:lnTo>
                <a:lnTo>
                  <a:pt x="49" y="0"/>
                </a:lnTo>
                <a:lnTo>
                  <a:pt x="39" y="3"/>
                </a:lnTo>
                <a:lnTo>
                  <a:pt x="32" y="6"/>
                </a:lnTo>
                <a:lnTo>
                  <a:pt x="27" y="10"/>
                </a:lnTo>
                <a:lnTo>
                  <a:pt x="24" y="16"/>
                </a:lnTo>
                <a:lnTo>
                  <a:pt x="23" y="16"/>
                </a:lnTo>
                <a:lnTo>
                  <a:pt x="24" y="3"/>
                </a:lnTo>
                <a:lnTo>
                  <a:pt x="0" y="3"/>
                </a:lnTo>
                <a:lnTo>
                  <a:pt x="0" y="98"/>
                </a:lnTo>
                <a:lnTo>
                  <a:pt x="23" y="98"/>
                </a:lnTo>
                <a:lnTo>
                  <a:pt x="23" y="47"/>
                </a:lnTo>
                <a:lnTo>
                  <a:pt x="24" y="39"/>
                </a:lnTo>
                <a:lnTo>
                  <a:pt x="25" y="33"/>
                </a:lnTo>
              </a:path>
            </a:pathLst>
          </a:custGeom>
          <a:solidFill>
            <a:srgbClr val="00a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8960" y="6649920"/>
            <a:ext cx="1886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92200" y="6608880"/>
            <a:ext cx="68040" cy="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41440" y="6456240"/>
            <a:ext cx="1681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600" spc="-1" strike="noStrike">
                <a:solidFill>
                  <a:srgbClr val="00aeec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917640" y="685800"/>
            <a:ext cx="82263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41320" y="762120"/>
            <a:ext cx="8226360" cy="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H="1" flipV="1">
            <a:off x="50400" y="646920"/>
            <a:ext cx="60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Brush Script MT"/>
              </a:rPr>
              <a:t>ESG</a:t>
            </a:r>
            <a:r>
              <a:rPr b="1" lang="en-US" sz="2800" spc="-1" strike="noStrike">
                <a:solidFill>
                  <a:srgbClr val="00aeec"/>
                </a:solidFill>
                <a:latin typeface="Arial"/>
              </a:rPr>
              <a:t> - Columbia Design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2004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ichard Mell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 txBox="1"/>
          <p:nvPr/>
        </p:nvSpPr>
        <p:spPr>
          <a:xfrm>
            <a:off x="36360" y="287280"/>
            <a:ext cx="68580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166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aeec"/>
                </a:solidFill>
                <a:latin typeface="Arial Black"/>
              </a:rPr>
              <a:t>SPD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aeec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Statistical Methods to Characterize Receivers to Determine the Applicability of Receiver Modeling Standardization</a:t>
            </a:r>
            <a:br>
              <a:rPr sz="3200"/>
            </a:b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BIS SUMMIT MEETING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ANUARY 31, 200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ard Mellit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taff Hardware Engineer, Intel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92AA-4F84-4656-97A8-D0A07E4A3A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5F678-E30C-4AB0-BCD5-52EBA44D5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ingback Insensitive Rcv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88688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1CFA-B91B-40EE-B800-0CED978DA70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09B42-E5BA-4AC4-ADA3-C13AE9F81B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back Sensitive Rcv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15000" cy="534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90CB-67C4-4CCA-9D3C-743B91927F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7EDAB-19DE-4BF9-80B9-1B6EA24216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s to Define Acceptable Monotonic ed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43320" cy="3543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4419720" cy="3773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57600" y="2743200"/>
            <a:ext cx="533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9718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0574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p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3505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p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29040" y="2286000"/>
            <a:ext cx="628560" cy="701640"/>
          </a:xfrm>
          <a:custGeom>
            <a:avLst/>
            <a:gdLst/>
            <a:ahLst/>
            <a:rect l="l" t="t" r="r" b="b"/>
            <a:pathLst>
              <a:path w="396" h="442">
                <a:moveTo>
                  <a:pt x="204" y="0"/>
                </a:moveTo>
                <a:lnTo>
                  <a:pt x="0" y="442"/>
                </a:lnTo>
                <a:lnTo>
                  <a:pt x="396" y="432"/>
                </a:lnTo>
                <a:lnTo>
                  <a:pt x="204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92520" y="2987640"/>
            <a:ext cx="530280" cy="561960"/>
          </a:xfrm>
          <a:custGeom>
            <a:avLst/>
            <a:gdLst/>
            <a:ahLst/>
            <a:rect l="l" t="t" r="r" b="b"/>
            <a:pathLst>
              <a:path w="334" h="354">
                <a:moveTo>
                  <a:pt x="160" y="348"/>
                </a:moveTo>
                <a:lnTo>
                  <a:pt x="166" y="354"/>
                </a:lnTo>
                <a:lnTo>
                  <a:pt x="0" y="0"/>
                </a:lnTo>
                <a:lnTo>
                  <a:pt x="334" y="8"/>
                </a:lnTo>
                <a:lnTo>
                  <a:pt x="160" y="34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2590920"/>
            <a:ext cx="685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Are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048120"/>
            <a:ext cx="685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Are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4648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Vary Ampl1, Ampl2, and sl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867280" y="1599840"/>
            <a:ext cx="19051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638320" y="274320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7543440" y="1523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1295280"/>
            <a:ext cx="190512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ps for tim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ess than this seem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396252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3962520"/>
            <a:ext cx="990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to neg 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175248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Yellow is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 is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5408640"/>
            <a:ext cx="55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need to devise methods that are sensitized for specific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357C-185D-47CE-A1EC-6939DA5F372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7E5D6-6B08-4EA2-8E39-5FA048190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Settling Volt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95280" y="4724280"/>
            <a:ext cx="243864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Sl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y overshoot and ringback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343320" cy="3857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67080" y="4724280"/>
            <a:ext cx="44960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ms relatively independent of over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we hit Vdd/2 triggering occurs rapi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FAEA-B3E1-4037-9D79-0A8E4428C3C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698AF-8A23-4D9E-B918-67E8FC8152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AC Noise Sensi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91520" cy="52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198F-7786-4295-A100-77A3D00BF79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E0714-8348-4009-87B7-12271D38F0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Filt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15462" t="15462" r="-1028" b="-1019"/>
          <a:stretch/>
        </p:blipFill>
        <p:spPr>
          <a:xfrm>
            <a:off x="914400" y="1066680"/>
            <a:ext cx="4114800" cy="2932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809880" cy="3775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4572000"/>
            <a:ext cx="3886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sensitive to noise above 2 G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7CC6-2E81-40FE-B245-9F5C219FB88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52013-3926-42F6-B57C-4EC9ABA4E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method suggests some receiv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predictable delay a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undesirable areas of operation I.e. meta-stability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spec margins to assure performan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void singular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more sensitive to power supply no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necessary and sufficient set of input waveform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ype of performance need to be modeled? Ex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delay as function of receiver paramet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is a safe region for oxide wear ou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hould a receiver be considered unpredict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C963-1814-4E8F-BD57-03525CF385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31C06-51D4-4973-882A-A53D1B449C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ral Input Characte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7617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timing simulation predication over the “time at threshold” techn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method to determine if characterization is feasible for a given 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the problem: Characterize input performance and determine predictable tre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with a set of characteristic stimul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e Carlo multi-variant aspects of stimu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for patterns in receiver behav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3D viewers to suggest tre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reas of performance that can be characterized with data or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reas of unpredictable or meta-stabl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have always been  classes of received sign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6D52-7191-46A9-B548-27CD3DD041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FDA94-541F-41C8-9759-5AD87E6EEB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al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a set of parameters to hold consta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haps process and temper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s in a book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inputs that represents ranges of expected wave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ndom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weep quantifiable properties of input wavefo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expected behavior graphic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for tre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5039-5FC5-4351-8123-81572DC230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05684-E0CB-474D-9779-A86060951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ed Types of Stim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59120" y="914400"/>
          <a:ext cx="190476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914400"/>
                    <a:ext cx="19047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66960" y="2590920"/>
          <a:ext cx="2089080" cy="17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2590920"/>
                    <a:ext cx="208908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676520" y="4800600"/>
          <a:ext cx="2469960" cy="14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800600"/>
                    <a:ext cx="246996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876920" y="1143000"/>
            <a:ext cx="3047760" cy="990720"/>
          </a:xfrm>
          <a:prstGeom prst="bevel">
            <a:avLst>
              <a:gd name="adj" fmla="val 347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w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shold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666880"/>
            <a:ext cx="3276360" cy="1295640"/>
          </a:xfrm>
          <a:prstGeom prst="bevel">
            <a:avLst>
              <a:gd name="adj" fmla="val 347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otonic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shold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Threshold region of 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4648320"/>
            <a:ext cx="3276360" cy="1295280"/>
          </a:xfrm>
          <a:prstGeom prst="bevel">
            <a:avLst>
              <a:gd name="adj" fmla="val 347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ng back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ch discri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371600"/>
            <a:ext cx="1447920" cy="380880"/>
          </a:xfrm>
          <a:prstGeom prst="bevel">
            <a:avLst>
              <a:gd name="adj" fmla="val 1406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w Rat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124080"/>
            <a:ext cx="1447920" cy="381240"/>
          </a:xfrm>
          <a:prstGeom prst="bevel">
            <a:avLst>
              <a:gd name="adj" fmla="val 1406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lf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876920"/>
            <a:ext cx="1447920" cy="380880"/>
          </a:xfrm>
          <a:prstGeom prst="bevel">
            <a:avLst>
              <a:gd name="adj" fmla="val 1406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ngback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FD13-BB99-4847-9934-2823FD414A4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0E017-02DE-4CD1-8B83-35599907D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Stim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7000" y="4038840"/>
            <a:ext cx="4115520" cy="3427920"/>
            <a:chOff x="837000" y="4038840"/>
            <a:chExt cx="4115520" cy="3427920"/>
          </a:xfrm>
        </p:grpSpPr>
        <p:grpSp>
          <p:nvGrpSpPr>
            <p:cNvPr id="75" name=""/>
            <p:cNvGrpSpPr/>
            <p:nvPr/>
          </p:nvGrpSpPr>
          <p:grpSpPr>
            <a:xfrm>
              <a:off x="1072080" y="4952160"/>
              <a:ext cx="3569040" cy="1600560"/>
              <a:chOff x="1072080" y="4952160"/>
              <a:chExt cx="3569040" cy="160056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072080" y="4952160"/>
                <a:ext cx="2006280" cy="1600560"/>
                <a:chOff x="1072080" y="4952160"/>
                <a:chExt cx="2006280" cy="160056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1072080" y="4952160"/>
                  <a:ext cx="1224720" cy="1600560"/>
                  <a:chOff x="1072080" y="4952160"/>
                  <a:chExt cx="1224720" cy="160056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V="1">
                    <a:off x="107208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V="1" rot="10800000">
                    <a:off x="1460520" y="5485680"/>
                    <a:ext cx="44712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 flipV="1">
                    <a:off x="185040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 flipV="1" rot="10800000">
                    <a:off x="1461960" y="548568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1853280" y="4952160"/>
                  <a:ext cx="1225080" cy="1600560"/>
                  <a:chOff x="1853280" y="4952160"/>
                  <a:chExt cx="1225080" cy="160056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flipV="1">
                    <a:off x="185328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V="1" rot="10800000">
                    <a:off x="2241720" y="5485680"/>
                    <a:ext cx="44712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flipV="1">
                    <a:off x="263196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 flipV="1" rot="10800000">
                    <a:off x="2243160" y="548568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" name=""/>
              <p:cNvGrpSpPr/>
              <p:nvPr/>
            </p:nvGrpSpPr>
            <p:grpSpPr>
              <a:xfrm>
                <a:off x="2634840" y="4952160"/>
                <a:ext cx="2006280" cy="1600560"/>
                <a:chOff x="2634840" y="4952160"/>
                <a:chExt cx="2006280" cy="16005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2634840" y="4952160"/>
                  <a:ext cx="1224720" cy="1600560"/>
                  <a:chOff x="2634840" y="4952160"/>
                  <a:chExt cx="1224720" cy="1600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flipV="1">
                    <a:off x="263484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 rot="10800000">
                    <a:off x="3023280" y="5485680"/>
                    <a:ext cx="44712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flipV="1">
                    <a:off x="341316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 flipV="1" rot="10800000">
                    <a:off x="3024720" y="548568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3416040" y="4952160"/>
                  <a:ext cx="1225080" cy="1600560"/>
                  <a:chOff x="3416040" y="4952160"/>
                  <a:chExt cx="1225080" cy="160056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 flipV="1">
                    <a:off x="341604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 rot="10800000">
                    <a:off x="3804480" y="5485680"/>
                    <a:ext cx="44712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 flipV="1">
                    <a:off x="4194720" y="495180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flipV="1" rot="10800000">
                    <a:off x="3805920" y="5485680"/>
                    <a:ext cx="446040" cy="10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8" name=""/>
            <p:cNvSpPr/>
            <p:nvPr/>
          </p:nvSpPr>
          <p:spPr>
            <a:xfrm>
              <a:off x="1295280" y="579096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142640" y="4039200"/>
              <a:ext cx="2437920" cy="3427200"/>
              <a:chOff x="1142640" y="4039200"/>
              <a:chExt cx="2437920" cy="3427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142640" y="4039200"/>
                <a:ext cx="1370520" cy="3427200"/>
                <a:chOff x="1142640" y="4039200"/>
                <a:chExt cx="1370520" cy="3427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1142640" y="4039200"/>
                  <a:ext cx="837000" cy="3427200"/>
                  <a:chOff x="1142640" y="4039200"/>
                  <a:chExt cx="837000" cy="34272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V="1">
                    <a:off x="114264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V="1" rot="10800000">
                    <a:off x="140796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 flipV="1">
                    <a:off x="167436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 rot="10800000">
                    <a:off x="140868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1676160" y="4039200"/>
                  <a:ext cx="837000" cy="3427200"/>
                  <a:chOff x="1676160" y="4039200"/>
                  <a:chExt cx="837000" cy="34272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flipV="1">
                    <a:off x="167616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 rot="10800000">
                    <a:off x="194148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flipV="1">
                    <a:off x="220788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 flipV="1" rot="10800000">
                    <a:off x="194220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210040" y="4039200"/>
                <a:ext cx="1370520" cy="3427200"/>
                <a:chOff x="2210040" y="4039200"/>
                <a:chExt cx="1370520" cy="342720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210040" y="4039200"/>
                  <a:ext cx="837000" cy="3427200"/>
                  <a:chOff x="2210040" y="4039200"/>
                  <a:chExt cx="837000" cy="34272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V="1">
                    <a:off x="221004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V="1" rot="10800000">
                    <a:off x="247536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 flipV="1">
                    <a:off x="274176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 flipV="1" rot="10800000">
                    <a:off x="247608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2743560" y="4039200"/>
                  <a:ext cx="837000" cy="3427200"/>
                  <a:chOff x="2743560" y="4039200"/>
                  <a:chExt cx="837000" cy="34272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V="1">
                    <a:off x="274356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V="1" rot="10800000">
                    <a:off x="300888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flipV="1">
                    <a:off x="3275280" y="403920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 flipV="1" rot="10800000">
                    <a:off x="3009600" y="5181840"/>
                    <a:ext cx="304920" cy="2284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5965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596505"/>
                      </a:path>
                    </a:pathLst>
                  </a:custGeom>
                  <a:noFill/>
                  <a:ln w="9360">
                    <a:solidFill>
                      <a:srgbClr val="660033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" name=""/>
            <p:cNvGrpSpPr/>
            <p:nvPr/>
          </p:nvGrpSpPr>
          <p:grpSpPr>
            <a:xfrm>
              <a:off x="3276360" y="4038840"/>
              <a:ext cx="1371240" cy="3427920"/>
              <a:chOff x="3276360" y="4038840"/>
              <a:chExt cx="1371240" cy="34279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76360" y="4038840"/>
                <a:ext cx="837360" cy="3427920"/>
                <a:chOff x="3276360" y="4038840"/>
                <a:chExt cx="837360" cy="3427920"/>
              </a:xfrm>
            </p:grpSpPr>
            <p:sp>
              <p:nvSpPr>
                <p:cNvPr id="124" name=""/>
                <p:cNvSpPr/>
                <p:nvPr/>
              </p:nvSpPr>
              <p:spPr>
                <a:xfrm flipV="1">
                  <a:off x="3276360" y="403884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 rot="10800000">
                  <a:off x="3541680" y="518148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3808440" y="403884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 rot="10800000">
                  <a:off x="3542760" y="518148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10240" y="4038840"/>
                <a:ext cx="837360" cy="3427920"/>
                <a:chOff x="3810240" y="4038840"/>
                <a:chExt cx="837360" cy="3427920"/>
              </a:xfrm>
            </p:grpSpPr>
            <p:sp>
              <p:nvSpPr>
                <p:cNvPr id="129" name=""/>
                <p:cNvSpPr/>
                <p:nvPr/>
              </p:nvSpPr>
              <p:spPr>
                <a:xfrm flipV="1">
                  <a:off x="3810240" y="403884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 rot="10800000">
                  <a:off x="4075560" y="518148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4342320" y="403884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 rot="10800000">
                  <a:off x="4076640" y="5181480"/>
                  <a:ext cx="304920" cy="22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837000" y="5333760"/>
              <a:ext cx="4115520" cy="913680"/>
              <a:chOff x="837000" y="5333760"/>
              <a:chExt cx="4115520" cy="9136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837000" y="5333760"/>
                <a:ext cx="2513880" cy="913680"/>
                <a:chOff x="837000" y="5333760"/>
                <a:chExt cx="2513880" cy="913680"/>
              </a:xfrm>
            </p:grpSpPr>
            <p:sp>
              <p:nvSpPr>
                <p:cNvPr id="135" name=""/>
                <p:cNvSpPr/>
                <p:nvPr/>
              </p:nvSpPr>
              <p:spPr>
                <a:xfrm flipV="1">
                  <a:off x="837000" y="533340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 rot="10800000">
                  <a:off x="1634040" y="563832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2434320" y="533340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 rot="10800000">
                  <a:off x="1637280" y="563832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438640" y="5333760"/>
                <a:ext cx="2513880" cy="913680"/>
                <a:chOff x="2438640" y="5333760"/>
                <a:chExt cx="2513880" cy="913680"/>
              </a:xfrm>
            </p:grpSpPr>
            <p:sp>
              <p:nvSpPr>
                <p:cNvPr id="140" name=""/>
                <p:cNvSpPr/>
                <p:nvPr/>
              </p:nvSpPr>
              <p:spPr>
                <a:xfrm flipV="1">
                  <a:off x="2438640" y="533340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 rot="10800000">
                  <a:off x="3235680" y="5638320"/>
                  <a:ext cx="91692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4035960" y="533340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 rot="10800000">
                  <a:off x="3239280" y="5638320"/>
                  <a:ext cx="91620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96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96505"/>
                    </a:path>
                  </a:pathLst>
                </a:custGeom>
                <a:noFill/>
                <a:ln w="9360">
                  <a:solidFill>
                    <a:srgbClr val="6600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44" name=""/>
          <p:cNvGraphicFramePr/>
          <p:nvPr/>
        </p:nvGraphicFramePr>
        <p:xfrm>
          <a:off x="1371600" y="914400"/>
          <a:ext cx="235728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235728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952880" y="1066680"/>
            <a:ext cx="3276720" cy="1295640"/>
          </a:xfrm>
          <a:prstGeom prst="bevel">
            <a:avLst>
              <a:gd name="adj" fmla="val 347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otonic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shold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Threshold region of 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2743200"/>
          <a:ext cx="2527560" cy="22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743200"/>
                    <a:ext cx="252756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952880" y="3124080"/>
            <a:ext cx="3276720" cy="1295640"/>
          </a:xfrm>
          <a:prstGeom prst="bevel">
            <a:avLst>
              <a:gd name="adj" fmla="val 347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tling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4952880"/>
            <a:ext cx="3276720" cy="1295640"/>
          </a:xfrm>
          <a:prstGeom prst="bevel">
            <a:avLst>
              <a:gd name="adj" fmla="val 3472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 noise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Amplitude r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er supply noise r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ref noise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1676520"/>
            <a:ext cx="1447920" cy="380880"/>
          </a:xfrm>
          <a:prstGeom prst="bevel">
            <a:avLst>
              <a:gd name="adj" fmla="val 1406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lection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352680"/>
            <a:ext cx="1447920" cy="381240"/>
          </a:xfrm>
          <a:prstGeom prst="bevel">
            <a:avLst>
              <a:gd name="adj" fmla="val 1406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tling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724280"/>
            <a:ext cx="1447920" cy="381240"/>
          </a:xfrm>
          <a:prstGeom prst="bevel">
            <a:avLst>
              <a:gd name="adj" fmla="val 1406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5E17-53AB-4691-BBDB-8D43FC2ED64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5B240-5E27-4EDC-9687-8E7314F11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90720" y="838080"/>
            <a:ext cx="7543800" cy="4572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Measuremen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4724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276720"/>
            <a:ext cx="388620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457160" y="952200"/>
            <a:ext cx="457200" cy="381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1676520"/>
            <a:ext cx="457200" cy="45720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2437920" y="2666520"/>
            <a:ext cx="304920" cy="228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90920" y="2133360"/>
            <a:ext cx="0" cy="5331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143000"/>
            <a:ext cx="1904760" cy="53352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336"/>
                </a:moveTo>
                <a:lnTo>
                  <a:pt x="0" y="0"/>
                </a:lnTo>
                <a:lnTo>
                  <a:pt x="1200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14300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371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76440" y="1790640"/>
            <a:ext cx="228600" cy="228600"/>
          </a:xfrm>
          <a:custGeom>
            <a:avLst/>
            <a:gdLst/>
            <a:ahLst/>
            <a:rect l="l" t="t" r="r" b="b"/>
            <a:pathLst>
              <a:path w="1440" h="1200">
                <a:moveTo>
                  <a:pt x="0" y="576"/>
                </a:moveTo>
                <a:lnTo>
                  <a:pt x="384" y="0"/>
                </a:lnTo>
                <a:lnTo>
                  <a:pt x="1104" y="1200"/>
                </a:lnTo>
                <a:lnTo>
                  <a:pt x="1440" y="624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1981080"/>
            <a:ext cx="0" cy="3353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572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1905120"/>
            <a:ext cx="0" cy="34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5720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198108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28640" y="471024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0481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put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190512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71024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562360" y="471024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76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4191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4600" y="2666880"/>
            <a:ext cx="4724280" cy="1295280"/>
            <a:chOff x="2514600" y="2666880"/>
            <a:chExt cx="4724280" cy="1295280"/>
          </a:xfrm>
        </p:grpSpPr>
        <p:sp>
          <p:nvSpPr>
            <p:cNvPr id="179" name=""/>
            <p:cNvSpPr/>
            <p:nvPr/>
          </p:nvSpPr>
          <p:spPr>
            <a:xfrm flipV="1">
              <a:off x="2514600" y="2666880"/>
              <a:ext cx="83808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52680" y="2666880"/>
              <a:ext cx="1523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6560" y="2666880"/>
              <a:ext cx="68580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3962160"/>
              <a:ext cx="1676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438280" y="2057400"/>
            <a:ext cx="4648320" cy="2133720"/>
          </a:xfrm>
          <a:custGeom>
            <a:avLst/>
            <a:gdLst/>
            <a:ahLst/>
            <a:rect l="l" t="t" r="r" b="b"/>
            <a:pathLst>
              <a:path w="2928" h="1344">
                <a:moveTo>
                  <a:pt x="0" y="1344"/>
                </a:moveTo>
                <a:lnTo>
                  <a:pt x="624" y="1344"/>
                </a:lnTo>
                <a:lnTo>
                  <a:pt x="624" y="0"/>
                </a:lnTo>
                <a:lnTo>
                  <a:pt x="1968" y="0"/>
                </a:lnTo>
                <a:lnTo>
                  <a:pt x="1968" y="1344"/>
                </a:lnTo>
                <a:lnTo>
                  <a:pt x="2928" y="13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5486400"/>
            <a:ext cx="75913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00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is not intended to be indicative of any particular semiconductor vend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F8E5-4E52-4649-85CC-64F2ACA7290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1F0A-AF2A-406C-9293-DCB9577384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Slew Rate 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57400" y="4800600"/>
          <a:ext cx="190512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800600"/>
                    <a:ext cx="190512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66680" y="838080"/>
          <a:ext cx="3706920" cy="41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838080"/>
                    <a:ext cx="37069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800600" y="914400"/>
          <a:ext cx="3706920" cy="416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914400"/>
                    <a:ext cx="37069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733920" y="1219320"/>
            <a:ext cx="205740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00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angles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0384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/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2133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371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/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0574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4114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plitu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876920"/>
            <a:ext cx="25905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6600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is driver we can map slew rate vs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AE3B-FAFF-4510-963A-8632219B914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42A75-DFC9-4BDC-9F1E-C0AA9F78B4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with She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90720" y="1143000"/>
            <a:ext cx="7410240" cy="4794120"/>
            <a:chOff x="990720" y="1143000"/>
            <a:chExt cx="7410240" cy="4794120"/>
          </a:xfrm>
        </p:grpSpPr>
        <p:grpSp>
          <p:nvGrpSpPr>
            <p:cNvPr id="201" name=""/>
            <p:cNvGrpSpPr/>
            <p:nvPr/>
          </p:nvGrpSpPr>
          <p:grpSpPr>
            <a:xfrm>
              <a:off x="990720" y="1143000"/>
              <a:ext cx="7410240" cy="4794120"/>
              <a:chOff x="990720" y="1143000"/>
              <a:chExt cx="7410240" cy="479412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1143000"/>
                <a:ext cx="7410240" cy="479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7162920" y="2209680"/>
                <a:ext cx="83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c0128"/>
                    </a:solidFill>
                    <a:latin typeface="Arial"/>
                  </a:rPr>
                  <a:t>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66880" y="441936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9900"/>
                    </a:solidFill>
                    <a:latin typeface="Arial"/>
                  </a:rPr>
                  <a:t>V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66880" y="358128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aeec"/>
                    </a:solidFill>
                    <a:latin typeface="Arial"/>
                  </a:rPr>
                  <a:t>Vtri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819520" y="2133360"/>
              <a:ext cx="5181480" cy="3186000"/>
              <a:chOff x="2819520" y="2133360"/>
              <a:chExt cx="5181480" cy="3186000"/>
            </a:xfrm>
          </p:grpSpPr>
          <p:sp>
            <p:nvSpPr>
              <p:cNvPr id="207" name=""/>
              <p:cNvSpPr/>
              <p:nvPr/>
            </p:nvSpPr>
            <p:spPr>
              <a:xfrm>
                <a:off x="6877080" y="303336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27400" y="213336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Shelf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19520" y="3338280"/>
                <a:ext cx="5181480" cy="1981080"/>
              </a:xfrm>
              <a:custGeom>
                <a:avLst/>
                <a:gdLst/>
                <a:ahLst/>
                <a:rect l="l" t="t" r="r" b="b"/>
                <a:pathLst>
                  <a:path w="3264" h="1248">
                    <a:moveTo>
                      <a:pt x="0" y="1248"/>
                    </a:moveTo>
                    <a:lnTo>
                      <a:pt x="1344" y="1248"/>
                    </a:lnTo>
                    <a:lnTo>
                      <a:pt x="1440" y="624"/>
                    </a:lnTo>
                    <a:lnTo>
                      <a:pt x="1968" y="624"/>
                    </a:lnTo>
                    <a:lnTo>
                      <a:pt x="2064" y="0"/>
                    </a:lnTo>
                    <a:lnTo>
                      <a:pt x="3264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19440" y="4346280"/>
                <a:ext cx="53316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89040" y="410328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Shelf volt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1800" y="2195280"/>
                <a:ext cx="0" cy="213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59080" y="2198520"/>
                <a:ext cx="0" cy="213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69E6-8696-4E4E-A2A7-C27AF94104B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99040-FC65-4D42-A9D0-2976A84E7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Shelving in 3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5712" r="0" b="4288"/>
          <a:stretch/>
        </p:blipFill>
        <p:spPr>
          <a:xfrm>
            <a:off x="990720" y="1066680"/>
            <a:ext cx="5087880" cy="4800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72200" y="2286000"/>
            <a:ext cx="2678040" cy="286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238880" y="1143000"/>
            <a:ext cx="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143000"/>
            <a:ext cx="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9136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 defin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495680"/>
            <a:ext cx="2895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248520" y="4571640"/>
            <a:ext cx="45720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2040" y="57906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lection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2A21-7552-41E7-BB53-ABCC0CBFC76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5C2C4-C270-4953-8F25-AE3DAB330C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5:29:28Z</dcterms:created>
  <dc:creator>Richard Mellitz</dc:creator>
  <dc:description/>
  <dc:language>en-US</dc:language>
  <cp:lastModifiedBy>Richard Mellitz</cp:lastModifiedBy>
  <cp:lastPrinted>1998-04-28T16:47:29Z</cp:lastPrinted>
  <dcterms:modified xsi:type="dcterms:W3CDTF">2000-01-27T23:32:37Z</dcterms:modified>
  <cp:revision>14</cp:revision>
  <dc:subject>IBIS SUMMIT 00</dc:subject>
  <dc:title>Using Statistical Methods to Characterize Receivers to Determine the Applicability of Receiver Modeling Standardization</dc:title>
</cp:coreProperties>
</file>