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735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573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4611240"/>
            <a:ext cx="573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735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2797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71840" y="1904760"/>
            <a:ext cx="2797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4611240"/>
            <a:ext cx="2797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471840" y="4611240"/>
            <a:ext cx="2797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735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184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72120" y="1904760"/>
            <a:ext cx="184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11080" y="1904760"/>
            <a:ext cx="184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4611240"/>
            <a:ext cx="184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72120" y="4611240"/>
            <a:ext cx="184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411080" y="4611240"/>
            <a:ext cx="184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735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57340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735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5734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735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2797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471840" y="1904760"/>
            <a:ext cx="2797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735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4440" y="812880"/>
            <a:ext cx="573552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735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2797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471840" y="1904760"/>
            <a:ext cx="2797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4611240"/>
            <a:ext cx="2797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735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2797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471840" y="1904760"/>
            <a:ext cx="2797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71840" y="4611240"/>
            <a:ext cx="2797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735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2797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471840" y="1904760"/>
            <a:ext cx="2797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4611240"/>
            <a:ext cx="573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735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04760"/>
            <a:ext cx="5734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HYPERLYNX" descr=""/>
          <p:cNvPicPr/>
          <p:nvPr/>
        </p:nvPicPr>
        <p:blipFill>
          <a:blip r:embed="rId2"/>
          <a:stretch/>
        </p:blipFill>
        <p:spPr>
          <a:xfrm>
            <a:off x="3429000" y="7518240"/>
            <a:ext cx="2824200" cy="62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deling Approache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. Lynne Green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yperLynx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5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 vs.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ABLES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EQUATION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5734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SIZE OF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OLATION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 EQUA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ABLES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EQUATION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5734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EN 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KZI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FOR IBIS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ET OF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S LARG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-DEFINED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 HANDLES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AT CAN WE DO?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.  INVESTIG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EQUATION 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 TABLES / EQU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 FOR EQU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SIZE IMPA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ERE ARE WE HEADED?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POI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AB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GER FI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 TIME TO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735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ORST CASE TABLE SIZ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54291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POINT EVERY MILLIVO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V TRANSITION (-2 to +7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 CHARACTERS PER 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 TABLES P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I/O BUFFERS PER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 FILE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5.9 MBYT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5.9 GBYTE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735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ORST CASE MEMORY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54291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25.9 MBYTE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 BYTES STORED PER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9 MBYTE PER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FILES IN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90 MBYTE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57355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ABLE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621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W SMALL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TO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TO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TO SIMU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OR MAN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TO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TO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CHE 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ABLES GROW BIGGER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5734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-I TABLES WI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-T TABLES WITH BO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ABLES + MOR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DEPEND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LOSSY”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DEPEND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PLING MAT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57355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QUATION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SM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D TO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TO LOAD/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TO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ITERATIVE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ON IS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MUST BE SA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57355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QUATION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UNIV. OF WA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FET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Y: &gt;100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MODEL: 8-10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TEST PER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S  &gt;10X F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ROV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URAC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ABLES VS. EQUATION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895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POINTS &amp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TTING BETWEEN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80920" y="1371240"/>
            <a:ext cx="2971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PARAMS &amp;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AT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obr</cp:lastModifiedBy>
  <cp:lastPrinted>2000-01-25T01:45:06Z</cp:lastPrinted>
  <dcterms:modified xsi:type="dcterms:W3CDTF">2000-01-25T02:11:28Z</dcterms:modified>
  <cp:revision>16</cp:revision>
  <dc:subject/>
  <dc:title>Tables vs. Equations Lynne Green HyperLynx Div./PADS Software, Inc.</dc:title>
</cp:coreProperties>
</file>