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C54-FE67-4715-9951-9CAB0774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812-DE7D-436E-9D76-01424AF1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FBD8-9CDF-4C63-AD60-22C4E127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1A5-15FE-4AAD-A8C6-6E08F651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D99-BE94-48F1-A2FF-A5B0D1A0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7C3-50D8-46DA-8674-2EE87B1B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F118-D8FB-46FF-BA42-07FE8226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584C-92FE-4092-B0C0-1C9B5F8B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ACB9-A53E-4F76-A21F-16C460D8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961-4942-456C-B99B-68A6DD47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D7F-2638-45C0-B996-0B239060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66F-E6A1-446D-8ACE-8EF552D5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35E1-21D2-4BD3-BE18-BC16F7DC9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ro extensions for IB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Dav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erLyn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efine Model] Simple_Driver (pin gnd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cal 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source (t1 gnd) V = Rise[T-TR] || Fall[T-T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source (pin t1) R = Rsrc[T-TR] || Rsrc[T-T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trigger T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Logic(control) =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trigger TF (Logic(control)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End Define Mode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] term_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_type Simple_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Ris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n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n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n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Fal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n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n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n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Rsrc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   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n   1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5n 1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n   1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n  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efine Model] Clamped_Driver_with_Cco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inherit Simple_Termi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inherit Simple_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comp (pin gnd) C = C_comp ||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pc (pin power_clamp_ref)C = C_comp_pcl ||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gc (pin gnd_clamp_ref)  C = C_comp_gcl ||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End Define Mode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t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form, pullup, pulldown inte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es Switch [On] [Off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(typ, min, ma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hments (Add Submodel, Driver Schedu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driver Udrv (pin gnd pullup_ref pulldown_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 tf en)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1 = Pullup[-V]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0 = Pulldown[V]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10 = Falling_Waveform[T-TF,*] |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Ramp]dv/dt_f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01 = Rising_Waveform[T-TR,*]  |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Ramp]dv/dt_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1 = Pullup_Reference || Voltage_Rang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0 = Pulldown_Reference || 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trigger  T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Logic(control) =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trigger  T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Logic(control)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correlate strong/weak=max/min Pull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correlate fast/slow=max/min   *Waveform, [Ramp]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ompone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ce: R, L, C, V, I, E,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-Spice extras: vcg, vcr, vc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-Spice: driver, trigger, al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ing: assert, define, export, if, inherit, local, sel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w section [Define Model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opology of a [Model] or [Submodel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is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like IB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c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HDL/Verilog-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he circuit to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iz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efine Model] Simple_Terminator (pin g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wer_clamp_ref gnd_clamp_re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pc   (power_clamp_ref pin) I = Clamp[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gc   (pin gnd_clamp_ref)   I = Clamp[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term (pin gnd)             R = Rterm ||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End Define Mode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] term_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_type Simple_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Rterm]  50  45  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5   900m 800m 110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4   700m 600m  802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3   500m 400m  58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2   300m 200m  48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1   100m  90m  17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.8   60m  50m   9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.7   39m  28m   44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.6   22m  11m   27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.5   10m   0    15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.4    0    0     4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.3    0    0    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     0    0  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efine Model] Simple_Terminator (pin g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wer_clamp_ref gnd_clamp_re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pc   (power_clamp_ref pin) I = Clamp[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gc   (pin gnd_clamp_ref)   I = Clamp[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term (pin gnd)             R = Rterm ||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End Define Mode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efine Model] Simple_Terminator (pin 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wer_clamp_ref gnd_clamp_re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if (!power_clamp_re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cal power_clamp_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pcr (power_clamp_ref gnd) V = PC_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8T19:44:13Z</dcterms:created>
  <dc:creator>Al Davis</dc:creator>
  <dc:description/>
  <dc:language>en-US</dc:language>
  <cp:lastModifiedBy>bobr</cp:lastModifiedBy>
  <cp:lastPrinted>2000-01-29T02:08:17Z</cp:lastPrinted>
  <dcterms:modified xsi:type="dcterms:W3CDTF">2000-02-12T00:15:05Z</dcterms:modified>
  <cp:revision>9</cp:revision>
  <dc:subject/>
  <dc:title>Title goes here</dc:title>
</cp:coreProperties>
</file>