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B66-342D-4A9C-BDDA-D6CF1DDD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028-00D7-4D2A-9B69-4FA6C575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D83-D0C4-48C0-BF42-9834C19B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39F-25DF-4627-8738-EBF7EC44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3FB-10D2-4ED0-95EE-7DE74D00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31F-E85D-4C14-BBE3-B271022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190-ED72-4EC8-8CBE-3C527F9A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2A2-150B-4750-9A40-8555759B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3A1-F238-4146-85D4-4A0E9689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A58-C143-4F67-8BBB-020053C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C76-CFB9-4C3A-A6D4-2DACB6A1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B0A-24CD-4DCA-A76B-974D9B2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AE6-817A-448E-BB9B-A753248D4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ntroduction &amp; Meeting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a Clar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 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, Version 3.2.2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3.2 January 15, 1999 - Forward to ANSI/EIA-656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2.1) Pending,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Con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h #250 IBIS - Info. and User’s Group De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Con99 Brochure 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IBIS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50 on Ref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 Members, 70 Companies, 170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ace-to-Face Sum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30 Company IBIS Model Web Si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&amp;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3.2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 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Model Validation</a:t>
            </a:r>
            <a:br>
              <a:rPr sz="4400"/>
            </a:b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5 - C’s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- Correct Values &amp;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- Follows IBIS Coo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- All Pins, Appropriat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Check (ibischk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(s2iplt, Visual IBIS Edi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Product Loading &amp;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</cp:lastModifiedBy>
  <cp:lastPrinted>1999-01-28T06:14:34Z</cp:lastPrinted>
  <dcterms:modified xsi:type="dcterms:W3CDTF">1999-01-28T06:14:36Z</dcterms:modified>
  <cp:revision>96</cp:revision>
  <dc:subject/>
  <dc:title>IBIS ACCURACY</dc:title>
</cp:coreProperties>
</file>