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5FC1-0516-40A6-8938-98C0365C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A0A-A168-47A1-A11E-4F413B03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5175-3332-4B62-ACA4-D0A5F0F66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D3BF-B37C-4449-93DD-04DC08463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2573-7DDC-4F20-A2CA-A6134A75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55D0-B85C-44B6-A327-664AA264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3D28-1696-42B0-B8ED-548F29C5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2DBC0-27FE-4F77-BBA0-9FB70AC9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D921-0A0D-4B8C-A235-0293B5E6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DC31-868B-42C1-BC9E-0C95AB96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B79-6EE0-42DD-809A-CF20B44F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E3C-9C92-430C-82D5-11AD6F8B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98E2-4CD1-400E-8C7A-C31F1CB2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744A-88D8-46D0-B072-AA04EC10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7165-E9B4-4147-93C0-A92D4886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35788-57AB-4461-9D1B-075EFAB7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B37C-17A3-455B-BE9D-11619A32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BB8A-AD41-43C7-BB3F-B0C81ED6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BFEE-E72C-493E-AC84-E94B520C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F506-AB88-4464-8CFE-FCF4E616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7780-179A-4139-B04A-7BF9E09F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6BD-DA54-499A-905D-C01C66F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8D46-7540-4150-B0CB-4C8679A6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5965-464F-4643-A3D1-8DC9A21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EDF4-92B4-4A5F-8AC6-CBA9105E79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A9C5C-8F4E-456B-8153-7552E1F867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idation of EIAJ IMIC Model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Raj Raghu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plied Simulation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BIS Summit Feb. 1, 199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w is the IMIC model mad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use SPICE to do i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DC sweep printing capacitors and I at each ste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sure RD,RS, RSH =0 in doing the r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Generic SPICE have to do a number of runs - a AC analysis at each step or operating point to get capaci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IC model viable SPICE-like alternative with proprietary information prot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has been done for different loads with two different devices. Waveforms from the IMIC model and original SPICE model overlay quite w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IMIC and Int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 of IM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Proced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for MC74LCX2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for TI 16233.cb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lus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alidation Procedur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d driver with SPICE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rt the .model statement to and equivalent  Table .model stat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 the circuit with original model for different l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un the circuit with Table .model for different loads and compare with abo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xample 1: Motorola 74LCX24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 Voltage CMOS Octal Transcei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V supply u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istate non-inverting outp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ns are Oebar, T/R, A0-A7, and B0-B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ckage model is just an induc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 mA driving capabi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lse with 1ns tr, 1ns delay, and 9ns wid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C74LCX245 with 500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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F load to 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74880" y="293688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96040" y="54514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52120" y="2479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5200" y="236232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(5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I500C_GD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003400" y="2963880"/>
            <a:ext cx="6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92000" y="21747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1800" y="3314880"/>
            <a:ext cx="8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C74LCX245 with 50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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load to groun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28240" y="2784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57800" y="5527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18600" y="28605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19520" y="2479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(5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4" name="I50_GND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67400" y="26319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44280" y="28605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1040" y="30891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C74LCX245 with 50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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load to VC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8240" y="27846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05520" y="5527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94920" y="23274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8880" y="26668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(5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34" name="I50_VCC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967400" y="26319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15680" y="2098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1040" y="30891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C74LCX245 with 500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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load at the end of a 50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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s Tlin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51920" y="286056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00600" y="53751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66320" y="2251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19520" y="247968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(5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44" name="I_TLINE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967400" y="2556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92000" y="217476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4720" y="30891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233.cbt with a 5 pf- 1 k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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load at the end of 65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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s Tlin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95360" y="1981080"/>
          <a:ext cx="6351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5360" y="1981080"/>
                    <a:ext cx="6351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4874400" y="20574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imes New Roman"/>
              </a:rPr>
              <a:t>IMIC model from ASP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74400" y="220968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imes New Roman"/>
              </a:rPr>
              <a:t>IMIC model from HSP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3680" y="2362320"/>
            <a:ext cx="184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Times New Roman"/>
              </a:rPr>
              <a:t>Original BSIM1 mod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509120" y="32418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Vol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00600" y="5603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imes New Roman"/>
              </a:rPr>
              <a:t>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4T00:51:34Z</dcterms:created>
  <dc:creator>Denise E. Day</dc:creator>
  <dc:description/>
  <dc:language>en-US</dc:language>
  <cp:lastModifiedBy>Denise E. Day</cp:lastModifiedBy>
  <cp:lastPrinted>1999-02-01T04:07:26Z</cp:lastPrinted>
  <dcterms:modified xsi:type="dcterms:W3CDTF">1999-02-01T05:01:56Z</dcterms:modified>
  <cp:revision>8</cp:revision>
  <dc:subject/>
  <dc:title>Validation of EIAJ IMIC Models </dc:title>
</cp:coreProperties>
</file>