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EECE-D15C-49C5-A9CE-B38C249B0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31BA-2E40-4260-AB25-2F20812F2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ECD2-D50F-4387-86B3-E630D8C9B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F136-D239-4592-9297-26BB15A5F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C106-51A6-4745-893F-D81D12014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D19A-A8A0-470B-9AE8-C2760F25A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A160-B95C-488D-AEAB-DCF6F7F9E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1702-8757-406B-954F-01054EC54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2F8E-B824-4BDF-88D6-A9031192F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DD7C-741C-4F6F-BB9E-A67255A53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7B19-D1D0-4C74-BFD8-D9A15524D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4228-39CC-4192-B487-A619EFD96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/25/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BIS Open Forum Summ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44544-EE19-4029-9BE3-8737D7D023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BIS Futur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oughts on where we are, and were we need to 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ephen Peters - Intel Cor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ice Chair, EIA/IBIS Open For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5600" y="600120"/>
          <a:ext cx="2158920" cy="185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5600" y="600120"/>
                    <a:ext cx="2158920" cy="185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we do we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 a single buffer/receiver in iso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/V - V/T great for CMOS/TTL/E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Driver Schedule] expands methodology to controlled rise time parts (GTL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s hold, etc. now available for rece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 a Pad to Pin connec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BD and Enhanced packages model complex pat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s long as you don’t want coup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we don’t do so well (or at all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 Multiple buffers switc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SO effects due to pin to pin cou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SO effects due to power/gnd rail bou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 description of  Lossy Transmission Lin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 matrix and/or frequency dependent loss needed for .ebd and enhanced .pkg fi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 effects of non ideal ground return pat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needed capability in the next generation simul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y Are These Important Now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y Fast Processor Buss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ing budgets are super tight, can’t just ‘guestimate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urce Synchronous Sign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fects previously “2nd Order” now domin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kew due to gnd/pwr bounce eff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kew due to ground return paths and lo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rosstalk (both package and board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BIS and The SSO Problem(s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Pin Mapping] is a start, but it is not comple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’t really include on-die capaci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fort involved to abstract complex package power distribution into simple (fixed) R/L/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in to Pin coupl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lm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re. .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ll board extraction not always appropriate for pack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 may lend itself to ‘regular’ 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 a champi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ome Thoughts and Observ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y for SSO modeling is to make buffer pwr/gnd nodes available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IC is interesting, but it doesn’t use standard I/V - V/T description of buf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Add Submodel] keyword has lots of possibil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BIS file provides the shell, but submodel becomes a group of buffer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cription of buffer imbeds package descrip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02T16:59:49Z</dcterms:created>
  <dc:creator>MD6 Engineering Computing</dc:creator>
  <dc:description/>
  <dc:language>en-US</dc:language>
  <cp:lastModifiedBy>MD6 Engineering Computing</cp:lastModifiedBy>
  <dcterms:modified xsi:type="dcterms:W3CDTF">1999-01-25T17:27:16Z</dcterms:modified>
  <cp:revision>12</cp:revision>
  <dc:subject/>
  <dc:title>IBIS Version 3.1 - Update</dc:title>
</cp:coreProperties>
</file>