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Version 3.2 -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the 1999 IBIS Open Forum Sum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en Peters - Vice Chair, EIA/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5600" y="600120"/>
            <a:ext cx="21844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Enhanced Packag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line description added to .pk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race divided int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ction described as a lumped or distributed element (i.e. transmission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(fork, endfork)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pling only supported for pi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describing PGA and BGA pad to pin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Enhanced Package Descrip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Board Description (.ebd)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bd file describes path between IC(s) mounted on a circuit board and external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s described as lumped elements or uncoupled transmissio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oupling is desired use a physical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bd files directly supports Pentium® II Processor cartridg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Ahead For I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or models (coupled and uncoupled) are in th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dd Submodel] can be a path for general purpos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odel can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merge or incorporation with IMIC standard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BIS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spec ratified at Jan. 1999 phone con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en Parser complete and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website: http://www.eia.org/EIG/IBIS/ibi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3.2 going for ANSI-EIA 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known at ANSI-EIA 65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- IBIS 2.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O described with I/V curves and V/T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support for GTL+ 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re were limitation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elements could not be described in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dequate for multi-stage I/O and cartridge packag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limited to lumped L/R/C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3.2 Enhancement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basic areas we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Support for additional devi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(2 pin) devices, terminators, bu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 Extended model specs and simulation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back and hysteresis specs, model se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Support for advanced driver/receiver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taged outputs, bus hold, dynamic cl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- Enhanced package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line package stubs, .eb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Additional Device Typ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passive (2 pin)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eries Pin Mapping] keyword allows pin to pin m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’ model type is added to [Model]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w describe series R/L/C, Lc, Rc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eries Current] keyword describes diode I/V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erminati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‘Terminator’ model type to [Model]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model terminator packs (including 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Additional Device Typ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FET bus switches (Quickswi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_switch’ model typ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n], [Off] keyword added to describ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tate uses [Series MOSFET] keyword  to describe I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 state model falls back to series R (very high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eries Switch Groups] allows user to describe functionality of a crossbar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 Extended Model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back/Hysteresis/Immunity limit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specifies both static and dynamic overshoot/undershoot with [Model Spec]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Pentium® Pro processor specing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odel Selector] keyword for swapping in and ou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model can be mapped to a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(thru simulator I/F) selects which model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Advanced Driver Technolo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3.2 can directly model multi-stag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river Schedule] allows user to switch in/out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GTL+  PMOS k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support for diode transient tim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supplies a ‘transit time’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[GND clamp] or [Power Clamp] curves on IC input to model diode kickb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Advanced Driver Tech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3.2 introduces [Add Submodel]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top level [Model] to call out additional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defined submode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_clamp - switch on and off extra clamp t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_Hold - switch on or off extra output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r Schedule will most likely mov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D6 Engineering Computing</dc:creator>
  <dc:description/>
  <dc:language>en-US</dc:language>
  <cp:lastModifiedBy>MD6 Engineering Computing</cp:lastModifiedBy>
  <cp:revision>0</cp:revision>
  <dc:subject/>
  <dc:title>IBIS Version 3.1 - Update</dc:title>
</cp:coreProperties>
</file>