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414141"/>
                </a:gs>
                <a:gs pos="50000">
                  <a:srgbClr val="00dfca"/>
                </a:gs>
                <a:gs pos="100000">
                  <a:srgbClr val="414141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414141"/>
                </a:gs>
                <a:gs pos="50000">
                  <a:srgbClr val="d989b8"/>
                </a:gs>
                <a:gs pos="100000">
                  <a:srgbClr val="414141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BIRD42.3 Algorithm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Bob Ross, Interconnectix B.U., Mento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European IBIS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February 26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BIS Version 2.1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9160" y="1690560"/>
            <a:ext cx="89186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BIRD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[Rising Waveform] or [Falling Wave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V_fixture, R_Fixture, etc. (subparame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... (V/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[Pullup Reference Current]  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...(I/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[Pulldown Reference Current]  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...(I/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BIRD42.3 Enhancemen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6680" y="1719360"/>
            <a:ext cx="88264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BIRD42.3 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Waveform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Correctio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Redundant Cases (Choose 1 Cur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Waveform + Pullup Ref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Waveform + Pulldown Ref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One &amp; Two Waveform Considerations</a:t>
            </a:r>
            <a:r>
              <a:rPr b="0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V1, V1 &amp; V2, V1-I1, ..., V1-I1 &amp; V2-I2</a:t>
            </a: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alculation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0840" y="1719360"/>
            <a:ext cx="8874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BIRD42.3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Current Table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Spice (measurement diffic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Numerical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Open_* and *_ECL_*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Different Fixture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0, Vcc for V1, V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Vcc/2 for V1, 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  <a:ea typeface="Arial"/>
              </a:rPr>
              <a:t>Non-modeled Current Sp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rrelb</cp:lastModifiedBy>
  <cp:revision>0</cp:revision>
  <dc:subject/>
  <dc:title>IBIS ACCURACY</dc:title>
</cp:coreProperties>
</file>