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df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989b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elcome, IBI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b Ross, Interconnectix B.U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o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uropean IBIS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bruary 26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IA IBIS Open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3 Members, Participation is OPEN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lephone Meetings Every 3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BIS Summits (2 + European IBIS Sum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change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ussion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tification of IBIS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BIS and IBIS-Users Reflectors ~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b Site and FTP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Ver1.1 - Core Model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6/93 - 8/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7240" y="1911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nents (pinout) and Models (elect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MOS/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l_types Input, Output, 3-state, I/O, Open_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lup, Pulldown, Gnd_Clamp, Power_Clamp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mp dV/dt_r, dV/dt_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_comp and L_pkg, R_pkg, C_p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-Min-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xed Conditions for Temp, Load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Ver2.1- Practical Extensions 6/94 - 12/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320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l_types I/O_open_* for GTL,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CL (ECL, PE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 Power Rails (ECL, Interface Dri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fferential Pins (Clo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n Mapping (Ground, Power bou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rmina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ckage Model Extensions (Cou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ture, Load R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veform Tables (Accuracy, Slew Rat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ing Test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Ver3.0 - More Extensions 6/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iver Selection (Processors 3.3/5V, Streng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ode Stored Charge (Diode Kick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ckage Model Extensions (Sections,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ctrical Board Description (SIMMs, Bo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ltistage Drivers (Newer Archit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fications (Overshoots, typ, min, max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es Elements &amp; Serie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nternational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IS Version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IF 4 0 0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EC 62014-1, ANSI/EIA-6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IAJ: I/O Interface Model for Integrated Circuits (III),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C: IBIS Modeling and EMC Simulation Committee (formerly 93/60/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rrent IBIS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ion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itorial Correction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RDs 42.3, 45.1,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bischk2+, ibischk3 Pars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A Vendor Model Review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2ibis2, s2ibis3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BIS East User’s Group Accuracy,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relb</cp:lastModifiedBy>
  <cp:revision>0</cp:revision>
  <dc:subject/>
  <dc:title>IBIS ACCURACY</dc:title>
</cp:coreProperties>
</file>