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0760" y="0"/>
            <a:ext cx="3160800" cy="684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3036960" y="2286000"/>
            <a:ext cx="2525760" cy="289548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 txBox="1"/>
          <p:nvPr/>
        </p:nvSpPr>
        <p:spPr>
          <a:xfrm>
            <a:off x="747720" y="531720"/>
            <a:ext cx="7194600" cy="17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BIS Model Developm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@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tional Semiconductor Corp, U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84360" y="63993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746440" y="5310360"/>
            <a:ext cx="3498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ed B. Hu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q@rockie.ns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 Semiconductor Corp, U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ational and IBIS fo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BIS models on the W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ational’s IBIS Intra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s used for Model gen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odel validation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BIS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National and IBIS for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2057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BIS since 19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2.1 development(Diff I/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tive participation in Forum activ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econ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C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Con/IBIS Summit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sted summit meetings 1996, 1997 &amp; 199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ice-Chair and Webmaster for ANSI/EIA-6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8380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IBIS models on the We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6320" y="1295280"/>
            <a:ext cx="30481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ww.national.com/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lick on ‘IBIS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lock generation &amp;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ata Acq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uperI/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RAM controll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TC(Real Time Controlle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lecom(coming soon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or model request, send E-m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uq@rockie.ns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48120" y="1066680"/>
            <a:ext cx="5867280" cy="5410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160800" y="1219320"/>
            <a:ext cx="56786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838080" y="457200"/>
            <a:ext cx="7772400" cy="5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IBIS Intra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52280" y="2057400"/>
            <a:ext cx="2666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t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Q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SC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ining Gu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rs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71800" y="1295280"/>
            <a:ext cx="6019920" cy="5181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048120" y="1400040"/>
            <a:ext cx="586728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Tools used for model gene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s2ibis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NCSU share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SPICE or Spectre to IBIS con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ns2ib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Modified NCSU share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SPICE(internal)-to-IBIS conversion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Measurement based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Model valid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isual insp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2iplt ver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rser test(ibischk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odel simulated under known l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wo different simulators used for vali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pare model simulation data to Bench/SPICE 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dge rates, signal swing levels ver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IBIS sup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2.1 models available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3.1 model will be provided based on V3.1 parser rele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Logic, Memory and Discret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fairchildsemi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yed Huq</dc:creator>
  <dc:description/>
  <dc:language>en-US</dc:language>
  <cp:lastModifiedBy>Syed Huq</cp:lastModifiedBy>
  <cp:revision>0</cp:revision>
  <dc:subject/>
  <dc:title>No Slide Title</dc:title>
</cp:coreProperties>
</file>