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048440" y="6197760"/>
            <a:ext cx="1917720" cy="6271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260280" y="228600"/>
            <a:ext cx="8629560" cy="0"/>
          </a:xfrm>
          <a:prstGeom prst="line">
            <a:avLst/>
          </a:prstGeom>
          <a:ln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43000" y="6400800"/>
            <a:ext cx="6780240" cy="0"/>
          </a:xfrm>
          <a:prstGeom prst="line">
            <a:avLst/>
          </a:prstGeom>
          <a:ln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3487680" y="6378480"/>
            <a:ext cx="217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ww.mentor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1120" y="2281320"/>
            <a:ext cx="778176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I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CE vs.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 Dagost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1120" y="604800"/>
            <a:ext cx="778176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T74FCT1622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14360" y="1981080"/>
            <a:ext cx="65278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1120" y="604800"/>
            <a:ext cx="778176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VCH162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2311560"/>
            <a:ext cx="77850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1120" y="604800"/>
            <a:ext cx="778176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VCH162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49600" y="1981080"/>
            <a:ext cx="56563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1120" y="604800"/>
            <a:ext cx="778176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VCH162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27240" y="1981080"/>
            <a:ext cx="67024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1120" y="604800"/>
            <a:ext cx="778176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VT16245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00240" y="1981080"/>
            <a:ext cx="49546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1120" y="604800"/>
            <a:ext cx="778176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VT16245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24120" y="1981080"/>
            <a:ext cx="55069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1120" y="604800"/>
            <a:ext cx="778176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T2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2720" y="1981080"/>
            <a:ext cx="50515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1120" y="604800"/>
            <a:ext cx="778176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T2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306440" y="1981080"/>
            <a:ext cx="65419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1120" y="604800"/>
            <a:ext cx="778176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ly downloaded files that matched examples Zeelan has already mode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was not a big research project to prove a point, these are not selecte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focused on VI Low Characte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1120" y="604800"/>
            <a:ext cx="778176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T49FCT8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3840" y="1981080"/>
            <a:ext cx="65689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1120" y="604800"/>
            <a:ext cx="778176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T49FCT8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49440" y="1981080"/>
            <a:ext cx="60562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1120" y="604800"/>
            <a:ext cx="778176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T49FCT8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33680" y="1981080"/>
            <a:ext cx="58896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1120" y="604800"/>
            <a:ext cx="778176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T74FCT2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3452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1120" y="604800"/>
            <a:ext cx="778176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T74FCT2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22360" y="1981080"/>
            <a:ext cx="63118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1120" y="604800"/>
            <a:ext cx="778176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T74FCT1622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44720" y="1981080"/>
            <a:ext cx="526716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1120" y="604800"/>
            <a:ext cx="778176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T74FCT1622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31840" y="1981080"/>
            <a:ext cx="50911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 Dagostino</dc:creator>
  <dc:description/>
  <dc:language>en-US</dc:language>
  <cp:lastModifiedBy>bob</cp:lastModifiedBy>
  <cp:revision>0</cp:revision>
  <dc:subject/>
  <dc:title>IBIS Models</dc:title>
</cp:coreProperties>
</file>