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B00A-30CB-4A87-B247-A5E88F67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520" y="421488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55A7-0384-459F-9B89-6ABC696A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520" y="421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3920" y="421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D91F-B687-43F5-B395-A8B4E564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9760" y="187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6640" y="187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520" y="421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9760" y="421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6640" y="421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8631-02CF-497C-996E-B0D63ECB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82520" y="59328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520" y="421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2F2C-4BAC-4462-8DE0-19DF9562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33920" y="421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520" y="421488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82520" y="421488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82520" y="421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33920" y="421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19760" y="187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56640" y="187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82520" y="421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19760" y="421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56640" y="421488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8B07-B5AA-4DE0-8373-0D91B39E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5562-540C-41E6-8A83-607D1CC7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6D01-0EB7-4516-ABF7-9196997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520" y="59328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5BC2-9443-4F73-A6E5-F9ED347B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520" y="421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C122-8AC4-4877-A416-E435D426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3920" y="421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C822-351D-4FA6-A153-8A7B6804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3920" y="187488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520" y="421488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E07C-AB6B-4E46-B93A-15797908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3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3480" indent="-1731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16344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74680" y="549360"/>
            <a:ext cx="859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2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18216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2968-90F6-4236-A124-157D979654B0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554120" y="6537240"/>
            <a:ext cx="594360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Case Study – IBM 15G IBIS-AMI Model using Dependency T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>
          <a:xfrm>
            <a:off x="549000" y="6537240"/>
            <a:ext cx="100476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280360" y="227160"/>
            <a:ext cx="588960" cy="236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6858000" y="176040"/>
            <a:ext cx="127944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blurred cityscape image"/>
          <p:cNvPicPr/>
          <p:nvPr/>
        </p:nvPicPr>
        <p:blipFill>
          <a:blip r:embed="rId2"/>
          <a:stretch/>
        </p:blipFill>
        <p:spPr>
          <a:xfrm>
            <a:off x="274680" y="3665520"/>
            <a:ext cx="8593200" cy="2230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964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680" y="1050840"/>
            <a:ext cx="859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2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80360" y="684360"/>
            <a:ext cx="588960" cy="2365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274680" y="3665520"/>
            <a:ext cx="8594640" cy="2233440"/>
            <a:chOff x="274680" y="3665520"/>
            <a:chExt cx="8594640" cy="2233440"/>
          </a:xfrm>
        </p:grpSpPr>
        <p:sp>
          <p:nvSpPr>
            <p:cNvPr id="51" name=""/>
            <p:cNvSpPr/>
            <p:nvPr/>
          </p:nvSpPr>
          <p:spPr>
            <a:xfrm>
              <a:off x="274680" y="3665520"/>
              <a:ext cx="135612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550040"/>
              <a:ext cx="1356120" cy="46116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4680" y="5439240"/>
              <a:ext cx="42516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12840" y="3665520"/>
              <a:ext cx="135612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12840" y="4550040"/>
              <a:ext cx="1356120" cy="46116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44160" y="5439240"/>
              <a:ext cx="42516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84400" y="3665520"/>
              <a:ext cx="4523760" cy="459720"/>
            </a:xfrm>
            <a:custGeom>
              <a:avLst/>
              <a:gdLst/>
              <a:ahLst/>
              <a:rect l="l" t="t" r="r" b="b"/>
              <a:pathLst>
                <a:path w="2880" h="288">
                  <a:moveTo>
                    <a:pt x="0" y="0"/>
                  </a:moveTo>
                  <a:lnTo>
                    <a:pt x="0" y="288"/>
                  </a:lnTo>
                  <a:lnTo>
                    <a:pt x="2880" y="288"/>
                  </a:lnTo>
                  <a:lnTo>
                    <a:pt x="2838" y="256"/>
                  </a:lnTo>
                  <a:cubicBezTo>
                    <a:pt x="2838" y="256"/>
                    <a:pt x="2728" y="169"/>
                    <a:pt x="2660" y="134"/>
                  </a:cubicBezTo>
                  <a:cubicBezTo>
                    <a:pt x="2592" y="99"/>
                    <a:pt x="2502" y="67"/>
                    <a:pt x="2430" y="46"/>
                  </a:cubicBezTo>
                  <a:cubicBezTo>
                    <a:pt x="2358" y="25"/>
                    <a:pt x="2283" y="18"/>
                    <a:pt x="2230" y="10"/>
                  </a:cubicBez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4400" y="4550040"/>
              <a:ext cx="5017320" cy="46440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0"/>
                  </a:moveTo>
                  <a:lnTo>
                    <a:pt x="0" y="288"/>
                  </a:lnTo>
                  <a:lnTo>
                    <a:pt x="3194" y="290"/>
                  </a:lnTo>
                  <a:lnTo>
                    <a:pt x="3188" y="256"/>
                  </a:lnTo>
                  <a:cubicBezTo>
                    <a:pt x="3182" y="232"/>
                    <a:pt x="3172" y="183"/>
                    <a:pt x="3160" y="146"/>
                  </a:cubicBezTo>
                  <a:cubicBezTo>
                    <a:pt x="3146" y="103"/>
                    <a:pt x="3128" y="58"/>
                    <a:pt x="3118" y="34"/>
                  </a:cubicBezTo>
                  <a:lnTo>
                    <a:pt x="310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04560" y="5436000"/>
              <a:ext cx="1447560" cy="46296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290"/>
                  </a:moveTo>
                  <a:lnTo>
                    <a:pt x="0" y="2"/>
                  </a:lnTo>
                  <a:lnTo>
                    <a:pt x="3194" y="0"/>
                  </a:lnTo>
                  <a:lnTo>
                    <a:pt x="3176" y="156"/>
                  </a:lnTo>
                  <a:cubicBezTo>
                    <a:pt x="3169" y="198"/>
                    <a:pt x="3162" y="232"/>
                    <a:pt x="3150" y="254"/>
                  </a:cubicBezTo>
                  <a:lnTo>
                    <a:pt x="314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88720" y="5439240"/>
              <a:ext cx="135648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043840" y="411120"/>
            <a:ext cx="917640" cy="231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32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392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3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3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160" y="1417320"/>
            <a:ext cx="8766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se Study: IBM 15Gb IBIS-AMI Model using Dependency Tables</a:t>
            </a:r>
            <a:br>
              <a:rPr sz="35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ge Hawes, IBM; Walter Katz, SiSof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527040"/>
            <a:ext cx="776916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Con IBIS Summit, Santa Clara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2 Feb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Variable substitution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ly brackets indicate variable sub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save space where parameter filenames are 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y tables can prepare variables for sub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stonefil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sage Info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ype Str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Value "hss15c2c/cu032/{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rxcorn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{</a:t>
            </a:r>
            <a:r>
              <a:rPr b="0" lang="en-US" sz="1400" spc="-1" strike="noStrike">
                <a:solidFill>
                  <a:srgbClr val="99cc00"/>
                </a:solidFill>
                <a:latin typeface="Courier New"/>
              </a:rPr>
              <a:t>VT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negzen{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neg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gain_dec{</a:t>
            </a:r>
            <a:r>
              <a:rPr b="0" lang="en-US" sz="1400" spc="-1" strike="noStrike">
                <a:solidFill>
                  <a:srgbClr val="99cc00"/>
                </a:solidFill>
                <a:latin typeface="Courier New"/>
              </a:rPr>
              <a:t>gain_de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peak_dec0_norm.s4p"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hss15c2c/cu032/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c</a:t>
            </a: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AVTR1_0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gzen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ain_dec</a:t>
            </a: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25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ak_dec0_norm.s4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ly brackets banned from normal variable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78160" y="4068720"/>
            <a:ext cx="27288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17880" y="4068720"/>
            <a:ext cx="45720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297320" y="4068720"/>
            <a:ext cx="45720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578560" y="4068720"/>
            <a:ext cx="91440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F5B0-5F60-4496-980F-FD1B27A882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Example variable substitution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520" y="1325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VTRV (Usage Info) (Type St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AVTR name string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"AVTR0_95" "AVTR1" "AVTR1_05" "AVTR1_08" "AVTR1_1" "AVTR1_26" "AVTR1_2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VTRV_Dependency_Table (Usage Info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Type        String      Float   String    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Labels "rxcorner In" "VTR In" "VTRV Out_Match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    "nc"       1.05    "AVTR1_05"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    "bc"       1.05    "AVTR1_08"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    "wc"       1.05    "AVTR1"   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    "ec"       1.05    "AVTR0_95"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    "nc"       1.20    "AVTR1_2" 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    "bc"       1.20    "AVTR1_26"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    "wc"       1.20    "AVTR1_1" 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    "ec"       1.20    "AVTR1_05"      )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gain_d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Type St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Gain value string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"0" "255" "65535"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gain_dec_Dependency_Table (Usage Inf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Type       String    String      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Labels "gain In" "gain_dec Out_Match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"min"     "0"           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"mid"     "255"              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(       "max"     "65535"             )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Tstonefile (Usage Info) (Type St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Value "hss15c2c/cu032/{rxcorner}{VTRV}negzen{negz}gain_dec{gain_dec}peak_dec0_norm.s4p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BF5B-0A07-49FB-9021-7727BCBFDA4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Other "modern" parameters in IBM 15G C2C configuration file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stonefile/Rx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die s-parameters called up by ami confi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LL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to tx/rx 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porting_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SSCDR executables, data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L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ultiple in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s extra information about user-selectabl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6596-A7A9-4F24-92A5-276CBB303A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odels have outgrown simple AMI configuration – and it's only going to get more compli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15G backplane (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28G 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y tables allow selection based on othe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substitution allows filenames to be automatically cho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st configuration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is 100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figur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4423-66F0-4891-B620-56D3AC50D9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The IBM 15Gb Chip-to-Chip (C2C) Core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-chip only (lower c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032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0 Gb operation (12.5Gb for 1.05v termination volt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FFE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DFE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Peaking (15 filter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EF3B-007B-4224-AC33-2331084B9B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The IBM 15Gb Chip-to-Chip (C2C) Core – User settings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520" y="105048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Cor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inal, Best, Worst, Ext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on Voltage (2 sett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0V 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 1.05V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GZ control (2 sett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s i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stronger level of pea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Limi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sett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FE limit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1667 noise integration bandwidth (2 sett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ifferent Rx RJ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 coupling (2 sett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 or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in (3 sett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s characteristics of AGC gain, different on-die S-parameters and peaking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 power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0 support files covering all combi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3650-B9F1-4066-A9D6-31CCD9A6AF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AMI configuration - conventional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ersions of "Corner"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m, Best, Worst) &amp; (Nom, Best, Extre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ersions for VTT/V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5V and 1.2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ersions for NEGZ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versions for "gain"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, min,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versions for H1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ersions for RJ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hap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MI configuration files to choose from, 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TR1_05</a:t>
            </a:r>
            <a:r>
              <a:rPr b="0" lang="en-US" sz="1800" spc="-1" strike="noStrike">
                <a:solidFill>
                  <a:srgbClr val="71bfa7"/>
                </a:solidFill>
                <a:latin typeface="Courier New"/>
              </a:rPr>
              <a:t>NEGZ0</a:t>
            </a:r>
            <a:r>
              <a:rPr b="0" lang="en-US" sz="1800" spc="-1" strike="noStrike">
                <a:solidFill>
                  <a:srgbClr val="9900cc"/>
                </a:solidFill>
                <a:latin typeface="Courier New"/>
              </a:rPr>
              <a:t>mid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H10</a:t>
            </a:r>
            <a:r>
              <a:rPr b="0" lang="en-US" sz="1800" spc="-1" strike="noStrike">
                <a:solidFill>
                  <a:srgbClr val="99cc00"/>
                </a:solidFill>
                <a:latin typeface="Courier New"/>
              </a:rPr>
              <a:t>FC0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C0D8-D080-46D5-AB09-16C9FDF9E1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Dependency Tables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parameter values to be dependent on user selection of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d by the EDA tool befor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the number of corners that may be sim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t conditions can have multiple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more than one variable can b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substitution can reduce tabl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stically reduces the number of configuration fil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BIRD 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35F7-0822-40AE-B263-367245BC8C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AMI Configuration using Dependency Tables: User Variables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160" y="1874880"/>
            <a:ext cx="39322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xcorn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Type String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Tx Corners"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"nc" "wc" "bc" "ec"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m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Type St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Coupling mode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"ac" "dc"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T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Type Floa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Transmitter terminal voltage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1.05 1.20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xp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Type Integ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Tx power register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Range 60 32 6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06960" y="1874880"/>
            <a:ext cx="4937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xcorn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(Type St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Corners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"nc" "wc" "bc" "ec"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a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(Type St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S-parameter gain settings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"mid" "min" "max"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g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(Type Integ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NEGZEN bit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0 1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T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(Type Floa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Receiver terminal voltage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1.05 1.20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1lim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(Type Integ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DFE H1 Limit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Range 3 0 7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c16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Usage Info)(Type Integ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Description "Fc/1667 (6Mz) noise integration bandwidth"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(List 0 1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A55B-E148-48C2-AE6F-2E21E0B1A8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IBM 15G C2C Dependencies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ter Voltag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L relationship to TXPOW user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r, mode, VTT/V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die S-parameters (Tx/R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r, gain, NEGZ, VTT/V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ing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r, gain, VTR, NE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r, V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or Line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r, VTR, baud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366F-BE08-4860-A9FF-D21EC165A6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AGC Dependency Table example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520" y="187488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x_AGC_Dependency_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Usage Info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ype String Float Float Float Float Floa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Labels "rxcorner In" "VTR In" "RX_Receiver_Sensitivity Out_Range" "agcmax Out_Range" "agcmin Out_Range" "agclev Out_Range"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"ec" 1.05 0.018 1.460 0.293 0.24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"wc" 1.05 0.016 1.490 0.285 0.26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"nc" 1.05 0.013 1.338 0.258 0.26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"bc" 1.05 0.015 1.220 0.241 0.28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"ec" 1.20 0.019 1.567 0.292 0.216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"wc" 1.20 0.018 1.607 0.292 0.226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"nc" 1.20 0.016 1.464 0.271 0.24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"bc" 1.20 0.012 1.330 0.256 0.26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5971-B3B7-4E78-8060-1048FC8138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Rx IC and Peaking Dependency Table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05048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rx_Dependency_Tabl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(Usage Info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(Type   String String Integer Float String String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(Tabl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Courier New"/>
              </a:rPr>
              <a:t>(Labels "rxcorner In" "gain In" "negz In" "VTR In" "Tstonefile Out_Range" "rxcte Out_Range"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id" 0 1.05 ".../ncAVTR1_05negzen0gain_dec255peak_dec0_norm.s4p"   ".../ic_rx_ncAVTR1_05negzen0gain_dec255.cte.ami"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id" 0 1.20 ".../ncAVTR1_2negzen0gain_dec255peak_dec0_norm.s4p"    ".../ic_rx_ncAVTR1_2negzen0gain_dec255.cte.ami"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id" 0 1.05 ".../wcAVTR1negzen0gain_dec255peak_dec0_norm.s4p"      ".../ic_rx_wcAVTR1negzen0gain_dec255.cte.ami"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id" 0 1.20 ".../wcAVTR1_1negzen0gain_dec255peak_dec0_norm.s4p"    ".../ic_rx_wcAVTR1_1negzen0gain_dec255.cte.ami"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id" 0 1.05 ".../bcAVTR1_08negzen0gain_dec255peak_dec0_norm.s4p"   ".../ic_rx_bcAVTR1_08negzen0gain_dec255.cte.ami"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id" 0 1.20 ".../bcAVTR1_26negzen0gain_dec255peak_dec0_norm.s4p"   ".../ic_rx_bcAVTR1_26negzen0gain_dec255.cte.ami"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in" 0 1.05 ".../ncAVTR1_05negzen0gain_dec0peak_dec0_norm.s4p"     ".../ic_rx_ncAVTR1_05negzen0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in" 0 1.20 ".../ncAVTR1_2negzen0gain_dec0peak_dec0_norm.s4p"      ".../ic_rx_ncAVTR1_2negzen0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in" 0 1.05 ".../wcAVTR1negzen0gain_dec0peak_dec0_norm.s4p"        ".../ic_rx_wcAVTR1negzen0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in" 0 1.20 ".../wcAVTR1_1negzen0gain_dec0peak_dec0_norm.s4p"      ".../ic_rx_wcAVTR1_1negzen0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in" 0 1.05 ".../bcAVTR1_08negzen0gain_dec0peak_dec0_norm.s4p"     ".../ic_rx_bcAVTR1_08negzen0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in" 0 1.20 ".../bcAVTR1_26negzen0gain_dec0peak_dec0_norm.s4p"     ".../ic_rx_bcAVTR1_26negzen0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in" 0 1.05 ".../ecAVTR0_95negzen0gain_dec0peak_dec0_norm.s4p"     ".../ic_rx_ecAVTR0_95negzen0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in" 0 1.20 ".../ecAVTR1_05negzen0gain_dec0peak_dec0_norm.s4p"     ".../ic_rx_ecAVTR1_05negzen0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ax" 0 1.05 ".../ncAVTR1_05negzen0gain_dec65535peak_dec0_norm.s4p" ".../ic_rx_ncAVTR1_05negzen0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ax" 0 1.20 ".../ncAVTR1_2negzen0gain_dec65535peak_dec0_norm.s4p"  ".../ic_rx_ncAVTR1_2negzen0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ax" 0 1.05 ".../wcAVTR1negzen0gain_dec65535peak_dec0_norm.s4p"    ".../ic_rx_wcAVTR1negzen0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ax" 0 1.20 ".../wcAVTR1_1negzen0gain_dec65535peak_dec0_norm.s4p"  ".../ic_rx_wcAVTR1_1negzen0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ax" 0 1.05 ".../bcAVTR1_08negzen0gain_dec65535peak_dec0_norm.s4p" ".../ic_rx_bcAVTR1_08negzen0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ax" 0 1.20 ".../bcAVTR1_26negzen0gain_dec65535peak_dec0_norm.s4p" ".../ic_rx_bcAVTR1_26negzen0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ax" 0 1.05 ".../ecAVTR0_95negzen0gain_dec65535peak_dec0_norm.s4p" ".../ic_rx_ecAVTR0_95negzen0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ax" 0 1.20 ".../ecAVTR1_05negzen0gain_dec65535peak_dec0_norm.s4p" ".../ic_rx_ecAVTR1_05negzen0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id" 1 1.05 ".../ncAVTR1_05negzen1gain_dec255peak_dec0_norm.s4p"   ".../ic_rx_ncAVTR1_05negzen1gain_dec25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id" 1 1.20 ".../ncAVTR1_2negzen1gain_dec255peak_dec0_norm.s4p"    ".../ic_rx_ncAVTR1_2negzen1gain_dec25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id" 1 1.05 ".../wcAVTR1negzen1gain_dec255peak_dec0_norm.s4p"      ".../ic_rx_wcAVTR1negzen1gain_dec25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id" 1 1.20 ".../wcAVTR1_1negzen1gain_dec255peak_dec0_norm.s4p"    ".../ic_rx_wcAVTR1_1negzen1gain_dec25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id" 1 1.05 ".../bcAVTR1_08negzen1gain_dec255peak_dec0_norm.s4p"   ".../ic_rx_bcAVTR1_08negzen1gain_dec25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id" 1 1.20 ".../bcAVTR1_26negzen1gain_dec255peak_dec0_norm.s4p"   ".../ic_rx_bcAVTR1_26negzen1gain_dec25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id" 1 1.05 ".../ecAVTR0_95negzen1gain_dec255peak_dec0_norm.s4p"   ".../ic_rx_ecAVTR0_95negzen1gain_dec25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id" 1 1.20 ".../ecAVTR1_05negzen1gain_dec255peak_dec0_norm.s4p"   ".../ic_rx_ecAVTR1_05negzen1gain_dec25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in" 1 1.05 ".../ncAVTR1_05negzen1gain_dec0peak_dec0_norm.s4p"     ".../ic_rx_ncAVTR1_05negzen1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in" 1 1.20 ".../ncAVTR1_2negzen1gain_dec0peak_dec0_norm.s4p"      ".../ic_rx_ncAVTR1_2negzen1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in" 1 1.05 ".../wcAVTR1negzen1gain_dec0peak_dec0_norm.s4p"        ".../ic_rx_wcAVTR1negzen1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in" 1 1.20 ".../wcAVTR1_1negzen1gain_dec0peak_dec0_norm.s4p"      ".../ic_rx_wcAVTR1_1negzen1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in" 1 1.05 ".../bcAVTR1_08negzen1gain_dec0peak_dec0_norm.s4p"     ".../ic_rx_bcAVTR1_08negzen1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in" 1 1.20 ".../bcAVTR1_26negzen1gain_dec0peak_dec0_norm.s4p"     ".../ic_rx_bcAVTR1_26negzen1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in" 1 1.05 ".../ecAVTR0_95negzen1gain_dec0peak_dec0_norm.s4p"     ".../ic_rx_ecAVTR0_95negzen1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in" 1 1.20 ".../ecAVTR1_05negzen1gain_dec0peak_dec0_norm.s4p"     ".../ic_rx_ecAVTR1_05negzen1gain_dec0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ax" 1 1.05 ".../ncAVTR1_05negzen1gain_dec65535peak_dec0_norm.s4p" ".../ic_rx_ncAVTR1_05negzen1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nc" "max" 1 1.20 ".../ncAVTR1_2negzen1gain_dec65535peak_dec0_norm.s4p"  ".../ic_rx_ncAVTR1_2negzen1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ax" 1 1.05 ".../wcAVTR1negzen1gain_dec65535peak_dec0_norm.s4p"    ".../ic_rx_wcAVTR1negzen1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wc" "max" 1 1.20 ".../wcAVTR1_1negzen1gain_dec65535peak_dec0_norm.s4p"  ".../ic_rx_wcAVTR1_1negzen1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ax" 1 1.05 ".../bcAVTR1_08negzen1gain_dec65535peak_dec0_norm.s4p" ".../ic_rx_bcAVTR1_08negzen1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bc" "max" 1 1.20 ".../bcAVTR1_26negzen1gain_dec65535peak_dec0_norm.s4p" ".../ic_rx_bcAVTR1_26negzen1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ax" 1 1.05 ".../ecAVTR0_95negzen1gain_dec65535peak_dec0_norm.s4p" ".../ic_rx_ecAVTR0_95negzen1gain_dec65535.cte.ami" 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("ec" "max" 1 1.20 ".../ecAVTR1_05negzen1gain_dec65535peak_dec0_norm.s4p" ".../ic_rx_ecAVTR1_05negzen1gain_dec65535.cte.ami" )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564A-0E18-46E1-A757-8969696793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 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0:28:13Z</dcterms:created>
  <dc:creator>Adge Hawes</dc:creator>
  <dc:description/>
  <dc:language>en-US</dc:language>
  <cp:lastModifiedBy>Adge</cp:lastModifiedBy>
  <dcterms:modified xsi:type="dcterms:W3CDTF">2012-01-27T03:46:35Z</dcterms:modified>
  <cp:revision>148</cp:revision>
  <dc:subject/>
  <dc:title>Case Study: IBM 15G C2C</dc:title>
</cp:coreProperties>
</file>