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F222-02A5-4555-B25C-3FA8AC404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21FA-3F1D-4C1C-9F2D-FAB00704C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59FF-461F-4963-872D-5E6AD15BD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6931-40F7-4E44-8292-F8D6FCB65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5FA7-C96A-478F-901B-A09A4E482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82E4-B348-41C8-AE1F-F878C1432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FCAC-FF9E-4F68-80E4-E9EF286CD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8A6F-1DAE-4508-91AB-F8EB48C42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7954-F25B-4197-9581-A78557E0F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884C-8534-4527-888A-060F74E9D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8EC3-7950-4F0C-A6DF-1CCFFE96C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3A17-3C57-42BE-93E1-2FFE9EF3B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92960"/>
            <a:ext cx="9144000" cy="3650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-360" y="6549840"/>
            <a:ext cx="10666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F533-B263-419C-BBEA-3D14F1104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0240" y="1692360"/>
            <a:ext cx="9113760" cy="345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69236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121360"/>
            <a:ext cx="9144000" cy="17366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ystem Developer's Perspective on AM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809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g Edl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ge, con’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parameter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returns correct results at any samples-per-bit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manually override equalizer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ouble counting of package, e.g. s-parameters and .ibs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ouble counting of C_Comp, e.g. s-parameters and .ibs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used to develop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or(s) and version used to tes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y that develope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y that designed serializer-deserializer (serdes)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y that manufactur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TX equalization and number of t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RX equalization and number of t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parameter port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 report to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 jitter decomposition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stressed ey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-to-hardware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 of industry standard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PHY have an “on-chip oscilloscope” feature and softw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the PHY output a test pattern with an oscilloscope connec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BS leng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M’s PHY Lab Report:  PVT Corn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28800" y="1657440"/>
            <a:ext cx="544824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M’s PHY Lab Report:  TX Jit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00200" y="1492200"/>
            <a:ext cx="593244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M’s PHY Lab Report:  RX Stressed Ey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12960" y="2212920"/>
            <a:ext cx="550224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00400" y="1600200"/>
            <a:ext cx="2743200" cy="2743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LL Test B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297180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246480"/>
            <a:ext cx="1828800" cy="3636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001100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2971800"/>
            <a:ext cx="914400" cy="9144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70720" y="182736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35360" y="3246480"/>
            <a:ext cx="318960" cy="365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989680" y="3246480"/>
            <a:ext cx="318960" cy="365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412520" y="4412520"/>
            <a:ext cx="318960" cy="36504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4923000"/>
            <a:ext cx="914400" cy="60948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48280" y="265104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t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39920" y="1727280"/>
            <a:ext cx="46339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 user’s experience at I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 Check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L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of AMI at IB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years into th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from thre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ed with suppliers to get DLL to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or evaluation is in round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-to-hardware correlation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’s internal simulator supports 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ardware yet designed with AMI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al TX &amp; RX with 20 in. of 4-mil w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19040" y="1233360"/>
            <a:ext cx="649944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apped in AMI model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7520" y="1646280"/>
            <a:ext cx="560376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simulation from suppli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00120" y="1325520"/>
            <a:ext cx="618012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I Check Li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understanding between AMI supplie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; communication of expec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ibs file passes syntax che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X .ami and .dll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X .ami and .dll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model included in .ibs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chstone package model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X training algorithm included in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ther software necessary to run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iles distributed in a single arch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installation directory independent of execution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Windows and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stances of one model will run in one simulation/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stance of multiple models will run in one simulation/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multiple simultaneous simulations/analys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rallel proce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recognized parameters do not caus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5:10:14Z</dcterms:created>
  <dc:creator>gedlund</dc:creator>
  <dc:description/>
  <dc:language>en-US</dc:language>
  <cp:lastModifiedBy>Greg Edlund</cp:lastModifiedBy>
  <dcterms:modified xsi:type="dcterms:W3CDTF">2012-02-02T01:13:31Z</dcterms:modified>
  <cp:revision>30</cp:revision>
  <dc:subject/>
  <dc:title>Slide 1</dc:title>
</cp:coreProperties>
</file>