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rnal load bi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0-12-0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FCA2-62B1-41EE-A6BD-DD5EE3A0F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External load bird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0-12-07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6E2C-2D5A-4343-BF59-198763EEC4B8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ERI_FH_rgb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External load bird  |  Ericsson Internal  |  2010-12-07  |  Page </a:t>
            </a:r>
            <a:fld id="{0685AC19-5013-4733-BC84-BEBD3F300106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4" name="Logo_TM" descr="ERI_FH_rgb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396720" y="2585880"/>
            <a:ext cx="8352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[External Test Load/Data] Concept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93840" y="4091040"/>
            <a:ext cx="73771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4000" tIns="0" bIns="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85a"/>
                </a:solidFill>
                <a:latin typeface="Ericsson Capital TT"/>
              </a:rPr>
              <a:t>DesignCon IBIS Summit, Santa Clara, CA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585a"/>
                </a:solidFill>
                <a:latin typeface="Ericsson Capital TT"/>
              </a:rPr>
              <a:t>Feb 3, 2011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45a59"/>
                </a:solidFill>
                <a:latin typeface="Ericsson Capital TT"/>
              </a:rPr>
              <a:t>Anders Ekholm, Ericsson &amp; Mike LaBonte, Cisco Systems</a:t>
            </a:r>
            <a:endParaRPr b="0" lang="en-US" sz="17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58585a"/>
                </a:solidFill>
                <a:latin typeface="Ericsson Capital TT"/>
              </a:rPr>
              <a:t>IBIS Quality Task Group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85920" y="1376280"/>
            <a:ext cx="83628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Status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Correlation discussion put on hold for now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A BIRD draft to improve the [Test Data] and [Test Load] structures of the IBIS spec was introduced by Anders Ekholm and is currently discussed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An [External Test Load/ Test Data] BIRD has been drafted by Anders Ekholm (Ericsson) and Mike LaBonte (Cisco systems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This BIRD draft is the current topic of weekly IQ meeting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7"/>
          <p:cNvSpPr/>
          <p:nvPr/>
        </p:nvSpPr>
        <p:spPr>
          <a:xfrm>
            <a:off x="3193920" y="3378240"/>
            <a:ext cx="561528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                                  V_term1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                               o-----------o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                               |           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                               \           \    receiver_model_name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 ______                        /           /                        ______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|      |  NEAR        Rp1_near \           \ Rp1_far          FAR  |      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| |\   |                       /           /                       | |\   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| | \  |   Rs_near  Ls_near    |   _____   |     Ls_far  Rs_far    | | \  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| |  &gt;-|---o--/\/\--@@@@--o----o--O_____)--o----o--@@@@--/\/\--o---|-|  &gt; 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| | /  |   |              |    |   Td      |    |              |   | | /  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| |/   |   | C1_near      |    \   Zo      \    | C2_far       |   | |/   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|______|  ===            ===   /           /   ===            ===  |______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           |      C2_near |    \           \    |       C1_far 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           |              |    /           /    |              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           |              |    |  V_term2  |    |              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           o--------------o    o-----------o    o--------------o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           |                Rp2_near    Rp2_far                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            GND                                                 GND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285e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H="1">
            <a:off x="3943440" y="3068640"/>
            <a:ext cx="2340000" cy="809640"/>
          </a:xfrm>
          <a:prstGeom prst="line">
            <a:avLst/>
          </a:prstGeom>
          <a:ln w="28440">
            <a:solidFill>
              <a:srgbClr val="0028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93840" y="625680"/>
            <a:ext cx="7826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[External Test Load/Data] Concepts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 rot="16200000">
            <a:off x="3626640" y="-1882080"/>
            <a:ext cx="1755720" cy="83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 vert="eaVert">
            <a:no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[Test Load] limitation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Size of [Test Data] (internal to IBIS file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[Test Data] limited to single edge stimuli (no pulse train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[Test Load] limited to a fixed topology (inflexible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Limited differential load suppor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41280" y="3654360"/>
            <a:ext cx="297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Bench measured [Test Data] usually can not be measured at pa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57200" y="5486400"/>
            <a:ext cx="26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[Test Load] has probe points only at pad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 flipV="1">
            <a:off x="2838600" y="4689360"/>
            <a:ext cx="1330200" cy="1254240"/>
          </a:xfrm>
          <a:prstGeom prst="line">
            <a:avLst/>
          </a:prstGeom>
          <a:ln w="28440">
            <a:solidFill>
              <a:srgbClr val="0028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2838600" y="4689360"/>
            <a:ext cx="5109840" cy="1254240"/>
          </a:xfrm>
          <a:prstGeom prst="line">
            <a:avLst/>
          </a:prstGeom>
          <a:ln w="28440">
            <a:solidFill>
              <a:srgbClr val="0028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3359160" y="3878280"/>
            <a:ext cx="720720" cy="1530360"/>
          </a:xfrm>
          <a:prstGeom prst="ellipse">
            <a:avLst/>
          </a:prstGeom>
          <a:noFill/>
          <a:ln w="28440">
            <a:solidFill>
              <a:srgbClr val="e32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8039160" y="3924360"/>
            <a:ext cx="720720" cy="1530360"/>
          </a:xfrm>
          <a:prstGeom prst="ellipse">
            <a:avLst/>
          </a:prstGeom>
          <a:noFill/>
          <a:ln w="28440">
            <a:solidFill>
              <a:srgbClr val="e32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278760" y="2664000"/>
            <a:ext cx="2565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Buffer model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Without pin parasitic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6238800" y="3068640"/>
            <a:ext cx="2114640" cy="809640"/>
          </a:xfrm>
          <a:prstGeom prst="line">
            <a:avLst/>
          </a:prstGeom>
          <a:ln w="28440">
            <a:solidFill>
              <a:srgbClr val="0028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624960"/>
            <a:ext cx="7826400" cy="427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[External Test Load/Data] Concepts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Improvements over [Test Load] / [Test Data]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Full pulse train stimulu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More general/flexible test load topology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Larger test data sets possibl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91040" y="3179880"/>
            <a:ext cx="2829960" cy="3180960"/>
          </a:xfrm>
          <a:prstGeom prst="rect">
            <a:avLst/>
          </a:prstGeom>
          <a:noFill/>
          <a:ln w="12600">
            <a:solidFill>
              <a:srgbClr val="f0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IBIS File: Buffe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[External Test Load]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[External Test Data]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[External Test Stimulus]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35920" y="2708280"/>
            <a:ext cx="2875680" cy="1139760"/>
          </a:xfrm>
          <a:prstGeom prst="rect">
            <a:avLst/>
          </a:prstGeom>
          <a:noFill/>
          <a:ln w="12600">
            <a:solidFill>
              <a:srgbClr val="f0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Test_load.is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(Test load in IBIS Interconnect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Spice Subcircuit format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083280" y="4238640"/>
            <a:ext cx="2816280" cy="769320"/>
          </a:xfrm>
          <a:prstGeom prst="rect">
            <a:avLst/>
          </a:prstGeom>
          <a:noFill/>
          <a:ln w="12600">
            <a:solidFill>
              <a:srgbClr val="f0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Test_data.csv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(Format needs to be defined.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476600" y="5229360"/>
            <a:ext cx="4438800" cy="1139760"/>
          </a:xfrm>
          <a:prstGeom prst="rect">
            <a:avLst/>
          </a:prstGeom>
          <a:noFill/>
          <a:ln w="12600">
            <a:solidFill>
              <a:srgbClr val="f0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Test_stimuli.csv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(Format needs to be defined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58585a"/>
                </a:solidFill>
                <a:latin typeface="Arial"/>
              </a:rPr>
              <a:t>Also may define internal [Test Stimulus]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 flipV="1">
            <a:off x="3352680" y="3519360"/>
            <a:ext cx="1889280" cy="836640"/>
          </a:xfrm>
          <a:prstGeom prst="line">
            <a:avLst/>
          </a:prstGeom>
          <a:ln w="28440">
            <a:solidFill>
              <a:srgbClr val="0028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 flipV="1">
            <a:off x="3352680" y="4647960"/>
            <a:ext cx="2667240" cy="608040"/>
          </a:xfrm>
          <a:prstGeom prst="line">
            <a:avLst/>
          </a:prstGeom>
          <a:ln w="28440">
            <a:solidFill>
              <a:srgbClr val="0028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 flipV="1">
            <a:off x="3352680" y="6084360"/>
            <a:ext cx="1035000" cy="71640"/>
          </a:xfrm>
          <a:prstGeom prst="line">
            <a:avLst/>
          </a:prstGeom>
          <a:ln w="28440">
            <a:solidFill>
              <a:srgbClr val="0028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24840" bIns="24840" anchor="t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624960"/>
            <a:ext cx="7826400" cy="427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[External Test Load/Data] Concepts</a:t>
            </a:r>
            <a:endParaRPr b="0" lang="en-US" sz="2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872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[External Test Data]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Kept in a separate file, size not as limiting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Support more than two probe point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1774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[External Test Load]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Support more than two probe point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Any load supported by IBIS-ISS can be use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Probe points defined as .subckt terminal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Easily re-used for many model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1774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58585a"/>
                </a:solidFill>
                <a:latin typeface="Arial"/>
              </a:rPr>
              <a:t>[External Test Stimulus]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Any pulse train possible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58585a"/>
                </a:solidFill>
                <a:latin typeface="Arial"/>
              </a:rPr>
              <a:t>Idealized transition times used (no rise/fall time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6327720" y="1359000"/>
            <a:ext cx="1979640" cy="1439640"/>
            <a:chOff x="6327720" y="1359000"/>
            <a:chExt cx="1979640" cy="1439640"/>
          </a:xfrm>
        </p:grpSpPr>
        <p:sp>
          <p:nvSpPr>
            <p:cNvPr id="118" name="Text Box 7"/>
            <p:cNvSpPr/>
            <p:nvPr/>
          </p:nvSpPr>
          <p:spPr>
            <a:xfrm>
              <a:off x="6418440" y="1673280"/>
              <a:ext cx="184464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58585a"/>
                  </a:solidFill>
                  <a:latin typeface="Arial"/>
                </a:rPr>
                <a:t>Test_data.csv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58585a"/>
                  </a:solidFill>
                  <a:latin typeface="Arial"/>
                </a:rPr>
                <a:t>(Format needs to be defined)</a:t>
              </a:r>
              <a:endParaRPr b="0" lang="en-US" sz="16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19" name="AutoShape 7"/>
            <p:cNvSpPr/>
            <p:nvPr/>
          </p:nvSpPr>
          <p:spPr>
            <a:xfrm>
              <a:off x="6327720" y="1359000"/>
              <a:ext cx="1979640" cy="143964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  <p:grpSp>
        <p:nvGrpSpPr>
          <p:cNvPr id="120" name="Group 10"/>
          <p:cNvGrpSpPr/>
          <p:nvPr/>
        </p:nvGrpSpPr>
        <p:grpSpPr>
          <a:xfrm>
            <a:off x="6686640" y="3203640"/>
            <a:ext cx="1800000" cy="1888920"/>
            <a:chOff x="6686640" y="3203640"/>
            <a:chExt cx="1800000" cy="1888920"/>
          </a:xfrm>
        </p:grpSpPr>
        <p:sp>
          <p:nvSpPr>
            <p:cNvPr id="121" name="Text Box 6"/>
            <p:cNvSpPr/>
            <p:nvPr/>
          </p:nvSpPr>
          <p:spPr>
            <a:xfrm>
              <a:off x="6777000" y="3652920"/>
              <a:ext cx="1709640" cy="12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000" spc="-1" strike="noStrike">
                  <a:solidFill>
                    <a:srgbClr val="58585a"/>
                  </a:solidFill>
                  <a:latin typeface="Arial"/>
                </a:rPr>
                <a:t>Test_load.iss</a:t>
              </a: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58585a"/>
                  </a:solidFill>
                  <a:latin typeface="Arial"/>
                </a:rPr>
                <a:t>(Test load in IBIS-ISS SPICE format.)</a:t>
              </a:r>
              <a:endParaRPr b="0" lang="en-US" sz="1600" spc="-1" strike="noStrike">
                <a:solidFill>
                  <a:srgbClr val="58585a"/>
                </a:solidFill>
                <a:latin typeface="Arial"/>
              </a:endParaRPr>
            </a:p>
          </p:txBody>
        </p:sp>
        <p:sp>
          <p:nvSpPr>
            <p:cNvPr id="122" name="AutoShape 9"/>
            <p:cNvSpPr/>
            <p:nvPr/>
          </p:nvSpPr>
          <p:spPr>
            <a:xfrm>
              <a:off x="6686640" y="3203640"/>
              <a:ext cx="1755720" cy="188892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f0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8585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Logo_ChapterSlide_Normal" descr="Logo_ChapterSlide_Normal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5:59:03Z</dcterms:created>
  <dc:creator/>
  <dc:description>Rev PA1</dc:description>
  <cp:keywords>IBIS BIRD</cp:keywords>
  <dc:language>en-US</dc:language>
  <cp:lastModifiedBy>Anders Ekholm</cp:lastModifiedBy>
  <dcterms:modified xsi:type="dcterms:W3CDTF">2011-01-26T12:42:05Z</dcterms:modified>
  <cp:revision>198</cp:revision>
  <dc:subject/>
  <dc:title>External load bi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2-07</vt:lpwstr>
  </property>
  <property fmtid="{D5CDD505-2E9C-101B-9397-08002B2CF9AE}" pid="5" name="DocName">
    <vt:lpwstr>EXTENAL LOAD BIRD</vt:lpwstr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>IBIS BIRD</vt:lpwstr>
  </property>
  <property fmtid="{D5CDD505-2E9C-101B-9397-08002B2CF9AE}" pid="12" name="LeftFooterField">
    <vt:lpwstr/>
  </property>
  <property fmtid="{D5CDD505-2E9C-101B-9397-08002B2CF9AE}" pid="13" name="MiddleFooterField">
    <vt:lpwstr>Ericsson Internal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External load bird</vt:lpwstr>
  </property>
  <property fmtid="{D5CDD505-2E9C-101B-9397-08002B2CF9AE}" pid="21" name="RightFooterField2">
    <vt:lpwstr>2010-12-07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>External load bird</vt:lpwstr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