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49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6.png" ContentType="image/png"/>
  <Override PartName="/ppt/media/image34.wmf" ContentType="image/x-wmf"/>
  <Override PartName="/ppt/media/image33.wmf" ContentType="image/x-wmf"/>
  <Override PartName="/ppt/media/image28.wmf" ContentType="image/x-wmf"/>
  <Override PartName="/ppt/media/image29.wmf" ContentType="image/x-wmf"/>
  <Override PartName="/ppt/media/image1.png" ContentType="image/png"/>
  <Override PartName="/ppt/media/image67.png" ContentType="image/png"/>
  <Override PartName="/ppt/media/image24.wmf" ContentType="image/x-wmf"/>
  <Override PartName="/ppt/media/image60.png" ContentType="image/png"/>
  <Override PartName="/ppt/media/image21.wmf" ContentType="image/x-wmf"/>
  <Override PartName="/ppt/media/image64.png" ContentType="image/png"/>
  <Override PartName="/ppt/media/image68.png" ContentType="image/png"/>
  <Override PartName="/ppt/media/image25.wmf" ContentType="image/x-wmf"/>
  <Override PartName="/ppt/media/image61.png" ContentType="image/png"/>
  <Override PartName="/ppt/media/image22.wmf" ContentType="image/x-wmf"/>
  <Override PartName="/ppt/media/image65.png" ContentType="image/png"/>
  <Override PartName="/ppt/media/image62.png" ContentType="image/png"/>
  <Override PartName="/ppt/media/image57.png" ContentType="image/png"/>
  <Override PartName="/ppt/media/image14.wmf" ContentType="image/x-wmf"/>
  <Override PartName="/ppt/media/image23.wmf" ContentType="image/x-wmf"/>
  <Override PartName="/ppt/media/image66.png" ContentType="image/png"/>
  <Override PartName="/ppt/media/image27.wmf" ContentType="image/x-wmf"/>
  <Override PartName="/ppt/media/image63.png" ContentType="image/png"/>
  <Override PartName="/ppt/media/image20.wmf" ContentType="image/x-wmf"/>
  <Override PartName="/ppt/media/image72.png" ContentType="image/png"/>
  <Override PartName="/ppt/media/image71.png" ContentType="image/png"/>
  <Override PartName="/ppt/media/image32.wmf" ContentType="image/x-wmf"/>
  <Override PartName="/ppt/media/image26.wmf" ContentType="image/x-wmf"/>
  <Override PartName="/ppt/media/image69.png" ContentType="image/png"/>
  <Override PartName="/ppt/media/image2.png" ContentType="image/png"/>
  <Override PartName="/ppt/media/image70.png" ContentType="image/png"/>
  <Override PartName="/ppt/media/image31.wmf" ContentType="image/x-wmf"/>
  <Override PartName="/ppt/media/image58.png" ContentType="image/png"/>
  <Override PartName="/ppt/media/image15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.png" ContentType="image/png"/>
  <Override PartName="/ppt/media/image54.png" ContentType="image/png"/>
  <Override PartName="/ppt/media/image11.wmf" ContentType="image/x-wmf"/>
  <Override PartName="/ppt/media/image48.wmf" ContentType="image/x-wmf"/>
  <Override PartName="/ppt/media/image50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56.png" ContentType="image/png"/>
  <Override PartName="/ppt/media/image13.wmf" ContentType="image/x-wmf"/>
  <Override PartName="/ppt/media/image52.png" ContentType="image/png"/>
  <Override PartName="/ppt/media/image9.wmf" ContentType="image/x-wmf"/>
  <Override PartName="/ppt/media/image39.wmf" ContentType="image/x-wmf"/>
  <Override PartName="/ppt/media/image3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71F64-E957-42EF-986C-2F7919495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54540-B19D-4138-B465-2BAE21396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oes not generate energy if it contains only passive elements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connects are always p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E4D6F-FC0A-46EB-BF2A-AE9CE3BF6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nd imaginary parts are clearly depe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derived for dielectric constants, but applicable for all multiport parameters (S/Y/Z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6A53F-CE30-4594-AB26-3E1CBD509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estimation of causality of a system described with a frequency-domain response within a limited frequency band is not possible in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causality measure is Root Mean Square (RMS) Error of a Rational approximation of tabulated data (always caus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F06C1-7706-4E5B-973B-4312D6D19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measurement noise can be eliminated with moving average or Gaussian filtration or decimating – the simplest technique, b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further degrade the response quality if the response is under-samp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B2526-4FD4-45D3-889E-3C354C316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verted in broad-band SPICE model for consistent TD and AC analy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C8547-EF13-4B7C-B916-62D1EAA60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D5165-312D-4E8B-AF5F-B998C79F1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s with non-linear elements or with anisotropic materials (magnetized ferrites for instance) are non-reciprocal – S-matrices may be not symmetric in thos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11B6D-EA4B-4648-B650-6C0DB7CEC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iprocity is the fundamental property of multiports built with reciprocal materials and linear components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n-reciprocal and non-linear materials are not used in interconne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2665C-ED64-4CBD-B99C-03542046C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lvl="1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non-symmetric matrix - eigen-values of non-symmetric matrix do not have correspondence to singular values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AD226-C012-4027-B7FB-737261571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5A0-4BE8-418A-BDF9-46CF5D30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F3B-882C-4DE7-8A0C-A0C845F9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4B1-B4DC-4CE7-A855-63648A6A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DE5-4E64-472D-8754-72D6E901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C46E-390A-48E1-876F-DFC291F3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8F82-F630-406B-BF2C-B4421567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DF72-BFC3-497C-828B-0BD4665F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B29E-E9A8-438C-A6D3-AFE290A7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EE40-599D-49F2-BD3A-B2BD880A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57A6-B133-40CF-B509-F5CC0EAE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42C8-57D5-4496-A680-E6383D6C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95F-C0F2-4F53-A2FB-6AD450A6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25AC-6EE8-4605-9A7E-9DAB8EAA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ACBF-2C2C-4EC2-A6D3-B6E1D013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C2AD-AE8E-4FF6-B10D-4D9FC391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FAA7-FA0F-4F12-9E10-D6317C45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7B9C-5DCC-4E0B-8761-D2BEBE40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0D2-FBED-41C7-B9D1-D0E5B8C1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4AF-2FC5-4ABB-8B07-E9BE2176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02E-E8B9-40EA-A684-26F8BDA0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086-1A92-465F-BCE2-A0D173E7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BDE-9C48-47E7-8659-09BC1FB0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782-5126-4E74-A76D-A3C33FB8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DAD-638F-4D0B-8FA2-F66E3003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9100-40FA-4485-9240-F77C1DC1F1FC}" type="datetime">
              <a:rPr b="0" lang="en-US" sz="1000" spc="-1" strike="noStrike">
                <a:solidFill>
                  <a:srgbClr val="034a85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Times New Roman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F70C-E59A-4ED6-B9FA-8D76F7EE52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9360">
            <a:solidFill>
              <a:srgbClr val="627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143000"/>
            <a:ext cx="8077320" cy="0"/>
          </a:xfrm>
          <a:prstGeom prst="line">
            <a:avLst/>
          </a:prstGeom>
          <a:ln w="19080">
            <a:solidFill>
              <a:srgbClr val="627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57200" y="6232680"/>
            <a:ext cx="1444680" cy="32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9360">
              <a:solidFill>
                <a:srgbClr val="6277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cc66"/>
            </a:solidFill>
            <a:ln w="9360">
              <a:solidFill>
                <a:srgbClr val="ccf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7404120" y="227160"/>
            <a:ext cx="1444680" cy="320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0EB6-1350-44E1-9BA4-7767097AE653}" type="datetime">
              <a:rPr b="0" i="1" lang="en-US" sz="1000" spc="-1" strike="noStrike">
                <a:solidFill>
                  <a:srgbClr val="034a85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Times New Roman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E23A-2ADC-44F1-932B-62F0B89DA6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1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51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shlepnev@simberian.com" TargetMode="External"/><Relationship Id="rId2" Type="http://schemas.openxmlformats.org/officeDocument/2006/relationships/hyperlink" Target="http://www.simberian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9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3152880" cy="3467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2133720" y="3846600"/>
            <a:ext cx="4038480" cy="2477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872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4a85"/>
                </a:solidFill>
                <a:latin typeface="Arial"/>
              </a:rPr>
              <a:t>Quality metrics for </a:t>
            </a:r>
            <a:br>
              <a:rPr sz="4400"/>
            </a:br>
            <a:r>
              <a:rPr b="0" lang="en-US" sz="4400" spc="-1" strike="noStrike">
                <a:solidFill>
                  <a:srgbClr val="034a85"/>
                </a:solidFill>
                <a:latin typeface="Arial"/>
              </a:rPr>
              <a:t>S-parameter models </a:t>
            </a:r>
            <a:br>
              <a:rPr sz="4400"/>
            </a:br>
            <a:r>
              <a:rPr b="0" i="1" lang="en-US" sz="2400" spc="-1" strike="noStrike">
                <a:solidFill>
                  <a:srgbClr val="6666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666600"/>
                </a:solidFill>
                <a:latin typeface="Arial"/>
              </a:rPr>
              <a:t>DesignCon IBIS Summit, Santa Clara, February 4, 2010</a:t>
            </a:r>
            <a:endParaRPr b="0" lang="en-US" sz="20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57200" y="6477120"/>
            <a:ext cx="66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cc"/>
                </a:solidFill>
                <a:latin typeface="Verdana"/>
              </a:rPr>
              <a:t>Copyright © 2010 by Simberian Inc. Reuse by written permission only. All rights reserved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1" descr=""/>
          <p:cNvPicPr/>
          <p:nvPr/>
        </p:nvPicPr>
        <p:blipFill>
          <a:blip r:embed="rId3"/>
          <a:stretch/>
        </p:blipFill>
        <p:spPr>
          <a:xfrm>
            <a:off x="5567400" y="4227480"/>
            <a:ext cx="3505320" cy="2297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34a85"/>
                </a:solidFill>
                <a:latin typeface="Arial"/>
              </a:rPr>
              <a:t>Yuriy Shlepn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34a85"/>
                </a:solidFill>
                <a:latin typeface="Arial"/>
              </a:rPr>
              <a:t>shlepnev@simberia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Passivity estimation and enforcemen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18960"/>
            <a:ext cx="822960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ity conditions for S-parameters (energy dissipation condi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E338-B5E0-46CE-BDD9-0E1F20771B2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7F07-076A-4DE0-945E-BAC4B41AC1CA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4" name="Object 1"/>
          <p:cNvGraphicFramePr/>
          <p:nvPr/>
        </p:nvGraphicFramePr>
        <p:xfrm>
          <a:off x="866880" y="1785960"/>
          <a:ext cx="260964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1785960"/>
                    <a:ext cx="26096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4606920" y="1749600"/>
          <a:ext cx="2082960" cy="37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6920" y="1749600"/>
                    <a:ext cx="20829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Right Arrow 11"/>
          <p:cNvSpPr/>
          <p:nvPr/>
        </p:nvSpPr>
        <p:spPr>
          <a:xfrm>
            <a:off x="3873600" y="1859040"/>
            <a:ext cx="401400" cy="2556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0" name="Object 6"/>
          <p:cNvGraphicFramePr/>
          <p:nvPr/>
        </p:nvGraphicFramePr>
        <p:xfrm>
          <a:off x="847800" y="2954160"/>
          <a:ext cx="3322440" cy="5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7800" y="2954160"/>
                    <a:ext cx="332244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Box 13"/>
          <p:cNvSpPr/>
          <p:nvPr/>
        </p:nvSpPr>
        <p:spPr>
          <a:xfrm>
            <a:off x="811080" y="2468520"/>
            <a:ext cx="68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ssivity measure is computed at each frequency point 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847800" y="3575160"/>
            <a:ext cx="726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compared with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hreshol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if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M &gt; threshol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multiport is reported as not pass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811080" y="4524480"/>
            <a:ext cx="730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lization at each frequency point can be used to “enforce” the passivity (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works only with minor violation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5" name="Object 7"/>
          <p:cNvGraphicFramePr/>
          <p:nvPr/>
        </p:nvGraphicFramePr>
        <p:xfrm>
          <a:off x="884160" y="5035680"/>
          <a:ext cx="2592360" cy="90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4160" y="5035680"/>
                    <a:ext cx="2592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Box 17"/>
          <p:cNvSpPr/>
          <p:nvPr/>
        </p:nvSpPr>
        <p:spPr>
          <a:xfrm>
            <a:off x="4495680" y="3040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equal to max singular value of 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4389480" y="5311800"/>
            <a:ext cx="38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lternatively a rational filter can be us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a85"/>
                </a:solidFill>
                <a:latin typeface="Arial"/>
              </a:rPr>
              <a:t>Causality in frequency-domain</a:t>
            </a:r>
            <a:endParaRPr b="0" lang="en-US" sz="40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                       for the unit pulse response matrix an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Kramers-Kronig relations for the frequency-domain parameters (Hilbert trans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ary part can be derived from real (or vice versa), but the other part must be known from DC to infi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F222-D5D3-4282-89ED-7C68860EEC53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BD03-26B4-47C1-B5A7-3097F7C65A3C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2030400" y="1274760"/>
          <a:ext cx="1519200" cy="3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1274760"/>
                    <a:ext cx="15192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9"/>
          <p:cNvSpPr/>
          <p:nvPr/>
        </p:nvSpPr>
        <p:spPr>
          <a:xfrm>
            <a:off x="920880" y="4487760"/>
            <a:ext cx="449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ramers, H.A., Nature, v 117, 1926 p. 775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ronig, R. de L., J. Opt. Soc. Am. N12, 1926, p 547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2666880" y="1523880"/>
          <a:ext cx="367668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523880"/>
                    <a:ext cx="36766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4"/>
          <p:cNvGraphicFramePr/>
          <p:nvPr/>
        </p:nvGraphicFramePr>
        <p:xfrm>
          <a:off x="892080" y="2819520"/>
          <a:ext cx="510552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92080" y="2819520"/>
                    <a:ext cx="5105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4"/>
          <p:cNvGraphicFramePr/>
          <p:nvPr/>
        </p:nvGraphicFramePr>
        <p:xfrm>
          <a:off x="920880" y="3581280"/>
          <a:ext cx="5479920" cy="6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0880" y="3581280"/>
                    <a:ext cx="54799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Straight Connector 12"/>
          <p:cNvSpPr/>
          <p:nvPr/>
        </p:nvSpPr>
        <p:spPr>
          <a:xfrm>
            <a:off x="6616800" y="2698920"/>
            <a:ext cx="0" cy="21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4" name="Object 4"/>
          <p:cNvGraphicFramePr/>
          <p:nvPr/>
        </p:nvGraphicFramePr>
        <p:xfrm>
          <a:off x="6858000" y="3143160"/>
          <a:ext cx="1717560" cy="69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0" y="3143160"/>
                    <a:ext cx="17175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840360" y="3790800"/>
          <a:ext cx="2075040" cy="118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0360" y="3790800"/>
                    <a:ext cx="2075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Straight Connector 15"/>
          <p:cNvSpPr/>
          <p:nvPr/>
        </p:nvSpPr>
        <p:spPr>
          <a:xfrm>
            <a:off x="8381880" y="3681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Straight Connector 17"/>
          <p:cNvSpPr/>
          <p:nvPr/>
        </p:nvSpPr>
        <p:spPr>
          <a:xfrm flipV="1">
            <a:off x="8686800" y="345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686800" y="3452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1" name="Straight Arrow Connector 23"/>
          <p:cNvCxnSpPr/>
          <p:nvPr/>
        </p:nvCxnSpPr>
        <p:spPr>
          <a:xfrm>
            <a:off x="8391240" y="356724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Straight Arrow Connector 25"/>
          <p:cNvCxnSpPr/>
          <p:nvPr/>
        </p:nvCxnSpPr>
        <p:spPr>
          <a:xfrm flipV="1">
            <a:off x="8685360" y="330156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TextBox 22"/>
          <p:cNvSpPr/>
          <p:nvPr/>
        </p:nvSpPr>
        <p:spPr>
          <a:xfrm>
            <a:off x="6872400" y="2844720"/>
            <a:ext cx="18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eri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ausality estimation - difficult way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mers-Kronig relation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not be directly u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requency-domain response known ov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limited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ity boundaries can be introduced to estimate causality of the tabulated and band-limited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ton, G.W., Eyre, D.J. and Mantese, J.V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ite Frequency Range Kramers Kronig Relations: Bounds on the Dispers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ys. Rev. Lett. 79, 1997, p. 3062-3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verio, P. Grivet-Talocia S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bust Causality Characterization via Generalized Dispersion Rel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EEE Trans. on Adv. Packaging, N 3, 2008, p. 579-5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E747-D25E-4945-B5FC-41A8370CA71F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204B-E3C5-4053-9FEB-95A1A2655885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ausality estimation - easy way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2193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” causality measure based on the observation that polar plot of a causal system rotates mostly clockwise (suggested by V. Dmitriev-Zdor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D509-B7DC-4BDD-9284-2ED80A51447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90A6-EB4A-4A12-B289-0E334A59B0AA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811080" y="2230560"/>
            <a:ext cx="4486320" cy="37908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372960" y="2187720"/>
            <a:ext cx="332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ot of Re(S[i,j]) as function of Im(S[i,j]), or polar pl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3367080" y="301140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frequen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7" name="Straight Arrow Connector 10"/>
          <p:cNvCxnSpPr/>
          <p:nvPr/>
        </p:nvCxnSpPr>
        <p:spPr>
          <a:xfrm>
            <a:off x="4388400" y="3319200"/>
            <a:ext cx="37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8" name="TextBox 11"/>
          <p:cNvSpPr/>
          <p:nvPr/>
        </p:nvSpPr>
        <p:spPr>
          <a:xfrm>
            <a:off x="446040" y="2990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d frequen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9" name="Straight Arrow Connector 13"/>
          <p:cNvCxnSpPr/>
          <p:nvPr/>
        </p:nvCxnSpPr>
        <p:spPr>
          <a:xfrm>
            <a:off x="1295280" y="3365640"/>
            <a:ext cx="76752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Straight Arrow Connector 18"/>
          <p:cNvCxnSpPr/>
          <p:nvPr/>
        </p:nvCxnSpPr>
        <p:spPr>
          <a:xfrm>
            <a:off x="4132800" y="4305240"/>
            <a:ext cx="37080" cy="255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1" name="Straight Arrow Connector 20"/>
          <p:cNvCxnSpPr/>
          <p:nvPr/>
        </p:nvCxnSpPr>
        <p:spPr>
          <a:xfrm flipH="1">
            <a:off x="3987000" y="4560480"/>
            <a:ext cx="183240" cy="329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2" name="Straight Arrow Connector 22"/>
          <p:cNvCxnSpPr/>
          <p:nvPr/>
        </p:nvCxnSpPr>
        <p:spPr>
          <a:xfrm flipH="1">
            <a:off x="3695040" y="4888440"/>
            <a:ext cx="292680" cy="183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3" name="Straight Arrow Connector 24"/>
          <p:cNvCxnSpPr/>
          <p:nvPr/>
        </p:nvCxnSpPr>
        <p:spPr>
          <a:xfrm flipV="1">
            <a:off x="3038400" y="4706280"/>
            <a:ext cx="1023120" cy="58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TextBox 25"/>
          <p:cNvSpPr/>
          <p:nvPr/>
        </p:nvSpPr>
        <p:spPr>
          <a:xfrm>
            <a:off x="1103400" y="5246640"/>
            <a:ext cx="306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Rotation in complex plane is mostly clockwise around local cen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4143960" y="2004840"/>
            <a:ext cx="3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4880520" y="34653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Box 28"/>
          <p:cNvSpPr/>
          <p:nvPr/>
        </p:nvSpPr>
        <p:spPr>
          <a:xfrm>
            <a:off x="5302080" y="2443320"/>
            <a:ext cx="368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usality measure (CM) can be computed as the ratio of clockwise rotation measure to total rotation measure in %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is value is below 80%, the parameters are reported as suspect for possible violation of causal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88" name="Straight Arrow Connector 21"/>
          <p:cNvCxnSpPr/>
          <p:nvPr/>
        </p:nvCxnSpPr>
        <p:spPr>
          <a:xfrm flipV="1">
            <a:off x="3585960" y="4341240"/>
            <a:ext cx="5482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23"/>
          <p:cNvCxnSpPr/>
          <p:nvPr/>
        </p:nvCxnSpPr>
        <p:spPr>
          <a:xfrm>
            <a:off x="3586320" y="4524120"/>
            <a:ext cx="58464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Straight Arrow Connector 25"/>
          <p:cNvCxnSpPr/>
          <p:nvPr/>
        </p:nvCxnSpPr>
        <p:spPr>
          <a:xfrm>
            <a:off x="3585240" y="4524120"/>
            <a:ext cx="1465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ausality improvemen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ration or decimating – the simplest technique, b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further degrade the respons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ficially extend real or imaginary part, or magnitude of the frequency response to DC and to the infinity and restore the other part with the Kramers-Kronig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tored part will strongly depend on the artificial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 extension adjustment is possible to improve accuracy over the sampled frequency band - difficul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t the response with causal rational basis functions (use rational compact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controlled accuracy over the sampled frequency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t results in both frequency and time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tended to DC and to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8F13-1AD7-4713-B515-4A29680366BC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E615-4B8E-4CA8-8EB9-7530F82205C0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Use of Rational Compact Model (RCM) for S-parameters causality “improvement”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3137040"/>
            <a:ext cx="82296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response is real and delay-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rocal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65CF-075D-4C32-9E88-EC090EE628D7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63BB-35A6-4154-B59B-FEC297CFECFC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968400" y="3757680"/>
          <a:ext cx="725472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3757680"/>
                    <a:ext cx="72547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4"/>
          <p:cNvGraphicFramePr/>
          <p:nvPr/>
        </p:nvGraphicFramePr>
        <p:xfrm>
          <a:off x="1906560" y="4446720"/>
          <a:ext cx="139392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6560" y="4446720"/>
                    <a:ext cx="139392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5"/>
          <p:cNvGraphicFramePr/>
          <p:nvPr/>
        </p:nvGraphicFramePr>
        <p:xfrm>
          <a:off x="985680" y="3532320"/>
          <a:ext cx="152892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5680" y="3532320"/>
                    <a:ext cx="15289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6"/>
          <p:cNvGraphicFramePr/>
          <p:nvPr/>
        </p:nvGraphicFramePr>
        <p:xfrm>
          <a:off x="2454120" y="4919760"/>
          <a:ext cx="446112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54120" y="4919760"/>
                    <a:ext cx="44611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7"/>
          <p:cNvGraphicFramePr/>
          <p:nvPr/>
        </p:nvGraphicFramePr>
        <p:xfrm>
          <a:off x="2892600" y="5400720"/>
          <a:ext cx="151272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2600" y="5400720"/>
                    <a:ext cx="1512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Box 14"/>
          <p:cNvSpPr/>
          <p:nvPr/>
        </p:nvSpPr>
        <p:spPr>
          <a:xfrm>
            <a:off x="7326360" y="51404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y require enforc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ight Brace 15"/>
          <p:cNvSpPr/>
          <p:nvPr/>
        </p:nvSpPr>
        <p:spPr>
          <a:xfrm>
            <a:off x="6945480" y="496260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914400"/>
              <a:gd name="textAreaBottom" fmla="*/ 906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3" name="Object 8"/>
          <p:cNvGraphicFramePr/>
          <p:nvPr/>
        </p:nvGraphicFramePr>
        <p:xfrm>
          <a:off x="628560" y="1347840"/>
          <a:ext cx="6080040" cy="135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8560" y="1347840"/>
                    <a:ext cx="60800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TextBox 16"/>
          <p:cNvSpPr/>
          <p:nvPr/>
        </p:nvSpPr>
        <p:spPr>
          <a:xfrm>
            <a:off x="6754680" y="1420920"/>
            <a:ext cx="238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ous functions of frequ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What are RCMs for?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uality of tabulated Touchston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minor passivity and causality vio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e and extrapolate with guarantied pas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broad-band SPIC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maller mode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rtifacts and guarantied stability of SPIC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frequency and time domain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ime-domain response of a channel with a fast recursive convolution algorithm (exact solution for PWL sign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FA4B-1EEC-4837-A324-77CDF91E3421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5A90-9A59-488A-9060-E814DFBF9A41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Global quality metrics (0-100%)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3651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ity Quality Measure: PQM or zero if PQM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procity Quality Measure: RQM or zero if RQM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ality Quality Measure: Minimal ratio of clockwise rotation measure to total rotation measure in %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hould be &gt;8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error of the rational compact model can be also used to characterize the causality of the original data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AFBA-7D8D-4433-B366-C346683403E6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A9A0-6550-4AFD-99F2-0DA55B153C27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6" name="Object 2"/>
          <p:cNvGraphicFramePr/>
          <p:nvPr/>
        </p:nvGraphicFramePr>
        <p:xfrm>
          <a:off x="547560" y="3336840"/>
          <a:ext cx="298296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3336840"/>
                    <a:ext cx="2982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2"/>
          <p:cNvGraphicFramePr/>
          <p:nvPr/>
        </p:nvGraphicFramePr>
        <p:xfrm>
          <a:off x="530280" y="1727280"/>
          <a:ext cx="298296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280" y="1727280"/>
                    <a:ext cx="29829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2"/>
          <p:cNvGraphicFramePr/>
          <p:nvPr/>
        </p:nvGraphicFramePr>
        <p:xfrm>
          <a:off x="3703680" y="1757520"/>
          <a:ext cx="524988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3680" y="1757520"/>
                    <a:ext cx="52498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2"/>
          <p:cNvGraphicFramePr/>
          <p:nvPr/>
        </p:nvGraphicFramePr>
        <p:xfrm>
          <a:off x="4170240" y="3370320"/>
          <a:ext cx="462456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70240" y="3370320"/>
                    <a:ext cx="46245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2"/>
          <p:cNvGraphicFramePr/>
          <p:nvPr/>
        </p:nvGraphicFramePr>
        <p:xfrm>
          <a:off x="4146480" y="3917880"/>
          <a:ext cx="279900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6480" y="3917880"/>
                    <a:ext cx="2799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6"/>
          <p:cNvGraphicFramePr/>
          <p:nvPr/>
        </p:nvGraphicFramePr>
        <p:xfrm>
          <a:off x="3672000" y="2293920"/>
          <a:ext cx="3638520" cy="488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72000" y="2293920"/>
                    <a:ext cx="36385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Box 16"/>
          <p:cNvSpPr/>
          <p:nvPr/>
        </p:nvSpPr>
        <p:spPr>
          <a:xfrm>
            <a:off x="555480" y="242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hould be &gt;98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Box 17"/>
          <p:cNvSpPr/>
          <p:nvPr/>
        </p:nvSpPr>
        <p:spPr>
          <a:xfrm>
            <a:off x="592200" y="40640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hould be &gt;98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Example 1: High-quality model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4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BF1C-26EF-4900-B1F6-FE37829F0F9A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03D9-6362-433B-87A3-488098B3F188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17" descr=""/>
          <p:cNvPicPr/>
          <p:nvPr/>
        </p:nvPicPr>
        <p:blipFill>
          <a:blip r:embed="rId1"/>
          <a:stretch/>
        </p:blipFill>
        <p:spPr>
          <a:xfrm>
            <a:off x="722160" y="2509920"/>
            <a:ext cx="5419800" cy="3657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5" descr=""/>
          <p:cNvPicPr/>
          <p:nvPr/>
        </p:nvPicPr>
        <p:blipFill>
          <a:blip r:embed="rId2"/>
          <a:stretch/>
        </p:blipFill>
        <p:spPr>
          <a:xfrm>
            <a:off x="519120" y="2077920"/>
            <a:ext cx="5676840" cy="304920"/>
          </a:xfrm>
          <a:prstGeom prst="rect">
            <a:avLst/>
          </a:prstGeom>
          <a:ln w="0">
            <a:noFill/>
          </a:ln>
        </p:spPr>
      </p:pic>
      <p:sp>
        <p:nvSpPr>
          <p:cNvPr id="346" name="TextBox 8"/>
          <p:cNvSpPr/>
          <p:nvPr/>
        </p:nvSpPr>
        <p:spPr>
          <a:xfrm>
            <a:off x="2782800" y="2844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0% Passive (goo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7" name="Straight Arrow Connector 10"/>
          <p:cNvCxnSpPr/>
          <p:nvPr/>
        </p:nvCxnSpPr>
        <p:spPr>
          <a:xfrm flipH="1">
            <a:off x="2417760" y="3209760"/>
            <a:ext cx="62100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TextBox 11"/>
          <p:cNvSpPr/>
          <p:nvPr/>
        </p:nvSpPr>
        <p:spPr>
          <a:xfrm>
            <a:off x="1139760" y="4343400"/>
            <a:ext cx="37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8.4 % Reciprocal (goo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9" name="Straight Arrow Connector 13"/>
          <p:cNvCxnSpPr/>
          <p:nvPr/>
        </p:nvCxnSpPr>
        <p:spPr>
          <a:xfrm>
            <a:off x="2343600" y="4669920"/>
            <a:ext cx="4755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TextBox 14"/>
          <p:cNvSpPr/>
          <p:nvPr/>
        </p:nvSpPr>
        <p:spPr>
          <a:xfrm>
            <a:off x="6470640" y="2516040"/>
            <a:ext cx="267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usality problem, but it can be restored with R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51" name="Straight Arrow Connector 16"/>
          <p:cNvCxnSpPr/>
          <p:nvPr/>
        </p:nvCxnSpPr>
        <p:spPr>
          <a:xfrm flipH="1" flipV="1">
            <a:off x="6032160" y="2332800"/>
            <a:ext cx="5119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52" name="Picture 3" descr=""/>
          <p:cNvPicPr/>
          <p:nvPr/>
        </p:nvPicPr>
        <p:blipFill>
          <a:blip r:embed="rId3"/>
          <a:stretch/>
        </p:blipFill>
        <p:spPr>
          <a:xfrm>
            <a:off x="555480" y="1238400"/>
            <a:ext cx="5403960" cy="815760"/>
          </a:xfrm>
          <a:prstGeom prst="rect">
            <a:avLst/>
          </a:prstGeom>
          <a:ln w="0">
            <a:noFill/>
          </a:ln>
        </p:spPr>
      </p:pic>
      <p:cxnSp>
        <p:nvCxnSpPr>
          <p:cNvPr id="353" name="Straight Arrow Connector 15"/>
          <p:cNvCxnSpPr/>
          <p:nvPr/>
        </p:nvCxnSpPr>
        <p:spPr>
          <a:xfrm flipH="1" flipV="1">
            <a:off x="1431360" y="3392280"/>
            <a:ext cx="548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17"/>
          <p:cNvCxnSpPr/>
          <p:nvPr/>
        </p:nvCxnSpPr>
        <p:spPr>
          <a:xfrm>
            <a:off x="3367080" y="5729400"/>
            <a:ext cx="767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5" name="Oval 16"/>
          <p:cNvSpPr/>
          <p:nvPr/>
        </p:nvSpPr>
        <p:spPr>
          <a:xfrm>
            <a:off x="3220920" y="4743360"/>
            <a:ext cx="365400" cy="986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Box 30"/>
          <p:cNvSpPr/>
          <p:nvPr/>
        </p:nvSpPr>
        <p:spPr>
          <a:xfrm>
            <a:off x="6032520" y="1201680"/>
            <a:ext cx="30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controlled via from PLRD-1 benchmark board – SOLT calib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Box 31"/>
          <p:cNvSpPr/>
          <p:nvPr/>
        </p:nvSpPr>
        <p:spPr>
          <a:xfrm>
            <a:off x="6178680" y="5315040"/>
            <a:ext cx="28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ata provided by Teraspeed Consulting Gro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Oval 32"/>
          <p:cNvSpPr/>
          <p:nvPr/>
        </p:nvSpPr>
        <p:spPr>
          <a:xfrm>
            <a:off x="2746440" y="2195640"/>
            <a:ext cx="3395520" cy="25560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124F-8D4A-4BC3-8820-6F513A31CE06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1274760"/>
            <a:ext cx="4771800" cy="42102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SOLT): 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Improving S-parameters with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62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7801-82F8-4DE7-886C-DF5432DDAA33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5411880" y="2698920"/>
            <a:ext cx="346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CM model has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RMS Error is 0.0034 (very good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is passive from DC to infinity and 100% causal and reciproc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Box 9"/>
          <p:cNvSpPr/>
          <p:nvPr/>
        </p:nvSpPr>
        <p:spPr>
          <a:xfrm>
            <a:off x="884160" y="5583240"/>
            <a:ext cx="660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uchstone model with DC and reduced number of frequency points or BB SPICE model can be produced from RC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ight Brace 10"/>
          <p:cNvSpPr/>
          <p:nvPr/>
        </p:nvSpPr>
        <p:spPr>
          <a:xfrm>
            <a:off x="4681440" y="1797120"/>
            <a:ext cx="109800" cy="401400"/>
          </a:xfrm>
          <a:custGeom>
            <a:avLst/>
            <a:gdLst>
              <a:gd name="textAreaLeft" fmla="*/ 0 w 109800"/>
              <a:gd name="textAreaRight" fmla="*/ 39600 w 109800"/>
              <a:gd name="textAreaTop" fmla="*/ 2520 h 401400"/>
              <a:gd name="textAreaBottom" fmla="*/ 398880 h 40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4827600" y="178596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M (circ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ight Brace 12"/>
          <p:cNvSpPr/>
          <p:nvPr/>
        </p:nvSpPr>
        <p:spPr>
          <a:xfrm>
            <a:off x="4498920" y="1322280"/>
            <a:ext cx="146160" cy="474840"/>
          </a:xfrm>
          <a:custGeom>
            <a:avLst/>
            <a:gdLst>
              <a:gd name="textAreaLeft" fmla="*/ 0 w 146160"/>
              <a:gd name="textAreaRight" fmla="*/ 52560 w 146160"/>
              <a:gd name="textAreaTop" fmla="*/ 3600 h 474840"/>
              <a:gd name="textAreaBottom" fmla="*/ 47124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4608360" y="1360440"/>
            <a:ext cx="16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NA (sta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4170240" y="4430880"/>
            <a:ext cx="4491000" cy="677520"/>
          </a:xfrm>
          <a:prstGeom prst="rect">
            <a:avLst/>
          </a:prstGeom>
          <a:ln w="0">
            <a:noFill/>
          </a:ln>
        </p:spPr>
      </p:pic>
      <p:cxnSp>
        <p:nvCxnSpPr>
          <p:cNvPr id="371" name="Straight Arrow Connector 14"/>
          <p:cNvCxnSpPr/>
          <p:nvPr/>
        </p:nvCxnSpPr>
        <p:spPr>
          <a:xfrm flipV="1">
            <a:off x="1979640" y="2516040"/>
            <a:ext cx="40248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TextBox 15"/>
          <p:cNvSpPr/>
          <p:nvPr/>
        </p:nvSpPr>
        <p:spPr>
          <a:xfrm>
            <a:off x="847800" y="2771640"/>
            <a:ext cx="23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73" name="Straight Arrow Connector 16"/>
          <p:cNvCxnSpPr/>
          <p:nvPr/>
        </p:nvCxnSpPr>
        <p:spPr>
          <a:xfrm flipV="1">
            <a:off x="1905480" y="4304520"/>
            <a:ext cx="32904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TextBox 17"/>
          <p:cNvSpPr/>
          <p:nvPr/>
        </p:nvSpPr>
        <p:spPr>
          <a:xfrm>
            <a:off x="884160" y="4743360"/>
            <a:ext cx="23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rocity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ity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lit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qualit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s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EE6D-78FE-4463-A729-C3D8EFFF3AD8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4887-7FDA-4E7A-B4FA-DA595F8655C8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406B-3D26-4B67-8502-D8F4C114ED7B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17" descr=""/>
          <p:cNvPicPr/>
          <p:nvPr/>
        </p:nvPicPr>
        <p:blipFill>
          <a:blip r:embed="rId1"/>
          <a:stretch/>
        </p:blipFill>
        <p:spPr>
          <a:xfrm>
            <a:off x="4610160" y="1859040"/>
            <a:ext cx="4533840" cy="3876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6" descr=""/>
          <p:cNvPicPr/>
          <p:nvPr/>
        </p:nvPicPr>
        <p:blipFill>
          <a:blip r:embed="rId2"/>
          <a:stretch/>
        </p:blipFill>
        <p:spPr>
          <a:xfrm>
            <a:off x="372960" y="1825560"/>
            <a:ext cx="4276800" cy="3648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SOLT): 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Original S[1,1] and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79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E991-4F70-4337-8662-EA1F184E4049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Box 9"/>
          <p:cNvSpPr/>
          <p:nvPr/>
        </p:nvSpPr>
        <p:spPr>
          <a:xfrm>
            <a:off x="665280" y="1165320"/>
            <a:ext cx="37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NA Measurement: 3201 points starting from 300 K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Box 10"/>
          <p:cNvSpPr/>
          <p:nvPr/>
        </p:nvSpPr>
        <p:spPr>
          <a:xfrm>
            <a:off x="4572000" y="1165320"/>
            <a:ext cx="456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-sampled RCM: 769 points distributed adaptively starting from 0 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1"/>
          <p:cNvSpPr/>
          <p:nvPr/>
        </p:nvSpPr>
        <p:spPr>
          <a:xfrm>
            <a:off x="7923240" y="145728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USAL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446040" y="5437080"/>
            <a:ext cx="368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sible noise and large segments with counter-clockwise ro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85" name="Straight Arrow Connector 13"/>
          <p:cNvCxnSpPr/>
          <p:nvPr/>
        </p:nvCxnSpPr>
        <p:spPr>
          <a:xfrm flipV="1">
            <a:off x="993600" y="4122000"/>
            <a:ext cx="293040" cy="135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6" name="TextBox 15"/>
          <p:cNvSpPr/>
          <p:nvPr/>
        </p:nvSpPr>
        <p:spPr>
          <a:xfrm>
            <a:off x="3513240" y="2187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[1,1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ight Arrow 18"/>
          <p:cNvSpPr/>
          <p:nvPr/>
        </p:nvSpPr>
        <p:spPr>
          <a:xfrm>
            <a:off x="4389480" y="3282840"/>
            <a:ext cx="328680" cy="21924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88" name="Straight Arrow Connector 20"/>
          <p:cNvCxnSpPr/>
          <p:nvPr/>
        </p:nvCxnSpPr>
        <p:spPr>
          <a:xfrm>
            <a:off x="8733240" y="1785960"/>
            <a:ext cx="11052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9" name="TextBox 13"/>
          <p:cNvSpPr/>
          <p:nvPr/>
        </p:nvSpPr>
        <p:spPr>
          <a:xfrm>
            <a:off x="4572000" y="5729400"/>
            <a:ext cx="368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 line – original V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en line with circles - RC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Oval 17"/>
          <p:cNvSpPr/>
          <p:nvPr/>
        </p:nvSpPr>
        <p:spPr>
          <a:xfrm>
            <a:off x="8105760" y="1822320"/>
            <a:ext cx="1030320" cy="47484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6" descr=""/>
          <p:cNvPicPr/>
          <p:nvPr/>
        </p:nvPicPr>
        <p:blipFill>
          <a:blip r:embed="rId1"/>
          <a:stretch/>
        </p:blipFill>
        <p:spPr>
          <a:xfrm>
            <a:off x="625320" y="3584520"/>
            <a:ext cx="5115240" cy="21812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CAC0-2874-48A5-BD21-44A697532786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SOLT): 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Original S[1,1] and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94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BAFC-D7C1-4059-B82E-2C7002127AC5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5850000" y="24433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s – VNA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5850000" y="277668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cles – R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Box 23"/>
          <p:cNvSpPr/>
          <p:nvPr/>
        </p:nvSpPr>
        <p:spPr>
          <a:xfrm>
            <a:off x="5886360" y="322596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CM: 46 pol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Error 0.00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15" descr=""/>
          <p:cNvPicPr/>
          <p:nvPr/>
        </p:nvPicPr>
        <p:blipFill>
          <a:blip r:embed="rId2"/>
          <a:stretch/>
        </p:blipFill>
        <p:spPr>
          <a:xfrm>
            <a:off x="592200" y="1274760"/>
            <a:ext cx="5114880" cy="21812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17"/>
          <p:cNvSpPr/>
          <p:nvPr/>
        </p:nvSpPr>
        <p:spPr>
          <a:xfrm>
            <a:off x="993600" y="16765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(S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993600" y="397656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(S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Box 19"/>
          <p:cNvSpPr/>
          <p:nvPr/>
        </p:nvSpPr>
        <p:spPr>
          <a:xfrm>
            <a:off x="5923080" y="4237200"/>
            <a:ext cx="270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ally indistinguishabl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ED44-9EB5-4B40-870C-F1D80E234A99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20" descr=""/>
          <p:cNvPicPr/>
          <p:nvPr/>
        </p:nvPicPr>
        <p:blipFill>
          <a:blip r:embed="rId1"/>
          <a:stretch/>
        </p:blipFill>
        <p:spPr>
          <a:xfrm>
            <a:off x="1990800" y="1211400"/>
            <a:ext cx="4771800" cy="24001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TDR from RCM (SOLT)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06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DB7A-D9A5-4121-ACE1-D17417D4E82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2"/>
          <a:stretch/>
        </p:blipFill>
        <p:spPr>
          <a:xfrm>
            <a:off x="2089080" y="3794040"/>
            <a:ext cx="4710240" cy="25066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4"/>
          <p:cNvSpPr/>
          <p:nvPr/>
        </p:nvSpPr>
        <p:spPr>
          <a:xfrm>
            <a:off x="3341520" y="1530360"/>
            <a:ext cx="31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measured S[1,1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 ps rise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3147840" y="383076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d TD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1395720" y="12747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(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Box 14"/>
          <p:cNvSpPr/>
          <p:nvPr/>
        </p:nvSpPr>
        <p:spPr>
          <a:xfrm>
            <a:off x="1528920" y="368604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(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3"/>
          <a:stretch/>
        </p:blipFill>
        <p:spPr>
          <a:xfrm>
            <a:off x="2855880" y="5254560"/>
            <a:ext cx="3468600" cy="523800"/>
          </a:xfrm>
          <a:prstGeom prst="rect">
            <a:avLst/>
          </a:prstGeom>
          <a:ln w="0">
            <a:noFill/>
          </a:ln>
        </p:spPr>
      </p:pic>
      <p:cxnSp>
        <p:nvCxnSpPr>
          <p:cNvPr id="414" name="Straight Arrow Connector 18"/>
          <p:cNvCxnSpPr/>
          <p:nvPr/>
        </p:nvCxnSpPr>
        <p:spPr>
          <a:xfrm>
            <a:off x="1369800" y="2370240"/>
            <a:ext cx="120564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Straight Arrow Connector 20"/>
          <p:cNvCxnSpPr/>
          <p:nvPr/>
        </p:nvCxnSpPr>
        <p:spPr>
          <a:xfrm>
            <a:off x="1394280" y="2369880"/>
            <a:ext cx="1570680" cy="19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6" name="TextBox 21"/>
          <p:cNvSpPr/>
          <p:nvPr/>
        </p:nvSpPr>
        <p:spPr>
          <a:xfrm>
            <a:off x="384120" y="200484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un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147840" y="2625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18" name="Straight Arrow Connector 23"/>
          <p:cNvCxnSpPr/>
          <p:nvPr/>
        </p:nvCxnSpPr>
        <p:spPr>
          <a:xfrm flipH="1" flipV="1">
            <a:off x="2940120" y="2223720"/>
            <a:ext cx="25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9" name="TextBox 13"/>
          <p:cNvSpPr/>
          <p:nvPr/>
        </p:nvSpPr>
        <p:spPr>
          <a:xfrm>
            <a:off x="5119560" y="26989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20" name="Straight Arrow Connector 26"/>
          <p:cNvCxnSpPr>
            <a:stCxn id="419" idx="0"/>
          </p:cNvCxnSpPr>
          <p:nvPr/>
        </p:nvCxnSpPr>
        <p:spPr>
          <a:xfrm flipV="1">
            <a:off x="5356080" y="2406240"/>
            <a:ext cx="676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1" name="TextBox 28"/>
          <p:cNvSpPr/>
          <p:nvPr/>
        </p:nvSpPr>
        <p:spPr>
          <a:xfrm>
            <a:off x="2125800" y="5327640"/>
            <a:ext cx="14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rt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Box 29"/>
          <p:cNvSpPr/>
          <p:nvPr/>
        </p:nvSpPr>
        <p:spPr>
          <a:xfrm>
            <a:off x="6324480" y="535464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rt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5850000" y="2662200"/>
            <a:ext cx="37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or non-symmetry in the impedance profile: SQM=72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Box 31"/>
          <p:cNvSpPr/>
          <p:nvPr/>
        </p:nvSpPr>
        <p:spPr>
          <a:xfrm>
            <a:off x="3695760" y="28814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25" name="Straight Arrow Connector 33"/>
          <p:cNvCxnSpPr/>
          <p:nvPr/>
        </p:nvCxnSpPr>
        <p:spPr>
          <a:xfrm flipV="1">
            <a:off x="4206600" y="2953800"/>
            <a:ext cx="29268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35"/>
          <p:cNvCxnSpPr/>
          <p:nvPr/>
        </p:nvCxnSpPr>
        <p:spPr>
          <a:xfrm>
            <a:off x="4206960" y="3173040"/>
            <a:ext cx="219600" cy="10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28"/>
          <p:cNvSpPr/>
          <p:nvPr/>
        </p:nvSpPr>
        <p:spPr>
          <a:xfrm>
            <a:off x="6068880" y="455616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od correspondenc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Example 2: Model that needs improvement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29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60D6-ABFF-4FB6-B5EC-60E46280E62F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5E1E-FF27-4476-B0CE-8730CA26DCED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26" descr=""/>
          <p:cNvPicPr/>
          <p:nvPr/>
        </p:nvPicPr>
        <p:blipFill>
          <a:blip r:embed="rId1"/>
          <a:stretch/>
        </p:blipFill>
        <p:spPr>
          <a:xfrm>
            <a:off x="636480" y="2662200"/>
            <a:ext cx="5515200" cy="34862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tretch/>
        </p:blipFill>
        <p:spPr>
          <a:xfrm>
            <a:off x="636480" y="1393920"/>
            <a:ext cx="5403960" cy="815760"/>
          </a:xfrm>
          <a:prstGeom prst="rect">
            <a:avLst/>
          </a:prstGeom>
          <a:ln w="0">
            <a:noFill/>
          </a:ln>
        </p:spPr>
      </p:pic>
      <p:sp>
        <p:nvSpPr>
          <p:cNvPr id="434" name="TextBox 11"/>
          <p:cNvSpPr/>
          <p:nvPr/>
        </p:nvSpPr>
        <p:spPr>
          <a:xfrm>
            <a:off x="1476360" y="4560840"/>
            <a:ext cx="44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7.5 % Reciprocal (accepta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Box 14"/>
          <p:cNvSpPr/>
          <p:nvPr/>
        </p:nvSpPr>
        <p:spPr>
          <a:xfrm>
            <a:off x="6149880" y="297324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usality is 17.7%, that is even slightly better than the original SOLT 9.5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36" name="Straight Arrow Connector 16"/>
          <p:cNvCxnSpPr/>
          <p:nvPr/>
        </p:nvCxnSpPr>
        <p:spPr>
          <a:xfrm flipH="1" flipV="1">
            <a:off x="6952680" y="2625120"/>
            <a:ext cx="43884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7" name="Straight Connector 34"/>
          <p:cNvSpPr/>
          <p:nvPr/>
        </p:nvSpPr>
        <p:spPr>
          <a:xfrm flipH="1">
            <a:off x="2571480" y="1635120"/>
            <a:ext cx="3636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Straight Connector 35"/>
          <p:cNvSpPr/>
          <p:nvPr/>
        </p:nvSpPr>
        <p:spPr>
          <a:xfrm flipH="1">
            <a:off x="3813120" y="1635120"/>
            <a:ext cx="3672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Box 36"/>
          <p:cNvSpPr/>
          <p:nvPr/>
        </p:nvSpPr>
        <p:spPr>
          <a:xfrm>
            <a:off x="1695600" y="1092240"/>
            <a:ext cx="467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L Reference Planes (250 mil from vi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0" name="Straight Arrow Connector 38"/>
          <p:cNvCxnSpPr/>
          <p:nvPr/>
        </p:nvCxnSpPr>
        <p:spPr>
          <a:xfrm flipH="1">
            <a:off x="2607840" y="1429200"/>
            <a:ext cx="54864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1" name="Straight Arrow Connector 40"/>
          <p:cNvCxnSpPr/>
          <p:nvPr/>
        </p:nvCxnSpPr>
        <p:spPr>
          <a:xfrm>
            <a:off x="3155760" y="1429920"/>
            <a:ext cx="69444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2" name="TextBox 26"/>
          <p:cNvSpPr/>
          <p:nvPr/>
        </p:nvSpPr>
        <p:spPr>
          <a:xfrm>
            <a:off x="2427120" y="2844720"/>
            <a:ext cx="29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ssivity violated at few points PQM=99.95% (acceptab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Oval 9"/>
          <p:cNvSpPr/>
          <p:nvPr/>
        </p:nvSpPr>
        <p:spPr>
          <a:xfrm>
            <a:off x="820800" y="2625840"/>
            <a:ext cx="620640" cy="730080"/>
          </a:xfrm>
          <a:prstGeom prst="ellipse">
            <a:avLst/>
          </a:prstGeom>
          <a:solidFill>
            <a:srgbClr val="ff00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4" name="Straight Arrow Connector 29"/>
          <p:cNvCxnSpPr/>
          <p:nvPr/>
        </p:nvCxnSpPr>
        <p:spPr>
          <a:xfrm flipH="1" flipV="1">
            <a:off x="1878840" y="3610800"/>
            <a:ext cx="803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45" name="Picture 23" descr=""/>
          <p:cNvPicPr/>
          <p:nvPr/>
        </p:nvPicPr>
        <p:blipFill>
          <a:blip r:embed="rId3"/>
          <a:stretch/>
        </p:blipFill>
        <p:spPr>
          <a:xfrm>
            <a:off x="555480" y="2297160"/>
            <a:ext cx="6981840" cy="304920"/>
          </a:xfrm>
          <a:prstGeom prst="rect">
            <a:avLst/>
          </a:prstGeom>
          <a:ln w="0">
            <a:noFill/>
          </a:ln>
        </p:spPr>
      </p:pic>
      <p:sp>
        <p:nvSpPr>
          <p:cNvPr id="446" name="Oval 9"/>
          <p:cNvSpPr/>
          <p:nvPr/>
        </p:nvSpPr>
        <p:spPr>
          <a:xfrm>
            <a:off x="5311800" y="2735280"/>
            <a:ext cx="620640" cy="730080"/>
          </a:xfrm>
          <a:prstGeom prst="ellipse">
            <a:avLst/>
          </a:prstGeom>
          <a:solidFill>
            <a:srgbClr val="ff00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6288120" y="4122720"/>
            <a:ext cx="266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ssivity and reciprocity worsened comparing to SOLT, but still 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Oval 22"/>
          <p:cNvSpPr/>
          <p:nvPr/>
        </p:nvSpPr>
        <p:spPr>
          <a:xfrm>
            <a:off x="3703680" y="4962600"/>
            <a:ext cx="328680" cy="80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9" name="Straight Arrow Connector 24"/>
          <p:cNvCxnSpPr>
            <a:stCxn id="448" idx="0"/>
          </p:cNvCxnSpPr>
          <p:nvPr/>
        </p:nvCxnSpPr>
        <p:spPr>
          <a:xfrm flipV="1">
            <a:off x="3868560" y="4962240"/>
            <a:ext cx="493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0" name="TextBox 25"/>
          <p:cNvSpPr/>
          <p:nvPr/>
        </p:nvSpPr>
        <p:spPr>
          <a:xfrm>
            <a:off x="6178680" y="5315040"/>
            <a:ext cx="28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ata provided by Teraspeed Consulting Gro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TextBox 26"/>
          <p:cNvSpPr/>
          <p:nvPr/>
        </p:nvSpPr>
        <p:spPr>
          <a:xfrm>
            <a:off x="6032520" y="1201680"/>
            <a:ext cx="30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controlled via from PLRD-1 benchmark board – TRL calib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Oval 27"/>
          <p:cNvSpPr/>
          <p:nvPr/>
        </p:nvSpPr>
        <p:spPr>
          <a:xfrm>
            <a:off x="2746440" y="2406600"/>
            <a:ext cx="4564080" cy="25560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ADB0-A365-4183-ADCD-F0357C0C1DC3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24" descr=""/>
          <p:cNvPicPr/>
          <p:nvPr/>
        </p:nvPicPr>
        <p:blipFill>
          <a:blip r:embed="rId1"/>
          <a:stretch/>
        </p:blipFill>
        <p:spPr>
          <a:xfrm>
            <a:off x="4937040" y="2771640"/>
            <a:ext cx="3867120" cy="33051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1" descr=""/>
          <p:cNvPicPr/>
          <p:nvPr/>
        </p:nvPicPr>
        <p:blipFill>
          <a:blip r:embed="rId2"/>
          <a:stretch/>
        </p:blipFill>
        <p:spPr>
          <a:xfrm>
            <a:off x="738360" y="2808360"/>
            <a:ext cx="3724200" cy="3333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3"/>
          <a:stretch/>
        </p:blipFill>
        <p:spPr>
          <a:xfrm>
            <a:off x="2709720" y="1566720"/>
            <a:ext cx="3797280" cy="5731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TRL): Causality problems both in transmission and reflection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58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5989-5CC5-4EC5-B9F3-96F06FE05F94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traight Connector 34"/>
          <p:cNvSpPr/>
          <p:nvPr/>
        </p:nvSpPr>
        <p:spPr>
          <a:xfrm flipH="1">
            <a:off x="3841560" y="1698480"/>
            <a:ext cx="3636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traight Connector 35"/>
          <p:cNvSpPr/>
          <p:nvPr/>
        </p:nvSpPr>
        <p:spPr>
          <a:xfrm flipH="1">
            <a:off x="5082840" y="1698480"/>
            <a:ext cx="3636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Box 36"/>
          <p:cNvSpPr/>
          <p:nvPr/>
        </p:nvSpPr>
        <p:spPr>
          <a:xfrm>
            <a:off x="2490840" y="1192320"/>
            <a:ext cx="48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L Reference Planes (250 mil from stub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63" name="Straight Arrow Connector 38"/>
          <p:cNvCxnSpPr/>
          <p:nvPr/>
        </p:nvCxnSpPr>
        <p:spPr>
          <a:xfrm flipH="1">
            <a:off x="3877560" y="1494000"/>
            <a:ext cx="54828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4" name="Straight Arrow Connector 40"/>
          <p:cNvCxnSpPr/>
          <p:nvPr/>
        </p:nvCxnSpPr>
        <p:spPr>
          <a:xfrm>
            <a:off x="4425480" y="1494000"/>
            <a:ext cx="69444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5" name="TextBox 15"/>
          <p:cNvSpPr/>
          <p:nvPr/>
        </p:nvSpPr>
        <p:spPr>
          <a:xfrm>
            <a:off x="3549600" y="3102120"/>
            <a:ext cx="10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[1,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16"/>
          <p:cNvSpPr/>
          <p:nvPr/>
        </p:nvSpPr>
        <p:spPr>
          <a:xfrm>
            <a:off x="7383600" y="3209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[2,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519120" y="2136600"/>
            <a:ext cx="847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problems both in the transmission and reflection parameters (can be fix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22" descr=""/>
          <p:cNvPicPr/>
          <p:nvPr/>
        </p:nvPicPr>
        <p:blipFill>
          <a:blip r:embed="rId4"/>
          <a:stretch/>
        </p:blipFill>
        <p:spPr>
          <a:xfrm>
            <a:off x="1859040" y="3794040"/>
            <a:ext cx="1606320" cy="1360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23"/>
          <p:cNvSpPr/>
          <p:nvPr/>
        </p:nvSpPr>
        <p:spPr>
          <a:xfrm>
            <a:off x="993600" y="4232160"/>
            <a:ext cx="365400" cy="4748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70" name="Straight Arrow Connector 25"/>
          <p:cNvCxnSpPr/>
          <p:nvPr/>
        </p:nvCxnSpPr>
        <p:spPr>
          <a:xfrm flipV="1">
            <a:off x="1285560" y="4450680"/>
            <a:ext cx="803880" cy="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1" name="TextBox 27"/>
          <p:cNvSpPr/>
          <p:nvPr/>
        </p:nvSpPr>
        <p:spPr>
          <a:xfrm>
            <a:off x="1724040" y="16398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t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Box 28"/>
          <p:cNvSpPr/>
          <p:nvPr/>
        </p:nvSpPr>
        <p:spPr>
          <a:xfrm>
            <a:off x="6543720" y="16398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t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73" name="Straight Arrow Connector 33"/>
          <p:cNvCxnSpPr/>
          <p:nvPr/>
        </p:nvCxnSpPr>
        <p:spPr>
          <a:xfrm flipV="1">
            <a:off x="7972560" y="4268520"/>
            <a:ext cx="324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4" name="TextBox 35"/>
          <p:cNvSpPr/>
          <p:nvPr/>
        </p:nvSpPr>
        <p:spPr>
          <a:xfrm>
            <a:off x="7521480" y="4670280"/>
            <a:ext cx="176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CW ro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75" name="Straight Arrow Connector 37"/>
          <p:cNvCxnSpPr>
            <a:stCxn id="474" idx="1"/>
          </p:cNvCxnSpPr>
          <p:nvPr/>
        </p:nvCxnSpPr>
        <p:spPr>
          <a:xfrm flipH="1" flipV="1">
            <a:off x="7310160" y="4816080"/>
            <a:ext cx="211680" cy="2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6" name="Oval 25"/>
          <p:cNvSpPr/>
          <p:nvPr/>
        </p:nvSpPr>
        <p:spPr>
          <a:xfrm>
            <a:off x="8105760" y="2589120"/>
            <a:ext cx="774720" cy="47484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Oval 26"/>
          <p:cNvSpPr/>
          <p:nvPr/>
        </p:nvSpPr>
        <p:spPr>
          <a:xfrm>
            <a:off x="3805200" y="2662200"/>
            <a:ext cx="774720" cy="47484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CE42-54BB-4638-A98F-01C32C1F0674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31" descr=""/>
          <p:cNvPicPr/>
          <p:nvPr/>
        </p:nvPicPr>
        <p:blipFill>
          <a:blip r:embed="rId1"/>
          <a:stretch/>
        </p:blipFill>
        <p:spPr>
          <a:xfrm>
            <a:off x="5229360" y="3392640"/>
            <a:ext cx="3286080" cy="2571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0" descr=""/>
          <p:cNvPicPr/>
          <p:nvPr/>
        </p:nvPicPr>
        <p:blipFill>
          <a:blip r:embed="rId2"/>
          <a:stretch/>
        </p:blipFill>
        <p:spPr>
          <a:xfrm>
            <a:off x="227160" y="2238480"/>
            <a:ext cx="4667040" cy="38196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4900680" y="1347840"/>
            <a:ext cx="3797280" cy="5731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TRL):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Improving S-parameters with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83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ED7C-76FF-47A0-AE74-D8B59F4E021C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Box 7"/>
          <p:cNvSpPr/>
          <p:nvPr/>
        </p:nvSpPr>
        <p:spPr>
          <a:xfrm>
            <a:off x="372960" y="1347840"/>
            <a:ext cx="46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CM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RMS Error is 0.045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still O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ssive from DC to infinity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usal and reciproc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86" name="Straight Arrow Connector 14"/>
          <p:cNvCxnSpPr/>
          <p:nvPr/>
        </p:nvCxnSpPr>
        <p:spPr>
          <a:xfrm flipV="1">
            <a:off x="4790880" y="4341960"/>
            <a:ext cx="91332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7" name="TextBox 15"/>
          <p:cNvSpPr/>
          <p:nvPr/>
        </p:nvSpPr>
        <p:spPr>
          <a:xfrm>
            <a:off x="5740560" y="2690640"/>
            <a:ext cx="324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Problem is in the reflection parameters and RCM “fixes” it with the best possible f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88" name="Straight Arrow Connector 19"/>
          <p:cNvCxnSpPr/>
          <p:nvPr/>
        </p:nvCxnSpPr>
        <p:spPr>
          <a:xfrm flipH="1" flipV="1">
            <a:off x="1906560" y="4195800"/>
            <a:ext cx="25596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9" name="TextBox 22"/>
          <p:cNvSpPr/>
          <p:nvPr/>
        </p:nvSpPr>
        <p:spPr>
          <a:xfrm>
            <a:off x="1322280" y="4414680"/>
            <a:ext cx="35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atic areas due to “oscillating” reflection are “fixed”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ight Brace 23"/>
          <p:cNvSpPr/>
          <p:nvPr/>
        </p:nvSpPr>
        <p:spPr>
          <a:xfrm>
            <a:off x="4425840" y="2625840"/>
            <a:ext cx="109800" cy="401400"/>
          </a:xfrm>
          <a:custGeom>
            <a:avLst/>
            <a:gdLst>
              <a:gd name="textAreaLeft" fmla="*/ 0 w 109800"/>
              <a:gd name="textAreaRight" fmla="*/ 39600 w 109800"/>
              <a:gd name="textAreaTop" fmla="*/ 2520 h 401400"/>
              <a:gd name="textAreaBottom" fmla="*/ 398880 h 40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Box 24"/>
          <p:cNvSpPr/>
          <p:nvPr/>
        </p:nvSpPr>
        <p:spPr>
          <a:xfrm>
            <a:off x="4608360" y="273528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ight Brace 25"/>
          <p:cNvSpPr/>
          <p:nvPr/>
        </p:nvSpPr>
        <p:spPr>
          <a:xfrm>
            <a:off x="4243320" y="2151000"/>
            <a:ext cx="146160" cy="474840"/>
          </a:xfrm>
          <a:custGeom>
            <a:avLst/>
            <a:gdLst>
              <a:gd name="textAreaLeft" fmla="*/ 0 w 146160"/>
              <a:gd name="textAreaRight" fmla="*/ 52560 w 146160"/>
              <a:gd name="textAreaTop" fmla="*/ 3600 h 474840"/>
              <a:gd name="textAreaBottom" fmla="*/ 47124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Box 26"/>
          <p:cNvSpPr/>
          <p:nvPr/>
        </p:nvSpPr>
        <p:spPr>
          <a:xfrm>
            <a:off x="4352760" y="218916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7"/>
          <p:cNvSpPr/>
          <p:nvPr/>
        </p:nvSpPr>
        <p:spPr>
          <a:xfrm>
            <a:off x="5703840" y="204156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mission and group delay is 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traight Connector 34"/>
          <p:cNvSpPr/>
          <p:nvPr/>
        </p:nvSpPr>
        <p:spPr>
          <a:xfrm flipH="1">
            <a:off x="6068880" y="1432080"/>
            <a:ext cx="3672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Straight Connector 35"/>
          <p:cNvSpPr/>
          <p:nvPr/>
        </p:nvSpPr>
        <p:spPr>
          <a:xfrm flipH="1">
            <a:off x="7310160" y="1432080"/>
            <a:ext cx="3636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97" name="Straight Arrow Connector 36"/>
          <p:cNvCxnSpPr/>
          <p:nvPr/>
        </p:nvCxnSpPr>
        <p:spPr>
          <a:xfrm>
            <a:off x="6689880" y="3429000"/>
            <a:ext cx="3657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22C8-B252-41E3-9BA3-C0E342434B84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9" name="Picture 16" descr=""/>
          <p:cNvPicPr/>
          <p:nvPr/>
        </p:nvPicPr>
        <p:blipFill>
          <a:blip r:embed="rId1"/>
          <a:stretch/>
        </p:blipFill>
        <p:spPr>
          <a:xfrm>
            <a:off x="2417760" y="2187720"/>
            <a:ext cx="4229280" cy="40287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TRL):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Original S[1,2] and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0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46B6-8D1F-431B-9BC4-6A34858CB3CF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665280" y="1311120"/>
            <a:ext cx="37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NA Measurement: 3201 points starting from 300 K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Box 10"/>
          <p:cNvSpPr/>
          <p:nvPr/>
        </p:nvSpPr>
        <p:spPr>
          <a:xfrm>
            <a:off x="4681440" y="1311120"/>
            <a:ext cx="434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-sampled RCM: 633 points distributed adaptively starting from 0 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TextBox 11"/>
          <p:cNvSpPr/>
          <p:nvPr/>
        </p:nvSpPr>
        <p:spPr>
          <a:xfrm>
            <a:off x="7091280" y="2187720"/>
            <a:ext cx="19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Box 13"/>
          <p:cNvSpPr/>
          <p:nvPr/>
        </p:nvSpPr>
        <p:spPr>
          <a:xfrm>
            <a:off x="6653160" y="3173400"/>
            <a:ext cx="23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ry noisy data is corrected with RCM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TextBox 16"/>
          <p:cNvSpPr/>
          <p:nvPr/>
        </p:nvSpPr>
        <p:spPr>
          <a:xfrm>
            <a:off x="4243320" y="2881440"/>
            <a:ext cx="10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[1,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08" name="Straight Arrow Connector 17"/>
          <p:cNvCxnSpPr/>
          <p:nvPr/>
        </p:nvCxnSpPr>
        <p:spPr>
          <a:xfrm flipH="1" flipV="1">
            <a:off x="6652800" y="2405880"/>
            <a:ext cx="402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9" name="Picture 17" descr=""/>
          <p:cNvPicPr/>
          <p:nvPr/>
        </p:nvPicPr>
        <p:blipFill>
          <a:blip r:embed="rId2"/>
          <a:stretch/>
        </p:blipFill>
        <p:spPr>
          <a:xfrm>
            <a:off x="3695760" y="3465360"/>
            <a:ext cx="1861920" cy="16495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1"/>
          <p:cNvSpPr/>
          <p:nvPr/>
        </p:nvSpPr>
        <p:spPr>
          <a:xfrm>
            <a:off x="2746440" y="4013280"/>
            <a:ext cx="365040" cy="4744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11" name="Straight Arrow Connector 22"/>
          <p:cNvCxnSpPr/>
          <p:nvPr/>
        </p:nvCxnSpPr>
        <p:spPr>
          <a:xfrm flipV="1">
            <a:off x="3038400" y="4231440"/>
            <a:ext cx="767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2" name="Oval 16"/>
          <p:cNvSpPr/>
          <p:nvPr/>
        </p:nvSpPr>
        <p:spPr>
          <a:xfrm>
            <a:off x="5842080" y="2077920"/>
            <a:ext cx="774720" cy="47484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20CF-C514-4E92-BA5D-741B58A4A1F0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4" name="Picture 17" descr=""/>
          <p:cNvPicPr/>
          <p:nvPr/>
        </p:nvPicPr>
        <p:blipFill>
          <a:blip r:embed="rId1"/>
          <a:stretch/>
        </p:blipFill>
        <p:spPr>
          <a:xfrm>
            <a:off x="592200" y="1949400"/>
            <a:ext cx="3867120" cy="3305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6" descr=""/>
          <p:cNvPicPr/>
          <p:nvPr/>
        </p:nvPicPr>
        <p:blipFill>
          <a:blip r:embed="rId2"/>
          <a:stretch/>
        </p:blipFill>
        <p:spPr>
          <a:xfrm>
            <a:off x="4681440" y="2254320"/>
            <a:ext cx="4210200" cy="34383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TRL):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Original S[2,2] and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D738-4980-4FA4-9749-56573F9B42F2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47064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B41D-B1F7-45B5-8EC0-4FBA7EA17B1A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9"/>
          <p:cNvSpPr/>
          <p:nvPr/>
        </p:nvSpPr>
        <p:spPr>
          <a:xfrm>
            <a:off x="665280" y="1311120"/>
            <a:ext cx="37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NA Measurement: 3201 points starting from 300 K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10"/>
          <p:cNvSpPr/>
          <p:nvPr/>
        </p:nvSpPr>
        <p:spPr>
          <a:xfrm>
            <a:off x="4681440" y="1311120"/>
            <a:ext cx="434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-sampled RCM: 633 points distributed adaptively starting from 0 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4791240" y="1895400"/>
            <a:ext cx="38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es not match well but CAUSAL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738360" y="5254560"/>
            <a:ext cx="357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ry noisy non-causal data with wrong rotation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ight Arrow 14"/>
          <p:cNvSpPr/>
          <p:nvPr/>
        </p:nvSpPr>
        <p:spPr>
          <a:xfrm>
            <a:off x="4425840" y="3319560"/>
            <a:ext cx="621000" cy="2919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15"/>
          <p:cNvSpPr/>
          <p:nvPr/>
        </p:nvSpPr>
        <p:spPr>
          <a:xfrm>
            <a:off x="2892600" y="24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[2,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16"/>
          <p:cNvSpPr/>
          <p:nvPr/>
        </p:nvSpPr>
        <p:spPr>
          <a:xfrm>
            <a:off x="7602480" y="2698920"/>
            <a:ext cx="10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[2,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4754520" y="5716440"/>
            <a:ext cx="405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d line – original TRL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reen line with circles - RC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Oval 16"/>
          <p:cNvSpPr/>
          <p:nvPr/>
        </p:nvSpPr>
        <p:spPr>
          <a:xfrm>
            <a:off x="8113680" y="2151000"/>
            <a:ext cx="774720" cy="47484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4" descr=""/>
          <p:cNvPicPr/>
          <p:nvPr/>
        </p:nvPicPr>
        <p:blipFill>
          <a:blip r:embed="rId1"/>
          <a:stretch/>
        </p:blipFill>
        <p:spPr>
          <a:xfrm>
            <a:off x="555480" y="3548160"/>
            <a:ext cx="5115240" cy="21812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6" descr=""/>
          <p:cNvPicPr/>
          <p:nvPr/>
        </p:nvPicPr>
        <p:blipFill>
          <a:blip r:embed="rId2"/>
          <a:stretch/>
        </p:blipFill>
        <p:spPr>
          <a:xfrm>
            <a:off x="592200" y="1201680"/>
            <a:ext cx="5114880" cy="21812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402D-D6D0-4AF8-A952-5A33B7F8EF0C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TRL):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Original S[2,2] and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33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D901-F6D7-497C-9F52-93E986F2CEF9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Box 12"/>
          <p:cNvSpPr/>
          <p:nvPr/>
        </p:nvSpPr>
        <p:spPr>
          <a:xfrm>
            <a:off x="5850000" y="3282840"/>
            <a:ext cx="324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atic non-causal areas are fitted as close as possi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5857920" y="26258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Error 0.045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4 po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Box 12"/>
          <p:cNvSpPr/>
          <p:nvPr/>
        </p:nvSpPr>
        <p:spPr>
          <a:xfrm>
            <a:off x="5850000" y="4184640"/>
            <a:ext cx="310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oes the corrected data contain information about the via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5813280" y="189072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s – original TRL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Box 11"/>
          <p:cNvSpPr/>
          <p:nvPr/>
        </p:nvSpPr>
        <p:spPr>
          <a:xfrm>
            <a:off x="5813280" y="2224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cles – RCM mod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Box 18"/>
          <p:cNvSpPr/>
          <p:nvPr/>
        </p:nvSpPr>
        <p:spPr>
          <a:xfrm>
            <a:off x="2709720" y="1566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(S2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Box 19"/>
          <p:cNvSpPr/>
          <p:nvPr/>
        </p:nvSpPr>
        <p:spPr>
          <a:xfrm>
            <a:off x="2855880" y="394020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(S2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0047-94A5-4DE4-AF70-D720973F4DE5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1212840" y="2443320"/>
            <a:ext cx="4562640" cy="327636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TDR from RCM (TRL)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4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9695-F784-4C41-9C29-053113B72CA6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555480" y="1201680"/>
            <a:ext cx="398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e via in a t-line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nnector and launch discontinu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9"/>
          <p:cNvSpPr/>
          <p:nvPr/>
        </p:nvSpPr>
        <p:spPr>
          <a:xfrm>
            <a:off x="482760" y="2443320"/>
            <a:ext cx="9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(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10"/>
          <p:cNvSpPr/>
          <p:nvPr/>
        </p:nvSpPr>
        <p:spPr>
          <a:xfrm>
            <a:off x="4608360" y="5619600"/>
            <a:ext cx="14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me, s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1797120" y="36212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ue curve: from measured S-parame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own curve: from EM model of v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2052720" y="4341960"/>
            <a:ext cx="59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ood correspondence – all via properties are preserved and the model is actually usable in the time and frequency domain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2"/>
          <a:stretch/>
        </p:blipFill>
        <p:spPr>
          <a:xfrm>
            <a:off x="4425840" y="1577880"/>
            <a:ext cx="3797280" cy="573120"/>
          </a:xfrm>
          <a:prstGeom prst="rect">
            <a:avLst/>
          </a:prstGeom>
          <a:ln w="0">
            <a:noFill/>
          </a:ln>
        </p:spPr>
      </p:pic>
      <p:sp>
        <p:nvSpPr>
          <p:cNvPr id="553" name="Straight Connector 34"/>
          <p:cNvSpPr/>
          <p:nvPr/>
        </p:nvSpPr>
        <p:spPr>
          <a:xfrm flipH="1">
            <a:off x="5557680" y="1709640"/>
            <a:ext cx="3672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5"/>
          <p:cNvSpPr/>
          <p:nvPr/>
        </p:nvSpPr>
        <p:spPr>
          <a:xfrm flipH="1">
            <a:off x="6798960" y="1709640"/>
            <a:ext cx="3636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TextBox 36"/>
          <p:cNvSpPr/>
          <p:nvPr/>
        </p:nvSpPr>
        <p:spPr>
          <a:xfrm>
            <a:off x="4206960" y="1203480"/>
            <a:ext cx="48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L Reference Planes (250 mil from stub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56" name="Straight Arrow Connector 38"/>
          <p:cNvCxnSpPr/>
          <p:nvPr/>
        </p:nvCxnSpPr>
        <p:spPr>
          <a:xfrm flipH="1">
            <a:off x="5593680" y="1503720"/>
            <a:ext cx="54828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40"/>
          <p:cNvCxnSpPr/>
          <p:nvPr/>
        </p:nvCxnSpPr>
        <p:spPr>
          <a:xfrm>
            <a:off x="6141600" y="1504440"/>
            <a:ext cx="69444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35B1-354C-4C47-BE53-B0DB0232EA7C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41C5-DBAD-4EC9-BE8D-DB290816A86F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parameter models are becoming ubiquitous in design of multi-gigabit interconn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ors, cables, PCBs, packages, backplanes, … can be characterized with S-parameters from DC to day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odels come from measurement or electromagnet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very often have some qual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ssivity and reciprocity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usality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92BD-B84B-4533-B8C8-4E07B2B90B88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rocity, passivity and causality of interconnect component models must be verified befor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models may be not acceptable for th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magnetic models may have severe problem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metrics allow distinguishing minor “fixable” violations with acceptable accuracy degradation from severe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macro-models with controllable accuracy can be used to “improve” tabulated models and to correct minor violations of passivity and caus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ndardization of the quality metrics and exchange formats for rational compact model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F226-8B7B-42CB-8731-56B1FDF2B805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ontact and resources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riy Shlepnev, Simberia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hlepnev@simberia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: 206-409-23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version of Simbeor 2008.L0 used to plot and estimate quality of S-parameters is available at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simberia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arn on quality metrics further see slides from DesignCon2010 tutorial (also available on 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F-MP12 H. Barnes, Y. Shlepnev, J. Nadolny, T. Dagostino, S. McMorrow, Quality of High Frequency Measurements: Practical Examples, Theoretical Foundations, and Successful Techniques that Work Past the 40GHz Rea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02C0-1031-493A-BACA-DDFAF4DCE40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BF4B-91E0-495A-A394-865300725380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If You happen to…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interconnect models for internal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interconnect models to customers developing consume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models with measurements or electromagnet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odels for compliance leve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 need to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4C56-C03F-4826-8AB7-743810EECDF9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BDC2-BA5F-4691-BAEF-062133D5854C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Pristine S-parameters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9DD3-29C6-480E-A982-67D1EA09B951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0368-5C35-43A4-A119-972F37DF8DB5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" y="1219320"/>
            <a:ext cx="82296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rocal (no non-linear anisotropic materia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(interconnects do not generate energ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 – no response before the exci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analysis in time dom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if some of those properties are violated – can we still use such model and trust the resul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ntroduc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rics to distinguish good models from bad 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methodology to improve the model quality for consistent frequency and time-domain 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Object 15"/>
          <p:cNvGraphicFramePr/>
          <p:nvPr/>
        </p:nvGraphicFramePr>
        <p:xfrm>
          <a:off x="6013440" y="2433600"/>
          <a:ext cx="193500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3440" y="2433600"/>
                    <a:ext cx="19350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2"/>
          <p:cNvGraphicFramePr/>
          <p:nvPr/>
        </p:nvGraphicFramePr>
        <p:xfrm>
          <a:off x="2637000" y="2406600"/>
          <a:ext cx="265896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2406600"/>
                    <a:ext cx="2658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ight Arrow 6"/>
          <p:cNvSpPr/>
          <p:nvPr/>
        </p:nvSpPr>
        <p:spPr>
          <a:xfrm>
            <a:off x="5514840" y="2522520"/>
            <a:ext cx="328680" cy="255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600280" y="1566720"/>
          <a:ext cx="221796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00280" y="1566720"/>
                    <a:ext cx="2217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5"/>
          <p:cNvGraphicFramePr/>
          <p:nvPr/>
        </p:nvGraphicFramePr>
        <p:xfrm>
          <a:off x="2631960" y="3209760"/>
          <a:ext cx="1866960" cy="43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31960" y="3209760"/>
                    <a:ext cx="18669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a85"/>
                </a:solidFill>
                <a:latin typeface="Arial"/>
              </a:rPr>
              <a:t>Reciprocity</a:t>
            </a:r>
            <a:endParaRPr b="0" lang="en-US" sz="40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circuits with linear isotropic materials are reciprocal according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rentz’s theorem of recipr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ed wave measured at port 2 with incident wave at port 1 is equal to reflected wave measured at port 1 with the same incident wave at po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 it means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cattering matrices are symmetric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03D5-F877-4CD2-AA4D-4C306849E0D0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4142-93D3-456A-A333-9DC12F8C5D49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2100240" y="5386320"/>
          <a:ext cx="221760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0240" y="5386320"/>
                    <a:ext cx="22176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4"/>
          <p:cNvGraphicFramePr/>
          <p:nvPr/>
        </p:nvGraphicFramePr>
        <p:xfrm>
          <a:off x="6095880" y="3705120"/>
          <a:ext cx="97308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3705120"/>
                    <a:ext cx="9730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"/>
          <p:cNvGraphicFramePr/>
          <p:nvPr/>
        </p:nvGraphicFramePr>
        <p:xfrm>
          <a:off x="2760840" y="3705120"/>
          <a:ext cx="973080" cy="37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0840" y="3705120"/>
                    <a:ext cx="9730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ight Arrow 13"/>
          <p:cNvSpPr/>
          <p:nvPr/>
        </p:nvSpPr>
        <p:spPr>
          <a:xfrm>
            <a:off x="7238880" y="370512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772400" y="3693960"/>
          <a:ext cx="95256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2400" y="3693960"/>
                    <a:ext cx="9525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6"/>
          <p:cNvGraphicFramePr/>
          <p:nvPr/>
        </p:nvGraphicFramePr>
        <p:xfrm>
          <a:off x="461880" y="2790720"/>
          <a:ext cx="2433600" cy="217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880" y="2790720"/>
                    <a:ext cx="243360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6"/>
          <p:cNvGraphicFramePr/>
          <p:nvPr/>
        </p:nvGraphicFramePr>
        <p:xfrm>
          <a:off x="3738600" y="2790720"/>
          <a:ext cx="2433600" cy="217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8600" y="2790720"/>
                    <a:ext cx="243360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Box 13"/>
          <p:cNvSpPr/>
          <p:nvPr/>
        </p:nvSpPr>
        <p:spPr>
          <a:xfrm>
            <a:off x="5105520" y="5424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all frequen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Reciprocity estimation and enforcemen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219320"/>
            <a:ext cx="8459640" cy="11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S-parameters of reciprocal 4-port interconnect (symmetric matrix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6AD2-453F-4095-B80D-A3B442C0C93A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A2E5-0F7B-4378-A97F-92FA97CA40B5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3914640" y="1566720"/>
          <a:ext cx="240984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4640" y="1566720"/>
                    <a:ext cx="24098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7"/>
          <p:cNvSpPr/>
          <p:nvPr/>
        </p:nvSpPr>
        <p:spPr>
          <a:xfrm>
            <a:off x="1614600" y="1822320"/>
            <a:ext cx="985680" cy="547920"/>
          </a:xfrm>
          <a:prstGeom prst="rect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Straight Connector 8"/>
          <p:cNvSpPr/>
          <p:nvPr/>
        </p:nvSpPr>
        <p:spPr>
          <a:xfrm flipH="1" flipV="1">
            <a:off x="1395000" y="193212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traight Connector 9"/>
          <p:cNvSpPr/>
          <p:nvPr/>
        </p:nvSpPr>
        <p:spPr>
          <a:xfrm flipH="1" flipV="1">
            <a:off x="1395000" y="215064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Straight Connector 10"/>
          <p:cNvSpPr/>
          <p:nvPr/>
        </p:nvSpPr>
        <p:spPr>
          <a:xfrm flipH="1" flipV="1">
            <a:off x="2599920" y="193212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Straight Connector 11"/>
          <p:cNvSpPr/>
          <p:nvPr/>
        </p:nvSpPr>
        <p:spPr>
          <a:xfrm flipH="1" flipV="1">
            <a:off x="2599920" y="218232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1139760" y="21099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1139760" y="17715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2855880" y="17715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2855880" y="21099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Box 29"/>
          <p:cNvSpPr/>
          <p:nvPr/>
        </p:nvSpPr>
        <p:spPr>
          <a:xfrm>
            <a:off x="1833480" y="193212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Object 2"/>
          <p:cNvGraphicFramePr/>
          <p:nvPr/>
        </p:nvGraphicFramePr>
        <p:xfrm>
          <a:off x="665280" y="3552840"/>
          <a:ext cx="233676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280" y="3552840"/>
                    <a:ext cx="23367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Box 22"/>
          <p:cNvSpPr/>
          <p:nvPr/>
        </p:nvSpPr>
        <p:spPr>
          <a:xfrm>
            <a:off x="519120" y="2990880"/>
            <a:ext cx="682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iprocity measure can be computed as mean difference between elements that have to be equal (at each frequency point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Box 23"/>
          <p:cNvSpPr/>
          <p:nvPr/>
        </p:nvSpPr>
        <p:spPr>
          <a:xfrm>
            <a:off x="555480" y="4195800"/>
            <a:ext cx="81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compared with 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M &gt; thresho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he multiport is reported as not reciproc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Object 2"/>
          <p:cNvGraphicFramePr/>
          <p:nvPr/>
        </p:nvGraphicFramePr>
        <p:xfrm>
          <a:off x="738360" y="5364000"/>
          <a:ext cx="2520720" cy="43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360" y="5364000"/>
                    <a:ext cx="25207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Box 26"/>
          <p:cNvSpPr/>
          <p:nvPr/>
        </p:nvSpPr>
        <p:spPr>
          <a:xfrm>
            <a:off x="482760" y="4998960"/>
            <a:ext cx="83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ing can be used to “enforce” the reciprocity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orks only with noisy dat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4038480" y="367524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 max singular value of              can be use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6400800" y="3652920"/>
          <a:ext cx="66204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652920"/>
                    <a:ext cx="6620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Passivity (necessary but not sufficient conditions)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transmitted to multiport is a differenc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transmitted by incident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ed wav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ted power is defined by Hermiti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tic form and must be not negative for pass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ort for any combination of incident w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tic form is non-negative if eigen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matrix are non-negative (Golub &amp; Van Loa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B71C-6C36-4308-A988-F70F5C823EDC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286E-34D4-4F96-BB34-0E492306E2BB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Object 6"/>
          <p:cNvGraphicFramePr/>
          <p:nvPr/>
        </p:nvGraphicFramePr>
        <p:xfrm>
          <a:off x="6629400" y="1092240"/>
          <a:ext cx="251460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092240"/>
                    <a:ext cx="25146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Object 10"/>
          <p:cNvGraphicFramePr/>
          <p:nvPr/>
        </p:nvGraphicFramePr>
        <p:xfrm>
          <a:off x="2971800" y="1828800"/>
          <a:ext cx="323676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828800"/>
                    <a:ext cx="3236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2"/>
          <p:cNvGraphicFramePr/>
          <p:nvPr/>
        </p:nvGraphicFramePr>
        <p:xfrm>
          <a:off x="1447920" y="2438280"/>
          <a:ext cx="3809880" cy="4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2438280"/>
                    <a:ext cx="38098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4"/>
          <p:cNvGraphicFramePr/>
          <p:nvPr/>
        </p:nvGraphicFramePr>
        <p:xfrm>
          <a:off x="930240" y="4946760"/>
          <a:ext cx="21477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0240" y="4946760"/>
                    <a:ext cx="2147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5"/>
          <p:cNvGraphicFramePr/>
          <p:nvPr/>
        </p:nvGraphicFramePr>
        <p:xfrm>
          <a:off x="3705120" y="4946760"/>
          <a:ext cx="1765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5120" y="4946760"/>
                    <a:ext cx="1765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Box 28"/>
          <p:cNvSpPr/>
          <p:nvPr/>
        </p:nvSpPr>
        <p:spPr>
          <a:xfrm>
            <a:off x="6019920" y="495792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unit matri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ight Arrow 29"/>
          <p:cNvSpPr/>
          <p:nvPr/>
        </p:nvSpPr>
        <p:spPr>
          <a:xfrm>
            <a:off x="3200400" y="502272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a85"/>
                </a:solidFill>
                <a:latin typeface="Arial"/>
              </a:rPr>
              <a:t>More on passivity</a:t>
            </a:r>
            <a:endParaRPr b="0" lang="en-US" sz="40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al singular value of S can be used for passivity estimation, because of non-zero singular values of S are square roots of eigen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*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olub &amp; Van Lo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ity of symmetric S can be estimated with eigenvalues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due to the fact that singular values of symmetric matrices are equal to the magnitudes of the eigen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istake is to estimate passivity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69E7-5DC6-4535-9812-9A4242F054C5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DAC1-3CDA-4D0C-BC7C-1081D57727E6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1131840" y="5208480"/>
          <a:ext cx="109080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5208480"/>
                    <a:ext cx="10908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7"/>
          <p:cNvGraphicFramePr/>
          <p:nvPr/>
        </p:nvGraphicFramePr>
        <p:xfrm>
          <a:off x="3270240" y="3209760"/>
          <a:ext cx="184932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0240" y="3209760"/>
                    <a:ext cx="18493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Box 14"/>
          <p:cNvSpPr/>
          <p:nvPr/>
        </p:nvSpPr>
        <p:spPr>
          <a:xfrm>
            <a:off x="2579760" y="5295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3" name="Object 6"/>
          <p:cNvGraphicFramePr/>
          <p:nvPr/>
        </p:nvGraphicFramePr>
        <p:xfrm>
          <a:off x="3367080" y="5299200"/>
          <a:ext cx="7333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7080" y="5299200"/>
                    <a:ext cx="7333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Box 16"/>
          <p:cNvSpPr/>
          <p:nvPr/>
        </p:nvSpPr>
        <p:spPr>
          <a:xfrm>
            <a:off x="4332240" y="536112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This is necessary but not sufficient condition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17"/>
          <p:cNvGraphicFramePr/>
          <p:nvPr/>
        </p:nvGraphicFramePr>
        <p:xfrm>
          <a:off x="1935000" y="2406600"/>
          <a:ext cx="443880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5000" y="2406600"/>
                    <a:ext cx="44388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4:55:39Z</dcterms:created>
  <dc:creator>Yuriy Shlepnev, Simberian Inc.</dc:creator>
  <dc:description/>
  <cp:keywords>differential mode; common mode; mode tranformation; signal integrity; serdes channel</cp:keywords>
  <dc:language>en-US</dc:language>
  <cp:lastModifiedBy>Yuriy Shlepnev</cp:lastModifiedBy>
  <dcterms:modified xsi:type="dcterms:W3CDTF">2010-01-09T15:48:20Z</dcterms:modified>
  <cp:revision>854</cp:revision>
  <dc:subject>Simbeor application example</dc:subject>
  <dc:title>Mode Transformations in Differential Interconnects - Simbeor App. Note #2009_01</dc:title>
</cp:coreProperties>
</file>