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16.wmf" ContentType="image/x-wmf"/>
  <Override PartName="/ppt/media/image49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6.png" ContentType="image/png"/>
  <Override PartName="/ppt/media/image34.wmf" ContentType="image/x-wmf"/>
  <Override PartName="/ppt/media/image33.wmf" ContentType="image/x-wmf"/>
  <Override PartName="/ppt/media/image28.wmf" ContentType="image/x-wmf"/>
  <Override PartName="/ppt/media/image29.wmf" ContentType="image/x-wmf"/>
  <Override PartName="/ppt/media/image1.png" ContentType="image/png"/>
  <Override PartName="/ppt/media/image67.png" ContentType="image/png"/>
  <Override PartName="/ppt/media/image24.wmf" ContentType="image/x-wmf"/>
  <Override PartName="/ppt/media/image60.png" ContentType="image/png"/>
  <Override PartName="/ppt/media/image21.wmf" ContentType="image/x-wmf"/>
  <Override PartName="/ppt/media/image64.png" ContentType="image/png"/>
  <Override PartName="/ppt/media/image68.png" ContentType="image/png"/>
  <Override PartName="/ppt/media/image25.wmf" ContentType="image/x-wmf"/>
  <Override PartName="/ppt/media/image61.png" ContentType="image/png"/>
  <Override PartName="/ppt/media/image22.wmf" ContentType="image/x-wmf"/>
  <Override PartName="/ppt/media/image65.png" ContentType="image/png"/>
  <Override PartName="/ppt/media/image62.png" ContentType="image/png"/>
  <Override PartName="/ppt/media/image57.png" ContentType="image/png"/>
  <Override PartName="/ppt/media/image14.wmf" ContentType="image/x-wmf"/>
  <Override PartName="/ppt/media/image23.wmf" ContentType="image/x-wmf"/>
  <Override PartName="/ppt/media/image66.png" ContentType="image/png"/>
  <Override PartName="/ppt/media/image27.wmf" ContentType="image/x-wmf"/>
  <Override PartName="/ppt/media/image63.png" ContentType="image/png"/>
  <Override PartName="/ppt/media/image20.wmf" ContentType="image/x-wmf"/>
  <Override PartName="/ppt/media/image72.png" ContentType="image/png"/>
  <Override PartName="/ppt/media/image71.png" ContentType="image/png"/>
  <Override PartName="/ppt/media/image32.wmf" ContentType="image/x-wmf"/>
  <Override PartName="/ppt/media/image26.wmf" ContentType="image/x-wmf"/>
  <Override PartName="/ppt/media/image69.png" ContentType="image/png"/>
  <Override PartName="/ppt/media/image2.png" ContentType="image/png"/>
  <Override PartName="/ppt/media/image70.png" ContentType="image/png"/>
  <Override PartName="/ppt/media/image31.wmf" ContentType="image/x-wmf"/>
  <Override PartName="/ppt/media/image58.png" ContentType="image/png"/>
  <Override PartName="/ppt/media/image15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.png" ContentType="image/png"/>
  <Override PartName="/ppt/media/image54.png" ContentType="image/png"/>
  <Override PartName="/ppt/media/image11.wmf" ContentType="image/x-wmf"/>
  <Override PartName="/ppt/media/image48.wmf" ContentType="image/x-wmf"/>
  <Override PartName="/ppt/media/image50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56.png" ContentType="image/png"/>
  <Override PartName="/ppt/media/image13.wmf" ContentType="image/x-wmf"/>
  <Override PartName="/ppt/media/image52.png" ContentType="image/png"/>
  <Override PartName="/ppt/media/image9.wmf" ContentType="image/x-wmf"/>
  <Override PartName="/ppt/media/image39.wmf" ContentType="image/x-wmf"/>
  <Override PartName="/ppt/media/image3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8D463-85CB-4B3F-8E2D-87DAF4F31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BE516-CDFF-4A78-A954-57F419532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does not generate energy if it contains only passive elements 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connects are always p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AB63A-80D9-4FC3-9395-4AECE94A9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nd imaginary parts are clearly depe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derived for dielectric constants, but applicable for all multiport parameters (S/Y/Z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F5446-FAFD-4DA2-AB10-D21BB1F83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ct estimation of causality of a system described with a frequency-domain response within a limited frequency band is not possible in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causality measure is Root Mean Square (RMS) Error of a Rational approximation of tabulated data (always caus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1B60C-8A16-410B-A35E-EE642D981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measurement noise can be eliminated with moving average or Gaussian filtration or decimating – the simplest technique, b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further degrade the response quality if the response is under-samp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4B7F3-A02D-4838-9988-0779FFFFB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verted in broad-band SPICE model for consistent TD and AC analy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CD3C6-424E-4922-947E-788241560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A90AC-5F9A-4C60-8627-6A9BBDD87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s with non-linear elements or with anisotropic materials (magnetized ferrites for instance) are non-reciprocal – S-matrices may be not symmetric in thos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CD436-1793-4E19-9F25-F9CED7362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iprocity is the fundamental property of multiports built with reciprocal materials and linear components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n-reciprocal and non-linear materials are not used in interconnec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42BC6-1284-4C6D-8330-FC02B4844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lvl="1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non-symmetric matrix - eigen-values of non-symmetric matrix do not have correspondence to singular values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9EC57-A0CD-49E0-9A24-B74A0CCDC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B7F-4A72-4157-AA34-868C48CD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71C-67FE-438A-9B95-6EF24EF0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AFA-D772-432B-A14F-AF910076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6C2-778C-4F21-8FE7-A5F060B3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F4B6-6CF9-4F97-9665-91DF0488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F0D0-B46B-4658-AD54-24818508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C96E-EE56-408B-BAD5-8F2AE9B4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4A2D-F8D0-40D5-91D0-32C2D1CD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E982-5946-4815-A4FD-7C1F2EFC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5A6C-E019-4614-AB17-7FCF834F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EA01-13D0-4274-897A-6DA6DF4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3E7-3486-45D0-9B10-FC5A2ACB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17C5-F4CE-4902-B0EB-74375A54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8374-BBDD-4F93-9546-D9AA6957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C816-AA3E-4C4A-A207-C432AA3C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B715-FBFF-4782-AB25-31591DD6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79E2-127D-4BBF-B1FF-024C2647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E48-F39F-4BBA-90F3-FA34F92C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F01-85B3-45AA-A127-2CB38593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2B0-3655-4A13-BE28-67025BF4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C7B-17FB-4C3C-AE2B-611588CE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6D6-C791-414F-9DA1-306AF1C7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DC0-00D1-4DCE-8507-C982CEC3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F7A-437D-4E46-9354-D374E179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CC96-DB97-4994-A788-CD425640F4AC}" type="datetime">
              <a:rPr b="0" lang="en-US" sz="1000" spc="-1" strike="noStrike">
                <a:solidFill>
                  <a:srgbClr val="034a85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D99F-AA36-4D0C-A87A-9E1E8F4F9A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9360">
            <a:solidFill>
              <a:srgbClr val="627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19080">
            <a:solidFill>
              <a:srgbClr val="627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57200" y="6232680"/>
            <a:ext cx="1444680" cy="32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9360">
              <a:solidFill>
                <a:srgbClr val="6277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cc66"/>
            </a:solidFill>
            <a:ln w="9360">
              <a:solidFill>
                <a:srgbClr val="ccf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7404120" y="227160"/>
            <a:ext cx="1444680" cy="320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CB01-DD53-462D-B785-BEB31561A06C}" type="datetime"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7554-8011-4C86-8D87-E173F74DA8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1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51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mailto:shlepnev@simberian.com" TargetMode="External"/><Relationship Id="rId2" Type="http://schemas.openxmlformats.org/officeDocument/2006/relationships/hyperlink" Target="http://www.simberian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9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3152880" cy="3467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2133720" y="3846600"/>
            <a:ext cx="4038480" cy="2477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872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4a85"/>
                </a:solidFill>
                <a:latin typeface="Arial"/>
              </a:rPr>
              <a:t>Quality metrics for </a:t>
            </a:r>
            <a:br>
              <a:rPr sz="4400"/>
            </a:br>
            <a:r>
              <a:rPr b="0" lang="en-US" sz="4400" spc="-1" strike="noStrike">
                <a:solidFill>
                  <a:srgbClr val="034a85"/>
                </a:solidFill>
                <a:latin typeface="Arial"/>
              </a:rPr>
              <a:t>S-parameter models </a:t>
            </a:r>
            <a:br>
              <a:rPr sz="4400"/>
            </a:br>
            <a:r>
              <a:rPr b="0" i="1" lang="en-US" sz="2400" spc="-1" strike="noStrike">
                <a:solidFill>
                  <a:srgbClr val="6666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666600"/>
                </a:solidFill>
                <a:latin typeface="Arial"/>
              </a:rPr>
              <a:t>DesignCon IBIS Summit, Santa Clara, February 4, 2010</a:t>
            </a:r>
            <a:endParaRPr b="0" lang="en-US" sz="20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57200" y="6477120"/>
            <a:ext cx="66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cc"/>
                </a:solidFill>
                <a:latin typeface="Verdana"/>
              </a:rPr>
              <a:t>Copyright © 2010 by Simberian Inc. Reuse by written permission only. All rights reserved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3"/>
          <a:stretch/>
        </p:blipFill>
        <p:spPr>
          <a:xfrm>
            <a:off x="5567400" y="4227480"/>
            <a:ext cx="3505320" cy="2297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4a85"/>
                </a:solidFill>
                <a:latin typeface="Arial"/>
              </a:rPr>
              <a:t>Yuriy Shlepn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4a85"/>
                </a:solidFill>
                <a:latin typeface="Arial"/>
              </a:rPr>
              <a:t>shlepnev@simberia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Passivity estimation and enforcemen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18960"/>
            <a:ext cx="822960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ity conditions for S-parameters (energy dissipation condi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45D0-FB2A-4C35-A034-F2D3412865D1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B460-A06F-4E88-B0F0-827F1D420534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4" name="Object 1"/>
          <p:cNvGraphicFramePr/>
          <p:nvPr/>
        </p:nvGraphicFramePr>
        <p:xfrm>
          <a:off x="866880" y="1785960"/>
          <a:ext cx="260964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1785960"/>
                    <a:ext cx="26096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606920" y="1749600"/>
          <a:ext cx="2082960" cy="37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06920" y="1749600"/>
                    <a:ext cx="20829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Right Arrow 11"/>
          <p:cNvSpPr/>
          <p:nvPr/>
        </p:nvSpPr>
        <p:spPr>
          <a:xfrm>
            <a:off x="3873600" y="1859040"/>
            <a:ext cx="401400" cy="2556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847800" y="2954160"/>
          <a:ext cx="3322440" cy="5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7800" y="2954160"/>
                    <a:ext cx="332244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Box 13"/>
          <p:cNvSpPr/>
          <p:nvPr/>
        </p:nvSpPr>
        <p:spPr>
          <a:xfrm>
            <a:off x="811080" y="2468520"/>
            <a:ext cx="68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ssivity measure is computed at each frequency point 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847800" y="3575160"/>
            <a:ext cx="726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compared with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hresho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if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M &gt; thresho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multiport is reported as not pass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811080" y="4524480"/>
            <a:ext cx="730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lization at each frequency point can be used to “enforce” the passivity (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works only with minor violations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5" name="Object 7"/>
          <p:cNvGraphicFramePr/>
          <p:nvPr/>
        </p:nvGraphicFramePr>
        <p:xfrm>
          <a:off x="884160" y="5035680"/>
          <a:ext cx="2592360" cy="90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84160" y="5035680"/>
                    <a:ext cx="2592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Box 17"/>
          <p:cNvSpPr/>
          <p:nvPr/>
        </p:nvSpPr>
        <p:spPr>
          <a:xfrm>
            <a:off x="4495680" y="304020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equal to max singular value of 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4389480" y="5311800"/>
            <a:ext cx="38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lternatively a rational filter can be us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a85"/>
                </a:solidFill>
                <a:latin typeface="Arial"/>
              </a:rPr>
              <a:t>Causality in frequency-domain</a:t>
            </a:r>
            <a:endParaRPr b="0" lang="en-US" sz="40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                       for the unit pulse response matrix 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Kramers-Kronig relations for the frequency-domain parameters (Hilbert trans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ary part can be derived from real (or vice versa), but the other part must be known from DC to infi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116D-F1D1-4FB7-9CDC-A875AD7A45D6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FDAC-34DF-4FCD-8A07-0B0E636B5D76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2030400" y="1274760"/>
          <a:ext cx="1519200" cy="3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1274760"/>
                    <a:ext cx="151920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9"/>
          <p:cNvSpPr/>
          <p:nvPr/>
        </p:nvSpPr>
        <p:spPr>
          <a:xfrm>
            <a:off x="920880" y="4487760"/>
            <a:ext cx="449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ramers, H.A., Nature, v 117, 1926 p. 775.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ronig, R. de L., J. Opt. Soc. Am. N12, 1926, p 547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2666880" y="1523880"/>
          <a:ext cx="3676680" cy="6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523880"/>
                    <a:ext cx="367668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4"/>
          <p:cNvGraphicFramePr/>
          <p:nvPr/>
        </p:nvGraphicFramePr>
        <p:xfrm>
          <a:off x="892080" y="2819520"/>
          <a:ext cx="510552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92080" y="2819520"/>
                    <a:ext cx="5105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4"/>
          <p:cNvGraphicFramePr/>
          <p:nvPr/>
        </p:nvGraphicFramePr>
        <p:xfrm>
          <a:off x="920880" y="3581280"/>
          <a:ext cx="5479920" cy="69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0880" y="3581280"/>
                    <a:ext cx="54799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Straight Connector 12"/>
          <p:cNvSpPr/>
          <p:nvPr/>
        </p:nvSpPr>
        <p:spPr>
          <a:xfrm>
            <a:off x="6616800" y="2698920"/>
            <a:ext cx="0" cy="21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6858000" y="3143160"/>
          <a:ext cx="1717560" cy="69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3143160"/>
                    <a:ext cx="17175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"/>
          <p:cNvGraphicFramePr/>
          <p:nvPr/>
        </p:nvGraphicFramePr>
        <p:xfrm>
          <a:off x="6840360" y="3790800"/>
          <a:ext cx="2075040" cy="118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0360" y="3790800"/>
                    <a:ext cx="2075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Straight Connector 15"/>
          <p:cNvSpPr/>
          <p:nvPr/>
        </p:nvSpPr>
        <p:spPr>
          <a:xfrm>
            <a:off x="8381880" y="3681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Straight Connector 17"/>
          <p:cNvSpPr/>
          <p:nvPr/>
        </p:nvSpPr>
        <p:spPr>
          <a:xfrm flipV="1">
            <a:off x="8686800" y="345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686800" y="3452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1" name="Straight Arrow Connector 23"/>
          <p:cNvCxnSpPr/>
          <p:nvPr/>
        </p:nvCxnSpPr>
        <p:spPr>
          <a:xfrm>
            <a:off x="8391240" y="356724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Straight Arrow Connector 25"/>
          <p:cNvCxnSpPr/>
          <p:nvPr/>
        </p:nvCxnSpPr>
        <p:spPr>
          <a:xfrm flipV="1">
            <a:off x="8685360" y="330156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TextBox 22"/>
          <p:cNvSpPr/>
          <p:nvPr/>
        </p:nvSpPr>
        <p:spPr>
          <a:xfrm>
            <a:off x="6872400" y="2844720"/>
            <a:ext cx="182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eri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ausality estimation - difficult way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mers-Kronig relatio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not be directly u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requency-domain response known ov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limited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ity boundaries can be introduced to estimate causality of the tabulated and band-limited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ton, G.W., Eyre, D.J. and Mantese, J.V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ite Frequency Range Kramers Kronig Relations: Bounds on the Dispers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ys. Rev. Lett. 79, 1997, p. 3062-30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verio, P. Grivet-Talocia S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bust Causality Characterization via Generalized Dispersion Rel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EEE Trans. on Adv. Packaging, N 3, 2008, p. 579-5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2B95-6FA9-42B4-A4A4-75DFDEC75C52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B761-EBEF-4A2F-9381-BB9751B7DA1A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ausality estimation - easy way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2193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” causality measure based on the observation that polar plot of a causal system rotates mostly clockwise (suggested by V. Dmitriev-Zdor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CF4B-7E84-40C5-A4F6-3432F71DE836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8F96-D9BF-4856-95F5-D7D9E310BED3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811080" y="2230560"/>
            <a:ext cx="4486320" cy="37908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372960" y="2187720"/>
            <a:ext cx="332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ot of Re(S[i,j]) as function of Im(S[i,j]), or polar pl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3367080" y="301140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frequen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7" name="Straight Arrow Connector 10"/>
          <p:cNvCxnSpPr/>
          <p:nvPr/>
        </p:nvCxnSpPr>
        <p:spPr>
          <a:xfrm>
            <a:off x="4388400" y="3319200"/>
            <a:ext cx="37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8" name="TextBox 11"/>
          <p:cNvSpPr/>
          <p:nvPr/>
        </p:nvSpPr>
        <p:spPr>
          <a:xfrm>
            <a:off x="446040" y="29908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d frequen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9" name="Straight Arrow Connector 13"/>
          <p:cNvCxnSpPr/>
          <p:nvPr/>
        </p:nvCxnSpPr>
        <p:spPr>
          <a:xfrm>
            <a:off x="1295280" y="3365640"/>
            <a:ext cx="76752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Straight Arrow Connector 18"/>
          <p:cNvCxnSpPr/>
          <p:nvPr/>
        </p:nvCxnSpPr>
        <p:spPr>
          <a:xfrm>
            <a:off x="4132800" y="4305240"/>
            <a:ext cx="37080" cy="255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1" name="Straight Arrow Connector 20"/>
          <p:cNvCxnSpPr/>
          <p:nvPr/>
        </p:nvCxnSpPr>
        <p:spPr>
          <a:xfrm flipH="1">
            <a:off x="3987000" y="4560480"/>
            <a:ext cx="183240" cy="329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2" name="Straight Arrow Connector 22"/>
          <p:cNvCxnSpPr/>
          <p:nvPr/>
        </p:nvCxnSpPr>
        <p:spPr>
          <a:xfrm flipH="1">
            <a:off x="3695040" y="4888440"/>
            <a:ext cx="292680" cy="183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3" name="Straight Arrow Connector 24"/>
          <p:cNvCxnSpPr/>
          <p:nvPr/>
        </p:nvCxnSpPr>
        <p:spPr>
          <a:xfrm flipV="1">
            <a:off x="3038400" y="4706280"/>
            <a:ext cx="1023120" cy="58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TextBox 25"/>
          <p:cNvSpPr/>
          <p:nvPr/>
        </p:nvSpPr>
        <p:spPr>
          <a:xfrm>
            <a:off x="1103400" y="5246640"/>
            <a:ext cx="306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Rotation in complex plane is mostly clockwise around local cen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4143960" y="2004840"/>
            <a:ext cx="3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4880520" y="34653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Box 28"/>
          <p:cNvSpPr/>
          <p:nvPr/>
        </p:nvSpPr>
        <p:spPr>
          <a:xfrm>
            <a:off x="5302080" y="2443320"/>
            <a:ext cx="368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usality measure (CM) can be computed as the ratio of clockwise rotation measure to total rotation measure in %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is value is below 80%, the parameters are reported as suspect for possible violation of causal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8" name="Straight Arrow Connector 21"/>
          <p:cNvCxnSpPr/>
          <p:nvPr/>
        </p:nvCxnSpPr>
        <p:spPr>
          <a:xfrm flipV="1">
            <a:off x="3585960" y="4341240"/>
            <a:ext cx="5482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3"/>
          <p:cNvCxnSpPr/>
          <p:nvPr/>
        </p:nvCxnSpPr>
        <p:spPr>
          <a:xfrm>
            <a:off x="3586320" y="4524120"/>
            <a:ext cx="584640" cy="3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Straight Arrow Connector 25"/>
          <p:cNvCxnSpPr/>
          <p:nvPr/>
        </p:nvCxnSpPr>
        <p:spPr>
          <a:xfrm>
            <a:off x="3585240" y="4524120"/>
            <a:ext cx="14652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ausality improvemen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ration or decimating – the simplest technique, b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further degrade the respons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ficially extend real or imaginary part, or magnitude of the frequency response to DC and to the infinity and restore the other part with the Kramers-Kronig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tored part will strongly depend on the artificial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 extension adjustment is possible to improve accuracy over the sampled frequency band - difficul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t the response with causal rational basis functions (use rational compact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controlled accuracy over the sampled frequency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t results in both frequency and time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tended to DC and to inf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28EE-8CF4-4D29-8548-010B3AEC27B0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7235-6CE9-4D08-BFA3-11F8429FB6C8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Use of Rational Compact Model (RCM) for S-parameters causality “improvement”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3137040"/>
            <a:ext cx="82296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response is real and delay-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rocal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1858-D5C7-428C-A663-72744EE7D34B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B0FE-C1AD-4614-B53B-F94E01630179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968400" y="3757680"/>
          <a:ext cx="725472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3757680"/>
                    <a:ext cx="72547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4"/>
          <p:cNvGraphicFramePr/>
          <p:nvPr/>
        </p:nvGraphicFramePr>
        <p:xfrm>
          <a:off x="1906560" y="4446720"/>
          <a:ext cx="139392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6560" y="4446720"/>
                    <a:ext cx="139392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5"/>
          <p:cNvGraphicFramePr/>
          <p:nvPr/>
        </p:nvGraphicFramePr>
        <p:xfrm>
          <a:off x="985680" y="3532320"/>
          <a:ext cx="1528920" cy="35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5680" y="3532320"/>
                    <a:ext cx="15289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6"/>
          <p:cNvGraphicFramePr/>
          <p:nvPr/>
        </p:nvGraphicFramePr>
        <p:xfrm>
          <a:off x="2454120" y="4919760"/>
          <a:ext cx="4461120" cy="44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54120" y="4919760"/>
                    <a:ext cx="446112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7"/>
          <p:cNvGraphicFramePr/>
          <p:nvPr/>
        </p:nvGraphicFramePr>
        <p:xfrm>
          <a:off x="2892600" y="5400720"/>
          <a:ext cx="1512720" cy="355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2600" y="5400720"/>
                    <a:ext cx="15127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Box 14"/>
          <p:cNvSpPr/>
          <p:nvPr/>
        </p:nvSpPr>
        <p:spPr>
          <a:xfrm>
            <a:off x="7326360" y="514044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y require enforc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ight Brace 15"/>
          <p:cNvSpPr/>
          <p:nvPr/>
        </p:nvSpPr>
        <p:spPr>
          <a:xfrm>
            <a:off x="6945480" y="496260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914400"/>
              <a:gd name="textAreaBottom" fmla="*/ 906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3" name="Object 8"/>
          <p:cNvGraphicFramePr/>
          <p:nvPr/>
        </p:nvGraphicFramePr>
        <p:xfrm>
          <a:off x="628560" y="1347840"/>
          <a:ext cx="6080040" cy="135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8560" y="1347840"/>
                    <a:ext cx="60800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TextBox 16"/>
          <p:cNvSpPr/>
          <p:nvPr/>
        </p:nvSpPr>
        <p:spPr>
          <a:xfrm>
            <a:off x="6754680" y="1420920"/>
            <a:ext cx="238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ous functions of frequ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What are RCMs for?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quality of tabulated Touchston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minor passivity and causality vio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olate and extrapolate with guarantied pass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broad-band SPIC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maller mode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rtifacts and guarantied stability of SPIC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t frequency and time domain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ime-domain response of a channel with a fast recursive convolution algorithm (exact solution for PWL sign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7B0A-434D-401F-8E49-03A2B2BBCCD8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E2A4-3DA1-4E5E-A813-7C11CAE5FFCF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Global quality metrics (0-100%)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3651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ity Quality Measure: PQM or zero if PQM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procity Quality Measure: RQM or zero if RQM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ality Quality Measure: Minimal ratio of clockwise rotation measure to total rotation measure in %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ould be &gt;8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 error of the rational compact model can be also used to characterize the causality of the original 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A07F-0D0A-4981-B4F3-A1F34F028451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FFE8-78B5-4D9B-BF9E-D74E98DC4E3F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6" name="Object 2"/>
          <p:cNvGraphicFramePr/>
          <p:nvPr/>
        </p:nvGraphicFramePr>
        <p:xfrm>
          <a:off x="547560" y="3336840"/>
          <a:ext cx="298296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3336840"/>
                    <a:ext cx="2982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2"/>
          <p:cNvGraphicFramePr/>
          <p:nvPr/>
        </p:nvGraphicFramePr>
        <p:xfrm>
          <a:off x="530280" y="1727280"/>
          <a:ext cx="298296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280" y="1727280"/>
                    <a:ext cx="29829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2"/>
          <p:cNvGraphicFramePr/>
          <p:nvPr/>
        </p:nvGraphicFramePr>
        <p:xfrm>
          <a:off x="3703680" y="1757520"/>
          <a:ext cx="524988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3680" y="1757520"/>
                    <a:ext cx="52498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2"/>
          <p:cNvGraphicFramePr/>
          <p:nvPr/>
        </p:nvGraphicFramePr>
        <p:xfrm>
          <a:off x="4170240" y="3370320"/>
          <a:ext cx="462456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70240" y="3370320"/>
                    <a:ext cx="46245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2"/>
          <p:cNvGraphicFramePr/>
          <p:nvPr/>
        </p:nvGraphicFramePr>
        <p:xfrm>
          <a:off x="4146480" y="3917880"/>
          <a:ext cx="2799000" cy="56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6480" y="3917880"/>
                    <a:ext cx="279900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6"/>
          <p:cNvGraphicFramePr/>
          <p:nvPr/>
        </p:nvGraphicFramePr>
        <p:xfrm>
          <a:off x="3672000" y="2293920"/>
          <a:ext cx="3638520" cy="48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7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72000" y="2293920"/>
                    <a:ext cx="36385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Box 16"/>
          <p:cNvSpPr/>
          <p:nvPr/>
        </p:nvSpPr>
        <p:spPr>
          <a:xfrm>
            <a:off x="555480" y="242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hould be &gt;98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Box 17"/>
          <p:cNvSpPr/>
          <p:nvPr/>
        </p:nvSpPr>
        <p:spPr>
          <a:xfrm>
            <a:off x="592200" y="40640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hould be &gt;98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Example 1: High-quality model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4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6201-48F1-40A2-85B3-C4DF5E79CF1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742E-23AF-4C65-A041-07ACCCBAFAD7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17" descr=""/>
          <p:cNvPicPr/>
          <p:nvPr/>
        </p:nvPicPr>
        <p:blipFill>
          <a:blip r:embed="rId1"/>
          <a:stretch/>
        </p:blipFill>
        <p:spPr>
          <a:xfrm>
            <a:off x="722160" y="2509920"/>
            <a:ext cx="5419800" cy="3657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5" descr=""/>
          <p:cNvPicPr/>
          <p:nvPr/>
        </p:nvPicPr>
        <p:blipFill>
          <a:blip r:embed="rId2"/>
          <a:stretch/>
        </p:blipFill>
        <p:spPr>
          <a:xfrm>
            <a:off x="519120" y="2077920"/>
            <a:ext cx="5676840" cy="304920"/>
          </a:xfrm>
          <a:prstGeom prst="rect">
            <a:avLst/>
          </a:prstGeom>
          <a:ln w="0">
            <a:noFill/>
          </a:ln>
        </p:spPr>
      </p:pic>
      <p:sp>
        <p:nvSpPr>
          <p:cNvPr id="346" name="TextBox 8"/>
          <p:cNvSpPr/>
          <p:nvPr/>
        </p:nvSpPr>
        <p:spPr>
          <a:xfrm>
            <a:off x="2782800" y="2844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0% Passive (goo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7" name="Straight Arrow Connector 10"/>
          <p:cNvCxnSpPr/>
          <p:nvPr/>
        </p:nvCxnSpPr>
        <p:spPr>
          <a:xfrm flipH="1">
            <a:off x="2417760" y="3209760"/>
            <a:ext cx="62100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TextBox 11"/>
          <p:cNvSpPr/>
          <p:nvPr/>
        </p:nvSpPr>
        <p:spPr>
          <a:xfrm>
            <a:off x="1139760" y="4343400"/>
            <a:ext cx="37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8.4 % Reciprocal (goo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49" name="Straight Arrow Connector 13"/>
          <p:cNvCxnSpPr/>
          <p:nvPr/>
        </p:nvCxnSpPr>
        <p:spPr>
          <a:xfrm>
            <a:off x="2343600" y="4669920"/>
            <a:ext cx="4755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TextBox 14"/>
          <p:cNvSpPr/>
          <p:nvPr/>
        </p:nvSpPr>
        <p:spPr>
          <a:xfrm>
            <a:off x="6470640" y="2516040"/>
            <a:ext cx="267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usality problem, but it can be restored with R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51" name="Straight Arrow Connector 16"/>
          <p:cNvCxnSpPr/>
          <p:nvPr/>
        </p:nvCxnSpPr>
        <p:spPr>
          <a:xfrm flipH="1" flipV="1">
            <a:off x="6032160" y="2332800"/>
            <a:ext cx="5119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52" name="Picture 3" descr=""/>
          <p:cNvPicPr/>
          <p:nvPr/>
        </p:nvPicPr>
        <p:blipFill>
          <a:blip r:embed="rId3"/>
          <a:stretch/>
        </p:blipFill>
        <p:spPr>
          <a:xfrm>
            <a:off x="555480" y="1238400"/>
            <a:ext cx="5403960" cy="815760"/>
          </a:xfrm>
          <a:prstGeom prst="rect">
            <a:avLst/>
          </a:prstGeom>
          <a:ln w="0">
            <a:noFill/>
          </a:ln>
        </p:spPr>
      </p:pic>
      <p:cxnSp>
        <p:nvCxnSpPr>
          <p:cNvPr id="353" name="Straight Arrow Connector 15"/>
          <p:cNvCxnSpPr/>
          <p:nvPr/>
        </p:nvCxnSpPr>
        <p:spPr>
          <a:xfrm flipH="1" flipV="1">
            <a:off x="1431360" y="3392280"/>
            <a:ext cx="548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4" name="Straight Arrow Connector 17"/>
          <p:cNvCxnSpPr/>
          <p:nvPr/>
        </p:nvCxnSpPr>
        <p:spPr>
          <a:xfrm>
            <a:off x="3367080" y="5729400"/>
            <a:ext cx="767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5" name="Oval 16"/>
          <p:cNvSpPr/>
          <p:nvPr/>
        </p:nvSpPr>
        <p:spPr>
          <a:xfrm>
            <a:off x="3220920" y="4743360"/>
            <a:ext cx="365400" cy="986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Box 30"/>
          <p:cNvSpPr/>
          <p:nvPr/>
        </p:nvSpPr>
        <p:spPr>
          <a:xfrm>
            <a:off x="6032520" y="1201680"/>
            <a:ext cx="30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controlled via from PLRD-1 benchmark board – SOLT calib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Box 31"/>
          <p:cNvSpPr/>
          <p:nvPr/>
        </p:nvSpPr>
        <p:spPr>
          <a:xfrm>
            <a:off x="6178680" y="5315040"/>
            <a:ext cx="28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 provided by Teraspeed Consulting Gro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Oval 32"/>
          <p:cNvSpPr/>
          <p:nvPr/>
        </p:nvSpPr>
        <p:spPr>
          <a:xfrm>
            <a:off x="2746440" y="2195640"/>
            <a:ext cx="3395520" cy="25560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A427-360F-4A89-BBF4-CE054C574BA9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1274760"/>
            <a:ext cx="4771800" cy="42102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SOLT): 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Improving S-parameters with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62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03AF-1782-4E68-9DA5-F17D26EB53D1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5411880" y="2698920"/>
            <a:ext cx="3468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CM model has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RMS Error is 0.0034 (very good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is passive from DC to infinity and 100% causal and reciproc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Box 9"/>
          <p:cNvSpPr/>
          <p:nvPr/>
        </p:nvSpPr>
        <p:spPr>
          <a:xfrm>
            <a:off x="884160" y="5583240"/>
            <a:ext cx="660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uchstone model with DC and reduced number of frequency points or BB SPICE model can be produced from RC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ight Brace 10"/>
          <p:cNvSpPr/>
          <p:nvPr/>
        </p:nvSpPr>
        <p:spPr>
          <a:xfrm>
            <a:off x="4681440" y="1797120"/>
            <a:ext cx="109800" cy="401400"/>
          </a:xfrm>
          <a:custGeom>
            <a:avLst/>
            <a:gdLst>
              <a:gd name="textAreaLeft" fmla="*/ 0 w 109800"/>
              <a:gd name="textAreaRight" fmla="*/ 39600 w 109800"/>
              <a:gd name="textAreaTop" fmla="*/ 2520 h 401400"/>
              <a:gd name="textAreaBottom" fmla="*/ 398880 h 40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4827600" y="178596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M (circ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ight Brace 12"/>
          <p:cNvSpPr/>
          <p:nvPr/>
        </p:nvSpPr>
        <p:spPr>
          <a:xfrm>
            <a:off x="4498920" y="1322280"/>
            <a:ext cx="146160" cy="474840"/>
          </a:xfrm>
          <a:custGeom>
            <a:avLst/>
            <a:gdLst>
              <a:gd name="textAreaLeft" fmla="*/ 0 w 146160"/>
              <a:gd name="textAreaRight" fmla="*/ 52560 w 146160"/>
              <a:gd name="textAreaTop" fmla="*/ 3600 h 474840"/>
              <a:gd name="textAreaBottom" fmla="*/ 47124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4608360" y="1360440"/>
            <a:ext cx="16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NA (sta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2"/>
          <a:stretch/>
        </p:blipFill>
        <p:spPr>
          <a:xfrm>
            <a:off x="4170240" y="4430880"/>
            <a:ext cx="4491000" cy="677520"/>
          </a:xfrm>
          <a:prstGeom prst="rect">
            <a:avLst/>
          </a:prstGeom>
          <a:ln w="0">
            <a:noFill/>
          </a:ln>
        </p:spPr>
      </p:pic>
      <p:cxnSp>
        <p:nvCxnSpPr>
          <p:cNvPr id="371" name="Straight Arrow Connector 14"/>
          <p:cNvCxnSpPr/>
          <p:nvPr/>
        </p:nvCxnSpPr>
        <p:spPr>
          <a:xfrm flipV="1">
            <a:off x="1979640" y="2516040"/>
            <a:ext cx="40248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2" name="TextBox 15"/>
          <p:cNvSpPr/>
          <p:nvPr/>
        </p:nvSpPr>
        <p:spPr>
          <a:xfrm>
            <a:off x="847800" y="2771640"/>
            <a:ext cx="23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73" name="Straight Arrow Connector 16"/>
          <p:cNvCxnSpPr/>
          <p:nvPr/>
        </p:nvCxnSpPr>
        <p:spPr>
          <a:xfrm flipV="1">
            <a:off x="1905480" y="4304520"/>
            <a:ext cx="32904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TextBox 17"/>
          <p:cNvSpPr/>
          <p:nvPr/>
        </p:nvSpPr>
        <p:spPr>
          <a:xfrm>
            <a:off x="884160" y="4743360"/>
            <a:ext cx="23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rocity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ity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lit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qualit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s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33F1-794C-4CBC-8A37-33612649AEB0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D6FA-C725-454D-A244-B77118A45E9E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312A-E536-4F47-B9A6-C62391F0A86A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17" descr=""/>
          <p:cNvPicPr/>
          <p:nvPr/>
        </p:nvPicPr>
        <p:blipFill>
          <a:blip r:embed="rId1"/>
          <a:stretch/>
        </p:blipFill>
        <p:spPr>
          <a:xfrm>
            <a:off x="4610160" y="1859040"/>
            <a:ext cx="4533840" cy="3876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6" descr=""/>
          <p:cNvPicPr/>
          <p:nvPr/>
        </p:nvPicPr>
        <p:blipFill>
          <a:blip r:embed="rId2"/>
          <a:stretch/>
        </p:blipFill>
        <p:spPr>
          <a:xfrm>
            <a:off x="372960" y="1825560"/>
            <a:ext cx="4276800" cy="3648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SOLT): 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Original S[1,1] and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79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A353-34E4-422C-AEFB-78C58121E95C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Box 9"/>
          <p:cNvSpPr/>
          <p:nvPr/>
        </p:nvSpPr>
        <p:spPr>
          <a:xfrm>
            <a:off x="665280" y="1165320"/>
            <a:ext cx="37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NA Measurement: 3201 points starting from 300 K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TextBox 10"/>
          <p:cNvSpPr/>
          <p:nvPr/>
        </p:nvSpPr>
        <p:spPr>
          <a:xfrm>
            <a:off x="4572000" y="1165320"/>
            <a:ext cx="456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-sampled RCM: 769 points distributed adaptively starting from 0 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1"/>
          <p:cNvSpPr/>
          <p:nvPr/>
        </p:nvSpPr>
        <p:spPr>
          <a:xfrm>
            <a:off x="7923240" y="145728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USAL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446040" y="5437080"/>
            <a:ext cx="368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isible noise and large segments with counter-clockwise ro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85" name="Straight Arrow Connector 13"/>
          <p:cNvCxnSpPr/>
          <p:nvPr/>
        </p:nvCxnSpPr>
        <p:spPr>
          <a:xfrm flipV="1">
            <a:off x="993600" y="4122000"/>
            <a:ext cx="293040" cy="135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6" name="TextBox 15"/>
          <p:cNvSpPr/>
          <p:nvPr/>
        </p:nvSpPr>
        <p:spPr>
          <a:xfrm>
            <a:off x="3513240" y="2187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1,1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Right Arrow 18"/>
          <p:cNvSpPr/>
          <p:nvPr/>
        </p:nvSpPr>
        <p:spPr>
          <a:xfrm>
            <a:off x="4389480" y="3282840"/>
            <a:ext cx="328680" cy="21924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88" name="Straight Arrow Connector 20"/>
          <p:cNvCxnSpPr/>
          <p:nvPr/>
        </p:nvCxnSpPr>
        <p:spPr>
          <a:xfrm>
            <a:off x="8733240" y="1785960"/>
            <a:ext cx="11052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9" name="TextBox 13"/>
          <p:cNvSpPr/>
          <p:nvPr/>
        </p:nvSpPr>
        <p:spPr>
          <a:xfrm>
            <a:off x="4572000" y="5729400"/>
            <a:ext cx="368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 line – original V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en line with circles - RC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Oval 17"/>
          <p:cNvSpPr/>
          <p:nvPr/>
        </p:nvSpPr>
        <p:spPr>
          <a:xfrm>
            <a:off x="8105760" y="1822320"/>
            <a:ext cx="1030320" cy="47484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6" descr=""/>
          <p:cNvPicPr/>
          <p:nvPr/>
        </p:nvPicPr>
        <p:blipFill>
          <a:blip r:embed="rId1"/>
          <a:stretch/>
        </p:blipFill>
        <p:spPr>
          <a:xfrm>
            <a:off x="625320" y="3584520"/>
            <a:ext cx="5115240" cy="218124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A2FA-C4E1-477C-9285-76938FB01196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SOLT): 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Original S[1,1] and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94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A0A7-0EEE-4F5F-8316-4CB1EC56A42F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5850000" y="24433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s – VNA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5850000" y="277668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cles – R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TextBox 23"/>
          <p:cNvSpPr/>
          <p:nvPr/>
        </p:nvSpPr>
        <p:spPr>
          <a:xfrm>
            <a:off x="5886360" y="322596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CM: 46 pol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Error 0.00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Picture 15" descr=""/>
          <p:cNvPicPr/>
          <p:nvPr/>
        </p:nvPicPr>
        <p:blipFill>
          <a:blip r:embed="rId2"/>
          <a:stretch/>
        </p:blipFill>
        <p:spPr>
          <a:xfrm>
            <a:off x="592200" y="1274760"/>
            <a:ext cx="5114880" cy="2181240"/>
          </a:xfrm>
          <a:prstGeom prst="rect">
            <a:avLst/>
          </a:prstGeom>
          <a:ln w="0">
            <a:noFill/>
          </a:ln>
        </p:spPr>
      </p:pic>
      <p:sp>
        <p:nvSpPr>
          <p:cNvPr id="400" name="TextBox 17"/>
          <p:cNvSpPr/>
          <p:nvPr/>
        </p:nvSpPr>
        <p:spPr>
          <a:xfrm>
            <a:off x="993600" y="16765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(S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993600" y="397656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(S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Box 19"/>
          <p:cNvSpPr/>
          <p:nvPr/>
        </p:nvSpPr>
        <p:spPr>
          <a:xfrm>
            <a:off x="5923080" y="4237200"/>
            <a:ext cx="270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actically indistinguishable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E95C-4920-4492-B068-C5B1BAF2D8C0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20" descr=""/>
          <p:cNvPicPr/>
          <p:nvPr/>
        </p:nvPicPr>
        <p:blipFill>
          <a:blip r:embed="rId1"/>
          <a:stretch/>
        </p:blipFill>
        <p:spPr>
          <a:xfrm>
            <a:off x="1990800" y="1211400"/>
            <a:ext cx="4771800" cy="24001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TDR from RCM (SOLT)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06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36FA-6A26-487C-B6DB-90BE7F76449B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2"/>
          <a:stretch/>
        </p:blipFill>
        <p:spPr>
          <a:xfrm>
            <a:off x="2089080" y="3794040"/>
            <a:ext cx="4710240" cy="25066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4"/>
          <p:cNvSpPr/>
          <p:nvPr/>
        </p:nvSpPr>
        <p:spPr>
          <a:xfrm>
            <a:off x="3341520" y="1530360"/>
            <a:ext cx="31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measured S[1,1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 ps rise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3147840" y="383076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d TD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1395720" y="127476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(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Box 14"/>
          <p:cNvSpPr/>
          <p:nvPr/>
        </p:nvSpPr>
        <p:spPr>
          <a:xfrm>
            <a:off x="1528920" y="368604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(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3"/>
          <a:stretch/>
        </p:blipFill>
        <p:spPr>
          <a:xfrm>
            <a:off x="2855880" y="5254560"/>
            <a:ext cx="3468600" cy="523800"/>
          </a:xfrm>
          <a:prstGeom prst="rect">
            <a:avLst/>
          </a:prstGeom>
          <a:ln w="0">
            <a:noFill/>
          </a:ln>
        </p:spPr>
      </p:pic>
      <p:cxnSp>
        <p:nvCxnSpPr>
          <p:cNvPr id="414" name="Straight Arrow Connector 18"/>
          <p:cNvCxnSpPr/>
          <p:nvPr/>
        </p:nvCxnSpPr>
        <p:spPr>
          <a:xfrm>
            <a:off x="1369800" y="2370240"/>
            <a:ext cx="120564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Straight Arrow Connector 20"/>
          <p:cNvCxnSpPr/>
          <p:nvPr/>
        </p:nvCxnSpPr>
        <p:spPr>
          <a:xfrm>
            <a:off x="1394280" y="2369880"/>
            <a:ext cx="1570680" cy="19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6" name="TextBox 21"/>
          <p:cNvSpPr/>
          <p:nvPr/>
        </p:nvSpPr>
        <p:spPr>
          <a:xfrm>
            <a:off x="384120" y="200484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un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147840" y="2625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18" name="Straight Arrow Connector 23"/>
          <p:cNvCxnSpPr/>
          <p:nvPr/>
        </p:nvCxnSpPr>
        <p:spPr>
          <a:xfrm flipH="1" flipV="1">
            <a:off x="2940120" y="2223720"/>
            <a:ext cx="25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9" name="TextBox 13"/>
          <p:cNvSpPr/>
          <p:nvPr/>
        </p:nvSpPr>
        <p:spPr>
          <a:xfrm>
            <a:off x="5119560" y="26989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20" name="Straight Arrow Connector 26"/>
          <p:cNvCxnSpPr>
            <a:stCxn id="419" idx="0"/>
          </p:cNvCxnSpPr>
          <p:nvPr/>
        </p:nvCxnSpPr>
        <p:spPr>
          <a:xfrm flipV="1">
            <a:off x="5356080" y="2406240"/>
            <a:ext cx="676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1" name="TextBox 28"/>
          <p:cNvSpPr/>
          <p:nvPr/>
        </p:nvSpPr>
        <p:spPr>
          <a:xfrm>
            <a:off x="2125800" y="532764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rt 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Box 29"/>
          <p:cNvSpPr/>
          <p:nvPr/>
        </p:nvSpPr>
        <p:spPr>
          <a:xfrm>
            <a:off x="6324480" y="5354640"/>
            <a:ext cx="14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rt 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5850000" y="2662200"/>
            <a:ext cx="37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or non-symmetry in the impedance profile: SQM=72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extBox 31"/>
          <p:cNvSpPr/>
          <p:nvPr/>
        </p:nvSpPr>
        <p:spPr>
          <a:xfrm>
            <a:off x="3695760" y="28814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25" name="Straight Arrow Connector 33"/>
          <p:cNvCxnSpPr/>
          <p:nvPr/>
        </p:nvCxnSpPr>
        <p:spPr>
          <a:xfrm flipV="1">
            <a:off x="4206600" y="2953800"/>
            <a:ext cx="29268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35"/>
          <p:cNvCxnSpPr/>
          <p:nvPr/>
        </p:nvCxnSpPr>
        <p:spPr>
          <a:xfrm>
            <a:off x="4206960" y="3173040"/>
            <a:ext cx="219600" cy="10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28"/>
          <p:cNvSpPr/>
          <p:nvPr/>
        </p:nvSpPr>
        <p:spPr>
          <a:xfrm>
            <a:off x="6068880" y="4556160"/>
            <a:ext cx="30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od correspondenc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Example 2: Model that needs improvement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29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5834-F08E-4733-9C4F-6A312CF2E882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659A-15E1-4CED-92E0-54B7A004EFCA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26" descr=""/>
          <p:cNvPicPr/>
          <p:nvPr/>
        </p:nvPicPr>
        <p:blipFill>
          <a:blip r:embed="rId1"/>
          <a:stretch/>
        </p:blipFill>
        <p:spPr>
          <a:xfrm>
            <a:off x="636480" y="2662200"/>
            <a:ext cx="5515200" cy="34862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tretch/>
        </p:blipFill>
        <p:spPr>
          <a:xfrm>
            <a:off x="636480" y="1393920"/>
            <a:ext cx="5403960" cy="815760"/>
          </a:xfrm>
          <a:prstGeom prst="rect">
            <a:avLst/>
          </a:prstGeom>
          <a:ln w="0">
            <a:noFill/>
          </a:ln>
        </p:spPr>
      </p:pic>
      <p:sp>
        <p:nvSpPr>
          <p:cNvPr id="434" name="TextBox 11"/>
          <p:cNvSpPr/>
          <p:nvPr/>
        </p:nvSpPr>
        <p:spPr>
          <a:xfrm>
            <a:off x="1476360" y="4560840"/>
            <a:ext cx="44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7.5 % Reciprocal (accepta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Box 14"/>
          <p:cNvSpPr/>
          <p:nvPr/>
        </p:nvSpPr>
        <p:spPr>
          <a:xfrm>
            <a:off x="6149880" y="2973240"/>
            <a:ext cx="303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usality is 17.7%, that is even slightly better than the original SOLT 9.5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6" name="Straight Arrow Connector 16"/>
          <p:cNvCxnSpPr/>
          <p:nvPr/>
        </p:nvCxnSpPr>
        <p:spPr>
          <a:xfrm flipH="1" flipV="1">
            <a:off x="6952680" y="2625120"/>
            <a:ext cx="43884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7" name="Straight Connector 34"/>
          <p:cNvSpPr/>
          <p:nvPr/>
        </p:nvSpPr>
        <p:spPr>
          <a:xfrm flipH="1">
            <a:off x="2571480" y="1635120"/>
            <a:ext cx="3636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Straight Connector 35"/>
          <p:cNvSpPr/>
          <p:nvPr/>
        </p:nvSpPr>
        <p:spPr>
          <a:xfrm flipH="1">
            <a:off x="3813120" y="1635120"/>
            <a:ext cx="3672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Box 36"/>
          <p:cNvSpPr/>
          <p:nvPr/>
        </p:nvSpPr>
        <p:spPr>
          <a:xfrm>
            <a:off x="1695600" y="1092240"/>
            <a:ext cx="467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L Reference Planes (250 mil from vi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0" name="Straight Arrow Connector 38"/>
          <p:cNvCxnSpPr/>
          <p:nvPr/>
        </p:nvCxnSpPr>
        <p:spPr>
          <a:xfrm flipH="1">
            <a:off x="2607840" y="1429200"/>
            <a:ext cx="54864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1" name="Straight Arrow Connector 40"/>
          <p:cNvCxnSpPr/>
          <p:nvPr/>
        </p:nvCxnSpPr>
        <p:spPr>
          <a:xfrm>
            <a:off x="3155760" y="1429920"/>
            <a:ext cx="69444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2" name="TextBox 26"/>
          <p:cNvSpPr/>
          <p:nvPr/>
        </p:nvSpPr>
        <p:spPr>
          <a:xfrm>
            <a:off x="2427120" y="2844720"/>
            <a:ext cx="29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ssivity violated at few points PQM=99.95% (acceptab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Oval 9"/>
          <p:cNvSpPr/>
          <p:nvPr/>
        </p:nvSpPr>
        <p:spPr>
          <a:xfrm>
            <a:off x="820800" y="2625840"/>
            <a:ext cx="620640" cy="730080"/>
          </a:xfrm>
          <a:prstGeom prst="ellipse">
            <a:avLst/>
          </a:prstGeom>
          <a:solidFill>
            <a:srgbClr val="ff00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4" name="Straight Arrow Connector 29"/>
          <p:cNvCxnSpPr/>
          <p:nvPr/>
        </p:nvCxnSpPr>
        <p:spPr>
          <a:xfrm flipH="1" flipV="1">
            <a:off x="1878840" y="3610800"/>
            <a:ext cx="803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45" name="Picture 23" descr=""/>
          <p:cNvPicPr/>
          <p:nvPr/>
        </p:nvPicPr>
        <p:blipFill>
          <a:blip r:embed="rId3"/>
          <a:stretch/>
        </p:blipFill>
        <p:spPr>
          <a:xfrm>
            <a:off x="555480" y="2297160"/>
            <a:ext cx="6981840" cy="304920"/>
          </a:xfrm>
          <a:prstGeom prst="rect">
            <a:avLst/>
          </a:prstGeom>
          <a:ln w="0">
            <a:noFill/>
          </a:ln>
        </p:spPr>
      </p:pic>
      <p:sp>
        <p:nvSpPr>
          <p:cNvPr id="446" name="Oval 9"/>
          <p:cNvSpPr/>
          <p:nvPr/>
        </p:nvSpPr>
        <p:spPr>
          <a:xfrm>
            <a:off x="5311800" y="2735280"/>
            <a:ext cx="620640" cy="730080"/>
          </a:xfrm>
          <a:prstGeom prst="ellipse">
            <a:avLst/>
          </a:prstGeom>
          <a:solidFill>
            <a:srgbClr val="ff00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6288120" y="4122720"/>
            <a:ext cx="266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ssivity and reciprocity worsened comparing to SOLT, but still 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Oval 22"/>
          <p:cNvSpPr/>
          <p:nvPr/>
        </p:nvSpPr>
        <p:spPr>
          <a:xfrm>
            <a:off x="3703680" y="4962600"/>
            <a:ext cx="328680" cy="80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9" name="Straight Arrow Connector 24"/>
          <p:cNvCxnSpPr>
            <a:stCxn id="448" idx="0"/>
          </p:cNvCxnSpPr>
          <p:nvPr/>
        </p:nvCxnSpPr>
        <p:spPr>
          <a:xfrm flipV="1">
            <a:off x="3868560" y="4962240"/>
            <a:ext cx="493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0" name="TextBox 25"/>
          <p:cNvSpPr/>
          <p:nvPr/>
        </p:nvSpPr>
        <p:spPr>
          <a:xfrm>
            <a:off x="6178680" y="5315040"/>
            <a:ext cx="28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 provided by Teraspeed Consulting Gro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TextBox 26"/>
          <p:cNvSpPr/>
          <p:nvPr/>
        </p:nvSpPr>
        <p:spPr>
          <a:xfrm>
            <a:off x="6032520" y="1201680"/>
            <a:ext cx="30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controlled via from PLRD-1 benchmark board – TRL calib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Oval 27"/>
          <p:cNvSpPr/>
          <p:nvPr/>
        </p:nvSpPr>
        <p:spPr>
          <a:xfrm>
            <a:off x="2746440" y="2406600"/>
            <a:ext cx="4564080" cy="25560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342D-74C3-4FE6-9626-7CDA7EC25EC3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24" descr=""/>
          <p:cNvPicPr/>
          <p:nvPr/>
        </p:nvPicPr>
        <p:blipFill>
          <a:blip r:embed="rId1"/>
          <a:stretch/>
        </p:blipFill>
        <p:spPr>
          <a:xfrm>
            <a:off x="4937040" y="2771640"/>
            <a:ext cx="3867120" cy="33051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1" descr=""/>
          <p:cNvPicPr/>
          <p:nvPr/>
        </p:nvPicPr>
        <p:blipFill>
          <a:blip r:embed="rId2"/>
          <a:stretch/>
        </p:blipFill>
        <p:spPr>
          <a:xfrm>
            <a:off x="738360" y="2808360"/>
            <a:ext cx="3724200" cy="3333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3"/>
          <a:stretch/>
        </p:blipFill>
        <p:spPr>
          <a:xfrm>
            <a:off x="2709720" y="1566720"/>
            <a:ext cx="3797280" cy="5731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TRL): Causality problems both in transmission and reflection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58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4380-CC84-4B74-9DDC-BDD15EF5AC57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traight Connector 34"/>
          <p:cNvSpPr/>
          <p:nvPr/>
        </p:nvSpPr>
        <p:spPr>
          <a:xfrm flipH="1">
            <a:off x="3841560" y="1698480"/>
            <a:ext cx="3636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Straight Connector 35"/>
          <p:cNvSpPr/>
          <p:nvPr/>
        </p:nvSpPr>
        <p:spPr>
          <a:xfrm flipH="1">
            <a:off x="5082840" y="1698480"/>
            <a:ext cx="3636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Box 36"/>
          <p:cNvSpPr/>
          <p:nvPr/>
        </p:nvSpPr>
        <p:spPr>
          <a:xfrm>
            <a:off x="2490840" y="1192320"/>
            <a:ext cx="48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L Reference Planes (250 mil from stub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63" name="Straight Arrow Connector 38"/>
          <p:cNvCxnSpPr/>
          <p:nvPr/>
        </p:nvCxnSpPr>
        <p:spPr>
          <a:xfrm flipH="1">
            <a:off x="3877560" y="1494000"/>
            <a:ext cx="54828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4" name="Straight Arrow Connector 40"/>
          <p:cNvCxnSpPr/>
          <p:nvPr/>
        </p:nvCxnSpPr>
        <p:spPr>
          <a:xfrm>
            <a:off x="4425480" y="1494000"/>
            <a:ext cx="69444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5" name="TextBox 15"/>
          <p:cNvSpPr/>
          <p:nvPr/>
        </p:nvSpPr>
        <p:spPr>
          <a:xfrm>
            <a:off x="3549600" y="3102120"/>
            <a:ext cx="10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1,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16"/>
          <p:cNvSpPr/>
          <p:nvPr/>
        </p:nvSpPr>
        <p:spPr>
          <a:xfrm>
            <a:off x="7383600" y="3209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2,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519120" y="2136600"/>
            <a:ext cx="847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problems both in the transmission and reflection parameters (can be fixed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22" descr=""/>
          <p:cNvPicPr/>
          <p:nvPr/>
        </p:nvPicPr>
        <p:blipFill>
          <a:blip r:embed="rId4"/>
          <a:stretch/>
        </p:blipFill>
        <p:spPr>
          <a:xfrm>
            <a:off x="1859040" y="3794040"/>
            <a:ext cx="1606320" cy="1360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23"/>
          <p:cNvSpPr/>
          <p:nvPr/>
        </p:nvSpPr>
        <p:spPr>
          <a:xfrm>
            <a:off x="993600" y="4232160"/>
            <a:ext cx="365400" cy="4748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70" name="Straight Arrow Connector 25"/>
          <p:cNvCxnSpPr/>
          <p:nvPr/>
        </p:nvCxnSpPr>
        <p:spPr>
          <a:xfrm flipV="1">
            <a:off x="1285560" y="4450680"/>
            <a:ext cx="803880" cy="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1" name="TextBox 27"/>
          <p:cNvSpPr/>
          <p:nvPr/>
        </p:nvSpPr>
        <p:spPr>
          <a:xfrm>
            <a:off x="1724040" y="16398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t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Box 28"/>
          <p:cNvSpPr/>
          <p:nvPr/>
        </p:nvSpPr>
        <p:spPr>
          <a:xfrm>
            <a:off x="6543720" y="16398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rt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73" name="Straight Arrow Connector 33"/>
          <p:cNvCxnSpPr/>
          <p:nvPr/>
        </p:nvCxnSpPr>
        <p:spPr>
          <a:xfrm flipV="1">
            <a:off x="7972560" y="4268520"/>
            <a:ext cx="324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4" name="TextBox 35"/>
          <p:cNvSpPr/>
          <p:nvPr/>
        </p:nvSpPr>
        <p:spPr>
          <a:xfrm>
            <a:off x="7521480" y="4670280"/>
            <a:ext cx="176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CW ro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75" name="Straight Arrow Connector 37"/>
          <p:cNvCxnSpPr>
            <a:stCxn id="474" idx="1"/>
          </p:cNvCxnSpPr>
          <p:nvPr/>
        </p:nvCxnSpPr>
        <p:spPr>
          <a:xfrm flipH="1" flipV="1">
            <a:off x="7310160" y="4816080"/>
            <a:ext cx="211680" cy="2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6" name="Oval 25"/>
          <p:cNvSpPr/>
          <p:nvPr/>
        </p:nvSpPr>
        <p:spPr>
          <a:xfrm>
            <a:off x="8105760" y="2589120"/>
            <a:ext cx="774720" cy="47484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Oval 26"/>
          <p:cNvSpPr/>
          <p:nvPr/>
        </p:nvSpPr>
        <p:spPr>
          <a:xfrm>
            <a:off x="3805200" y="2662200"/>
            <a:ext cx="774720" cy="47484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B512-C714-457D-8F68-0816B0AAF75F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31" descr=""/>
          <p:cNvPicPr/>
          <p:nvPr/>
        </p:nvPicPr>
        <p:blipFill>
          <a:blip r:embed="rId1"/>
          <a:stretch/>
        </p:blipFill>
        <p:spPr>
          <a:xfrm>
            <a:off x="5229360" y="3392640"/>
            <a:ext cx="3286080" cy="2571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0" descr=""/>
          <p:cNvPicPr/>
          <p:nvPr/>
        </p:nvPicPr>
        <p:blipFill>
          <a:blip r:embed="rId2"/>
          <a:stretch/>
        </p:blipFill>
        <p:spPr>
          <a:xfrm>
            <a:off x="227160" y="2238480"/>
            <a:ext cx="4667040" cy="38196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" descr=""/>
          <p:cNvPicPr/>
          <p:nvPr/>
        </p:nvPicPr>
        <p:blipFill>
          <a:blip r:embed="rId3"/>
          <a:stretch/>
        </p:blipFill>
        <p:spPr>
          <a:xfrm>
            <a:off x="4900680" y="1347840"/>
            <a:ext cx="3797280" cy="5731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TRL):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Improving S-parameters with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83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98C6-E573-4B6D-B3AC-F752877B6785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Box 7"/>
          <p:cNvSpPr/>
          <p:nvPr/>
        </p:nvSpPr>
        <p:spPr>
          <a:xfrm>
            <a:off x="372960" y="1347840"/>
            <a:ext cx="46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CM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RMS Error is 0.045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still O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ssive from DC to infinity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usal and reciproc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6" name="Straight Arrow Connector 14"/>
          <p:cNvCxnSpPr/>
          <p:nvPr/>
        </p:nvCxnSpPr>
        <p:spPr>
          <a:xfrm flipV="1">
            <a:off x="4790880" y="4341960"/>
            <a:ext cx="91332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7" name="TextBox 15"/>
          <p:cNvSpPr/>
          <p:nvPr/>
        </p:nvSpPr>
        <p:spPr>
          <a:xfrm>
            <a:off x="5740560" y="2690640"/>
            <a:ext cx="324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Problem is in the reflection parameters and RCM “fixes” it with the best possible f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8" name="Straight Arrow Connector 19"/>
          <p:cNvCxnSpPr/>
          <p:nvPr/>
        </p:nvCxnSpPr>
        <p:spPr>
          <a:xfrm flipH="1" flipV="1">
            <a:off x="1906560" y="4195800"/>
            <a:ext cx="25596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9" name="TextBox 22"/>
          <p:cNvSpPr/>
          <p:nvPr/>
        </p:nvSpPr>
        <p:spPr>
          <a:xfrm>
            <a:off x="1322280" y="4414680"/>
            <a:ext cx="35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atic areas due to “oscillating” reflection are “fixed”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Right Brace 23"/>
          <p:cNvSpPr/>
          <p:nvPr/>
        </p:nvSpPr>
        <p:spPr>
          <a:xfrm>
            <a:off x="4425840" y="2625840"/>
            <a:ext cx="109800" cy="401400"/>
          </a:xfrm>
          <a:custGeom>
            <a:avLst/>
            <a:gdLst>
              <a:gd name="textAreaLeft" fmla="*/ 0 w 109800"/>
              <a:gd name="textAreaRight" fmla="*/ 39600 w 109800"/>
              <a:gd name="textAreaTop" fmla="*/ 2520 h 401400"/>
              <a:gd name="textAreaBottom" fmla="*/ 398880 h 40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16200" y="10800"/>
                  <a:pt x="21600" y="10800"/>
                </a:cubicBezTo>
                <a:cubicBezTo>
                  <a:pt x="162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Box 24"/>
          <p:cNvSpPr/>
          <p:nvPr/>
        </p:nvSpPr>
        <p:spPr>
          <a:xfrm>
            <a:off x="4608360" y="273528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ight Brace 25"/>
          <p:cNvSpPr/>
          <p:nvPr/>
        </p:nvSpPr>
        <p:spPr>
          <a:xfrm>
            <a:off x="4243320" y="2151000"/>
            <a:ext cx="146160" cy="474840"/>
          </a:xfrm>
          <a:custGeom>
            <a:avLst/>
            <a:gdLst>
              <a:gd name="textAreaLeft" fmla="*/ 0 w 146160"/>
              <a:gd name="textAreaRight" fmla="*/ 52560 w 146160"/>
              <a:gd name="textAreaTop" fmla="*/ 3600 h 474840"/>
              <a:gd name="textAreaBottom" fmla="*/ 47124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Box 26"/>
          <p:cNvSpPr/>
          <p:nvPr/>
        </p:nvSpPr>
        <p:spPr>
          <a:xfrm>
            <a:off x="4352760" y="218916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7"/>
          <p:cNvSpPr/>
          <p:nvPr/>
        </p:nvSpPr>
        <p:spPr>
          <a:xfrm>
            <a:off x="5703840" y="204156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mission and group delay is 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traight Connector 34"/>
          <p:cNvSpPr/>
          <p:nvPr/>
        </p:nvSpPr>
        <p:spPr>
          <a:xfrm flipH="1">
            <a:off x="6068880" y="1432080"/>
            <a:ext cx="3672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Straight Connector 35"/>
          <p:cNvSpPr/>
          <p:nvPr/>
        </p:nvSpPr>
        <p:spPr>
          <a:xfrm flipH="1">
            <a:off x="7310160" y="1432080"/>
            <a:ext cx="3636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97" name="Straight Arrow Connector 36"/>
          <p:cNvCxnSpPr/>
          <p:nvPr/>
        </p:nvCxnSpPr>
        <p:spPr>
          <a:xfrm>
            <a:off x="6689880" y="3429000"/>
            <a:ext cx="3657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E74A-D09F-44FE-BF61-5623C803F9D0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9" name="Picture 16" descr=""/>
          <p:cNvPicPr/>
          <p:nvPr/>
        </p:nvPicPr>
        <p:blipFill>
          <a:blip r:embed="rId1"/>
          <a:stretch/>
        </p:blipFill>
        <p:spPr>
          <a:xfrm>
            <a:off x="2417760" y="2187720"/>
            <a:ext cx="4229280" cy="40287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TRL):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Original S[1,2] and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0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83C8-1267-466E-9A9D-B6AE56E0012F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665280" y="1311120"/>
            <a:ext cx="37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NA Measurement: 3201 points starting from 300 K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4681440" y="1311120"/>
            <a:ext cx="434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-sampled RCM: 633 points distributed adaptively starting from 0 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TextBox 11"/>
          <p:cNvSpPr/>
          <p:nvPr/>
        </p:nvSpPr>
        <p:spPr>
          <a:xfrm>
            <a:off x="7091280" y="2187720"/>
            <a:ext cx="19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Box 13"/>
          <p:cNvSpPr/>
          <p:nvPr/>
        </p:nvSpPr>
        <p:spPr>
          <a:xfrm>
            <a:off x="6653160" y="3173400"/>
            <a:ext cx="23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ry noisy data is corrected with RCM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TextBox 16"/>
          <p:cNvSpPr/>
          <p:nvPr/>
        </p:nvSpPr>
        <p:spPr>
          <a:xfrm>
            <a:off x="4243320" y="2881440"/>
            <a:ext cx="10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1,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08" name="Straight Arrow Connector 17"/>
          <p:cNvCxnSpPr/>
          <p:nvPr/>
        </p:nvCxnSpPr>
        <p:spPr>
          <a:xfrm flipH="1" flipV="1">
            <a:off x="6652800" y="2405880"/>
            <a:ext cx="402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9" name="Picture 17" descr=""/>
          <p:cNvPicPr/>
          <p:nvPr/>
        </p:nvPicPr>
        <p:blipFill>
          <a:blip r:embed="rId2"/>
          <a:stretch/>
        </p:blipFill>
        <p:spPr>
          <a:xfrm>
            <a:off x="3695760" y="3465360"/>
            <a:ext cx="1861920" cy="16495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1"/>
          <p:cNvSpPr/>
          <p:nvPr/>
        </p:nvSpPr>
        <p:spPr>
          <a:xfrm>
            <a:off x="2746440" y="4013280"/>
            <a:ext cx="365040" cy="4744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11" name="Straight Arrow Connector 22"/>
          <p:cNvCxnSpPr/>
          <p:nvPr/>
        </p:nvCxnSpPr>
        <p:spPr>
          <a:xfrm flipV="1">
            <a:off x="3038400" y="4231440"/>
            <a:ext cx="767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2" name="Oval 16"/>
          <p:cNvSpPr/>
          <p:nvPr/>
        </p:nvSpPr>
        <p:spPr>
          <a:xfrm>
            <a:off x="5842080" y="2077920"/>
            <a:ext cx="774720" cy="47484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8143-9960-4CBE-AD90-DA05E7A3F00A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4" name="Picture 17" descr=""/>
          <p:cNvPicPr/>
          <p:nvPr/>
        </p:nvPicPr>
        <p:blipFill>
          <a:blip r:embed="rId1"/>
          <a:stretch/>
        </p:blipFill>
        <p:spPr>
          <a:xfrm>
            <a:off x="592200" y="1949400"/>
            <a:ext cx="3867120" cy="3305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6" descr=""/>
          <p:cNvPicPr/>
          <p:nvPr/>
        </p:nvPicPr>
        <p:blipFill>
          <a:blip r:embed="rId2"/>
          <a:stretch/>
        </p:blipFill>
        <p:spPr>
          <a:xfrm>
            <a:off x="4681440" y="2254320"/>
            <a:ext cx="4210200" cy="34383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TRL):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Original S[2,2] and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43F7-3779-4076-AE5F-7C44CD73B062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47064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783B-64D2-4EA5-857A-34BF60124570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9"/>
          <p:cNvSpPr/>
          <p:nvPr/>
        </p:nvSpPr>
        <p:spPr>
          <a:xfrm>
            <a:off x="665280" y="1311120"/>
            <a:ext cx="37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NA Measurement: 3201 points starting from 300 K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10"/>
          <p:cNvSpPr/>
          <p:nvPr/>
        </p:nvSpPr>
        <p:spPr>
          <a:xfrm>
            <a:off x="4681440" y="1311120"/>
            <a:ext cx="434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-sampled RCM: 633 points distributed adaptively starting from 0 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4791240" y="1895400"/>
            <a:ext cx="38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es not match well but CAUSAL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738360" y="5254560"/>
            <a:ext cx="357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ry noisy non-causal data with wrong rotation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ight Arrow 14"/>
          <p:cNvSpPr/>
          <p:nvPr/>
        </p:nvSpPr>
        <p:spPr>
          <a:xfrm>
            <a:off x="4425840" y="3319560"/>
            <a:ext cx="621000" cy="29196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15"/>
          <p:cNvSpPr/>
          <p:nvPr/>
        </p:nvSpPr>
        <p:spPr>
          <a:xfrm>
            <a:off x="2892600" y="24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2,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16"/>
          <p:cNvSpPr/>
          <p:nvPr/>
        </p:nvSpPr>
        <p:spPr>
          <a:xfrm>
            <a:off x="7602480" y="2698920"/>
            <a:ext cx="10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[2,2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13"/>
          <p:cNvSpPr/>
          <p:nvPr/>
        </p:nvSpPr>
        <p:spPr>
          <a:xfrm>
            <a:off x="4754520" y="5716440"/>
            <a:ext cx="405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d line – original TRL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reen line with circles - RC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Oval 16"/>
          <p:cNvSpPr/>
          <p:nvPr/>
        </p:nvSpPr>
        <p:spPr>
          <a:xfrm>
            <a:off x="8113680" y="2151000"/>
            <a:ext cx="774720" cy="474840"/>
          </a:xfrm>
          <a:prstGeom prst="ellipse">
            <a:avLst/>
          </a:prstGeom>
          <a:solidFill>
            <a:srgbClr val="ff0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4" descr=""/>
          <p:cNvPicPr/>
          <p:nvPr/>
        </p:nvPicPr>
        <p:blipFill>
          <a:blip r:embed="rId1"/>
          <a:stretch/>
        </p:blipFill>
        <p:spPr>
          <a:xfrm>
            <a:off x="555480" y="3548160"/>
            <a:ext cx="5115240" cy="21812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6" descr=""/>
          <p:cNvPicPr/>
          <p:nvPr/>
        </p:nvPicPr>
        <p:blipFill>
          <a:blip r:embed="rId2"/>
          <a:stretch/>
        </p:blipFill>
        <p:spPr>
          <a:xfrm>
            <a:off x="592200" y="1201680"/>
            <a:ext cx="5114880" cy="21812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FBEF-03DE-4C3D-AC04-A7B251A93967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(TRL):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Original S[2,2] and RCM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33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7707-F1BE-479F-8556-805E34E66E8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Box 12"/>
          <p:cNvSpPr/>
          <p:nvPr/>
        </p:nvSpPr>
        <p:spPr>
          <a:xfrm>
            <a:off x="5850000" y="3282840"/>
            <a:ext cx="324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atic non-causal areas are fitted as close as possi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Box 19"/>
          <p:cNvSpPr/>
          <p:nvPr/>
        </p:nvSpPr>
        <p:spPr>
          <a:xfrm>
            <a:off x="5857920" y="26258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MS Error 0.045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4 po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Box 12"/>
          <p:cNvSpPr/>
          <p:nvPr/>
        </p:nvSpPr>
        <p:spPr>
          <a:xfrm>
            <a:off x="5850000" y="4184640"/>
            <a:ext cx="310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oes the corrected data contain information about the via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5813280" y="189072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s – original TRL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Box 11"/>
          <p:cNvSpPr/>
          <p:nvPr/>
        </p:nvSpPr>
        <p:spPr>
          <a:xfrm>
            <a:off x="5813280" y="2224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cles – RCM mode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Box 18"/>
          <p:cNvSpPr/>
          <p:nvPr/>
        </p:nvSpPr>
        <p:spPr>
          <a:xfrm>
            <a:off x="2709720" y="1566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(S2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Box 19"/>
          <p:cNvSpPr/>
          <p:nvPr/>
        </p:nvSpPr>
        <p:spPr>
          <a:xfrm>
            <a:off x="2855880" y="394020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(S2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6C5A-9B07-4ECB-9FBA-D671224830F5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1212840" y="2443320"/>
            <a:ext cx="4562640" cy="327636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Single controlled via TDR from RCM (TRL)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4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6B9D-1B93-4A77-A16E-38EC5B9CA2E5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8"/>
          <p:cNvSpPr/>
          <p:nvPr/>
        </p:nvSpPr>
        <p:spPr>
          <a:xfrm>
            <a:off x="555480" y="1201680"/>
            <a:ext cx="398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e via in a t-line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onnector and launch discontinu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9"/>
          <p:cNvSpPr/>
          <p:nvPr/>
        </p:nvSpPr>
        <p:spPr>
          <a:xfrm>
            <a:off x="482760" y="2443320"/>
            <a:ext cx="9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(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10"/>
          <p:cNvSpPr/>
          <p:nvPr/>
        </p:nvSpPr>
        <p:spPr>
          <a:xfrm>
            <a:off x="4608360" y="5619600"/>
            <a:ext cx="14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me, se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1797120" y="36212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ue curve: from measured S-parame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own curve: from EM model of v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2052720" y="4341960"/>
            <a:ext cx="59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ood correspondence – all via properties are preserved and the model is actually usable in the time and frequency domain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2"/>
          <a:stretch/>
        </p:blipFill>
        <p:spPr>
          <a:xfrm>
            <a:off x="4425840" y="1577880"/>
            <a:ext cx="3797280" cy="573120"/>
          </a:xfrm>
          <a:prstGeom prst="rect">
            <a:avLst/>
          </a:prstGeom>
          <a:ln w="0">
            <a:noFill/>
          </a:ln>
        </p:spPr>
      </p:pic>
      <p:sp>
        <p:nvSpPr>
          <p:cNvPr id="553" name="Straight Connector 34"/>
          <p:cNvSpPr/>
          <p:nvPr/>
        </p:nvSpPr>
        <p:spPr>
          <a:xfrm flipH="1">
            <a:off x="5557680" y="1709640"/>
            <a:ext cx="3672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5"/>
          <p:cNvSpPr/>
          <p:nvPr/>
        </p:nvSpPr>
        <p:spPr>
          <a:xfrm flipH="1">
            <a:off x="6798960" y="1709640"/>
            <a:ext cx="36360" cy="438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TextBox 36"/>
          <p:cNvSpPr/>
          <p:nvPr/>
        </p:nvSpPr>
        <p:spPr>
          <a:xfrm>
            <a:off x="4206960" y="1203480"/>
            <a:ext cx="48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L Reference Planes (250 mil from stub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56" name="Straight Arrow Connector 38"/>
          <p:cNvCxnSpPr/>
          <p:nvPr/>
        </p:nvCxnSpPr>
        <p:spPr>
          <a:xfrm flipH="1">
            <a:off x="5593680" y="1503720"/>
            <a:ext cx="54828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40"/>
          <p:cNvCxnSpPr/>
          <p:nvPr/>
        </p:nvCxnSpPr>
        <p:spPr>
          <a:xfrm>
            <a:off x="6141600" y="1504440"/>
            <a:ext cx="69444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1699-EC4A-47A6-A3B6-558B0ACA86E1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4BFB-87B6-42AE-BDD8-E7F8044EE702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parameter models are becoming ubiquitous in design of multi-gigabit interconn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ors, cables, PCBs, packages, backplanes, … can be characterized with S-parameters from DC to day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odels come from measurement or electromagnet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very often have some qual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ssivity and reciprocity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usalit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Slide Number Placeholder 6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65DD-1930-4EA2-BFB1-B2A48EA9C949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rocity, passivity and causality of interconnect component models must be verified befor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models may be not acceptable for th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magnetic models may have severe problems t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metrics allow distinguishing minor “fixable” violations with acceptable accuracy degradation from severe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macro-models with controllable accuracy can be used to “improve” tabulated models and to correct minor violations of passivity and caus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ndardization of the quality metrics and exchange formats for rational compact model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E604-A2F6-4816-A938-8CFA6C059C9A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ontact and resources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riy Shlepnev, Simberia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hlepnev@simberia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: 206-409-23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version of Simbeor 2008.L0 used to plot and estimate quality of S-parameters is available at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simberia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earn on quality metrics further see slides from DesignCon2010 tutorial (also available on 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F-MP12 H. Barnes, Y. Shlepnev, J. Nadolny, T. Dagostino, S. McMorrow, Quality of High Frequency Measurements: Practical Examples, Theoretical Foundations, and Successful Techniques that Work Past the 40GHz Real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4697-D724-4641-AD49-1B1DE5DBB8D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5C99-B5B4-4B61-BA25-6D4424B36663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If You happen to…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interconnect models for internal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interconnect models to customers developing consume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models with measurements or electromagnet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odels for compliance leve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ou need to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AF8B-CB86-452D-A7DA-D85B9B70CB79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9492-8E02-4584-86A9-FB2A5CA862F9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Pristine S-parameters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91E6-69A1-4222-AA6B-BB34C313DD16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8558-A982-4B14-9402-7043452F0D86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" y="1219320"/>
            <a:ext cx="82296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rocal (no non-linear anisotropic materia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(interconnects do not generate energ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 – no response before the exci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analysis in time dom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 if some of those properties are violated – can we still use such model and trust the resul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esentation introduc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rics to distinguish good models from bad 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methodology to improve the model quality for consistent frequency and time-domain 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Object 15"/>
          <p:cNvGraphicFramePr/>
          <p:nvPr/>
        </p:nvGraphicFramePr>
        <p:xfrm>
          <a:off x="6013440" y="2433600"/>
          <a:ext cx="193500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3440" y="2433600"/>
                    <a:ext cx="19350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2"/>
          <p:cNvGraphicFramePr/>
          <p:nvPr/>
        </p:nvGraphicFramePr>
        <p:xfrm>
          <a:off x="2637000" y="2406600"/>
          <a:ext cx="265896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7000" y="2406600"/>
                    <a:ext cx="2658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ight Arrow 6"/>
          <p:cNvSpPr/>
          <p:nvPr/>
        </p:nvSpPr>
        <p:spPr>
          <a:xfrm>
            <a:off x="5514840" y="2522520"/>
            <a:ext cx="328680" cy="2556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600280" y="1566720"/>
          <a:ext cx="221796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00280" y="1566720"/>
                    <a:ext cx="2217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5"/>
          <p:cNvGraphicFramePr/>
          <p:nvPr/>
        </p:nvGraphicFramePr>
        <p:xfrm>
          <a:off x="2631960" y="3209760"/>
          <a:ext cx="1866960" cy="4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31960" y="3209760"/>
                    <a:ext cx="18669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a85"/>
                </a:solidFill>
                <a:latin typeface="Arial"/>
              </a:rPr>
              <a:t>Reciprocity</a:t>
            </a:r>
            <a:endParaRPr b="0" lang="en-US" sz="40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circuits with linear isotropic materials are reciprocal according 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rentz’s theorem of recipr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ed wave measured at port 2 with incident wave at port 1 is equal to reflected wave measured at port 1 with the same incident wave at por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 it means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cattering matrices are symmetric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017D-BAFC-47D5-B984-D669CFD4BFB5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3223-1552-4EFA-BD36-5BE8BC84D36B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2100240" y="5386320"/>
          <a:ext cx="22176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0240" y="5386320"/>
                    <a:ext cx="22176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4"/>
          <p:cNvGraphicFramePr/>
          <p:nvPr/>
        </p:nvGraphicFramePr>
        <p:xfrm>
          <a:off x="6095880" y="3705120"/>
          <a:ext cx="97308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3705120"/>
                    <a:ext cx="9730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"/>
          <p:cNvGraphicFramePr/>
          <p:nvPr/>
        </p:nvGraphicFramePr>
        <p:xfrm>
          <a:off x="2760840" y="3705120"/>
          <a:ext cx="973080" cy="37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0840" y="3705120"/>
                    <a:ext cx="9730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ight Arrow 13"/>
          <p:cNvSpPr/>
          <p:nvPr/>
        </p:nvSpPr>
        <p:spPr>
          <a:xfrm>
            <a:off x="7238880" y="370512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772400" y="3693960"/>
          <a:ext cx="95256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2400" y="3693960"/>
                    <a:ext cx="95256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6"/>
          <p:cNvGraphicFramePr/>
          <p:nvPr/>
        </p:nvGraphicFramePr>
        <p:xfrm>
          <a:off x="461880" y="2790720"/>
          <a:ext cx="2433600" cy="217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880" y="2790720"/>
                    <a:ext cx="24336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6"/>
          <p:cNvGraphicFramePr/>
          <p:nvPr/>
        </p:nvGraphicFramePr>
        <p:xfrm>
          <a:off x="3738600" y="2790720"/>
          <a:ext cx="2433600" cy="217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8600" y="2790720"/>
                    <a:ext cx="24336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Box 13"/>
          <p:cNvSpPr/>
          <p:nvPr/>
        </p:nvSpPr>
        <p:spPr>
          <a:xfrm>
            <a:off x="5105520" y="5424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all frequen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Reciprocity estimation and enforcemen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219320"/>
            <a:ext cx="8459640" cy="11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S-parameters of reciprocal 4-port interconnect (symmetric matrix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699B-78B0-4F30-875E-E4529BB9914C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C946-E607-4779-BE69-6F29CBF9D3C8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3914640" y="1566720"/>
          <a:ext cx="240984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4640" y="1566720"/>
                    <a:ext cx="24098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7"/>
          <p:cNvSpPr/>
          <p:nvPr/>
        </p:nvSpPr>
        <p:spPr>
          <a:xfrm>
            <a:off x="1614600" y="1822320"/>
            <a:ext cx="985680" cy="54792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Straight Connector 8"/>
          <p:cNvSpPr/>
          <p:nvPr/>
        </p:nvSpPr>
        <p:spPr>
          <a:xfrm flipH="1" flipV="1">
            <a:off x="1395000" y="193212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traight Connector 9"/>
          <p:cNvSpPr/>
          <p:nvPr/>
        </p:nvSpPr>
        <p:spPr>
          <a:xfrm flipH="1" flipV="1">
            <a:off x="1395000" y="215064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traight Connector 10"/>
          <p:cNvSpPr/>
          <p:nvPr/>
        </p:nvSpPr>
        <p:spPr>
          <a:xfrm flipH="1" flipV="1">
            <a:off x="2599920" y="193212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Straight Connector 11"/>
          <p:cNvSpPr/>
          <p:nvPr/>
        </p:nvSpPr>
        <p:spPr>
          <a:xfrm flipH="1" flipV="1">
            <a:off x="2599920" y="218232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1139760" y="21099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1139760" y="17715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2855880" y="17715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2855880" y="21099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Box 29"/>
          <p:cNvSpPr/>
          <p:nvPr/>
        </p:nvSpPr>
        <p:spPr>
          <a:xfrm>
            <a:off x="1833480" y="193212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Object 2"/>
          <p:cNvGraphicFramePr/>
          <p:nvPr/>
        </p:nvGraphicFramePr>
        <p:xfrm>
          <a:off x="665280" y="3552840"/>
          <a:ext cx="233676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280" y="3552840"/>
                    <a:ext cx="23367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Box 22"/>
          <p:cNvSpPr/>
          <p:nvPr/>
        </p:nvSpPr>
        <p:spPr>
          <a:xfrm>
            <a:off x="519120" y="2990880"/>
            <a:ext cx="682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procity measure can be computed as mean difference between elements that have to be equal (at each frequency point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Box 23"/>
          <p:cNvSpPr/>
          <p:nvPr/>
        </p:nvSpPr>
        <p:spPr>
          <a:xfrm>
            <a:off x="555480" y="4195800"/>
            <a:ext cx="81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compared with 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M &gt; thresho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multiport is reported as not reciproc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738360" y="5364000"/>
          <a:ext cx="2520720" cy="43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360" y="5364000"/>
                    <a:ext cx="25207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Box 26"/>
          <p:cNvSpPr/>
          <p:nvPr/>
        </p:nvSpPr>
        <p:spPr>
          <a:xfrm>
            <a:off x="482760" y="4998960"/>
            <a:ext cx="83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ing can be used to “enforce” the reciprocity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orks only with noisy dat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4038480" y="367524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 max singular value of              can be use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6400800" y="3652920"/>
          <a:ext cx="662040" cy="33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652920"/>
                    <a:ext cx="6620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Passivity (necessary but not sufficient conditions)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transmitted to multiport is a differenc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transmitted by incident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ed wave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ted power is defined by Hermiti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tic form and must be not negative for pass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ort for any combination of incident w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atic form is non-negative if eigen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matrix are non-negative (Golub &amp; Van Loa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8902-DBF5-4F20-8319-4E98904A812E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7C28-BF52-4637-93B9-363CEAD68456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Object 6"/>
          <p:cNvGraphicFramePr/>
          <p:nvPr/>
        </p:nvGraphicFramePr>
        <p:xfrm>
          <a:off x="6629400" y="1092240"/>
          <a:ext cx="251460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092240"/>
                    <a:ext cx="25146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Object 10"/>
          <p:cNvGraphicFramePr/>
          <p:nvPr/>
        </p:nvGraphicFramePr>
        <p:xfrm>
          <a:off x="2971800" y="1828800"/>
          <a:ext cx="323676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828800"/>
                    <a:ext cx="3236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2"/>
          <p:cNvGraphicFramePr/>
          <p:nvPr/>
        </p:nvGraphicFramePr>
        <p:xfrm>
          <a:off x="1447920" y="2438280"/>
          <a:ext cx="3809880" cy="4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2438280"/>
                    <a:ext cx="380988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4"/>
          <p:cNvGraphicFramePr/>
          <p:nvPr/>
        </p:nvGraphicFramePr>
        <p:xfrm>
          <a:off x="930240" y="4946760"/>
          <a:ext cx="214776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0240" y="4946760"/>
                    <a:ext cx="2147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5"/>
          <p:cNvGraphicFramePr/>
          <p:nvPr/>
        </p:nvGraphicFramePr>
        <p:xfrm>
          <a:off x="3705120" y="4946760"/>
          <a:ext cx="1765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5120" y="4946760"/>
                    <a:ext cx="1765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Box 28"/>
          <p:cNvSpPr/>
          <p:nvPr/>
        </p:nvSpPr>
        <p:spPr>
          <a:xfrm>
            <a:off x="6019920" y="495792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unit matri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ight Arrow 29"/>
          <p:cNvSpPr/>
          <p:nvPr/>
        </p:nvSpPr>
        <p:spPr>
          <a:xfrm>
            <a:off x="3200400" y="502272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5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34a85"/>
                </a:solidFill>
                <a:latin typeface="Arial"/>
              </a:rPr>
              <a:t>More on passivity</a:t>
            </a:r>
            <a:endParaRPr b="0" lang="en-US" sz="40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 singular value of S can be used for passivity estimation, because of non-zero singular values of S are square roots of eigen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*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olub &amp; Van Lo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ity of symmetric S can be estimated with eigenvalues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due to the fact that singular values of symmetric matrices are equal to the magnitudes of the eigen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mistake is to estimate passivity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DBB3-BC3B-49CC-9B36-1902DE93B644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10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89CD-246D-474D-B52F-68FD1D1557CA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8" name="Object 6"/>
          <p:cNvGraphicFramePr/>
          <p:nvPr/>
        </p:nvGraphicFramePr>
        <p:xfrm>
          <a:off x="1131840" y="5208480"/>
          <a:ext cx="109080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5208480"/>
                    <a:ext cx="10908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7"/>
          <p:cNvGraphicFramePr/>
          <p:nvPr/>
        </p:nvGraphicFramePr>
        <p:xfrm>
          <a:off x="3270240" y="3209760"/>
          <a:ext cx="184932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0240" y="3209760"/>
                    <a:ext cx="18493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Box 14"/>
          <p:cNvSpPr/>
          <p:nvPr/>
        </p:nvSpPr>
        <p:spPr>
          <a:xfrm>
            <a:off x="2579760" y="5295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3" name="Object 6"/>
          <p:cNvGraphicFramePr/>
          <p:nvPr/>
        </p:nvGraphicFramePr>
        <p:xfrm>
          <a:off x="3367080" y="5299200"/>
          <a:ext cx="7333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7080" y="5299200"/>
                    <a:ext cx="7333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Box 16"/>
          <p:cNvSpPr/>
          <p:nvPr/>
        </p:nvSpPr>
        <p:spPr>
          <a:xfrm>
            <a:off x="4332240" y="536112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This is necessary but not sufficient condition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17"/>
          <p:cNvGraphicFramePr/>
          <p:nvPr/>
        </p:nvGraphicFramePr>
        <p:xfrm>
          <a:off x="1935000" y="2406600"/>
          <a:ext cx="443880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5000" y="2406600"/>
                    <a:ext cx="44388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5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4:55:39Z</dcterms:created>
  <dc:creator>Yuriy Shlepnev, Simberian Inc.</dc:creator>
  <dc:description/>
  <cp:keywords>differential mode; common mode; mode tranformation; signal integrity; serdes channel</cp:keywords>
  <dc:language>en-US</dc:language>
  <cp:lastModifiedBy>Yuriy Shlepnev</cp:lastModifiedBy>
  <dcterms:modified xsi:type="dcterms:W3CDTF">2010-01-09T15:48:20Z</dcterms:modified>
  <cp:revision>854</cp:revision>
  <dc:subject>Simbeor application example</dc:subject>
  <dc:title>Mode Transformations in Differential Interconnects - Simbeor App. Note #2009_01</dc:title>
</cp:coreProperties>
</file>