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0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B0C3039-AFC1-4CDE-BB82-5AF36342563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a.org/pub/ibis/ibischk5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da.org/pub/ibis/tschk2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ctivities and Future Projec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ignCo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bruary 4, 20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 {-canonical*} FI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 | -canonical-v2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2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ovides number of ports, frequencies and other inform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-normalizes TS1 Y-, Z-, G- and H-parameters and effective noise resistance    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-v1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1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where practic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pplies column formatting rules and 2-port 21_12 order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rmalizes TS2 Y-, Z-, G- and H-parameters and effective noise resistance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 mixed mode or selectable reference resistance process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schk2 {-describe} FIL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header comments, RI format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freq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im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2re  S12im  S13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13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14re  S1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im  S16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im  S22re  S22im  S23re  S23im  S24re  S2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5re  S25im  S26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6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1re  S31im  S32re  S32im  S33re  S33im  S34re  S3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5re  S35im  S36re  S3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41re  S41im  S42re  S42im  S43re  S43im  S44re  S4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45re  S45im  S46re  S4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51re  S51im  S52re  S52im  S53re  S53im  S54re  S5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55re  S55im  S56re  S5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1re  S61im  S62re  S62im  S63re  S63im  S64re  S6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5re  S65im  S66re  S6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ill Sans MT"/>
              <a:buAutoNum type="arabicPlain" startAt="10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-0.665574600466      -0.0006609751214130001  0.333068101839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0.000663504688568    0.333100908672       -0.000663329592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828800"/>
            <a:ext cx="655344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ture Projec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1 – improved AM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chk5, Version 5.0.X – bug fix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Interconnect Subcircuit Spice (IBIS-IS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2.1 – with Sparse Matrix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schk2, Version 2.1.0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 Connection Protocol (M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hers (binary forma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ter discussion on other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ther features and need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ookbooks, Handbooks?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IBIS Officers 2009 - 2010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ir: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Teraspeed Consulting Group, (past Chair 1996-200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ce-Chair: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ance Wa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IO Method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retary: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andy Wolf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Micron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master: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yed Huq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Cisco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tmaster: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ke LaBon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Cisco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brarian: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nders Ekhol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Erics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 you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chael Mirma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Intel Corporation for 6 successful years as Cha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 Active Since 1993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Recent Activitie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ular IBIS meet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leconference/Web meetings every 3 wee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tandards and documents and pars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Summits (about 5 per ye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ina, Japan, Europe, and USA (2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logo …………………………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ask grou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BIS Model Review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– Free review serv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Quality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IBIS Quality Specific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nterconnect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(ad hoc) - Touchstone Spec., IC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dvanced Technology Modeli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AMI wor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1752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ask Group Projec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BIS Model Review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Lynne Gre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ree review of IBIS models for semiconductor supplier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BIS Qualit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– Mike LaBo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BIS Quality Specification Version 2.0 (2009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BIS checklist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BIS correlation project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IBIS Quality Handbook material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Different metric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Board measurement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Task Group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terconnect Model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– Michael Mirma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ouchstone 2.0 (2009), Touchstone 2.1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ouchstone advances (Sparse Matrix Mapping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inary format pending proposa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del Connection Protocol (MCP) pending proposa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dvanced Technology Model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– Arpad Murany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gorithmic Modeling Interface (AMI) – Updated proposa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 Interconnect Spice Subcircuit (IBIS-ISS) Specifcation proposa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 (2009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, Version 5.0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pub/ibis/ibischk5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all [IBIS Ver]s of IBIS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 $100,000 of contracted work since 1993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.ibs, .pkg, .ebd, and .ami formats directly or through link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Flags in ibischk5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&lt;file_name&gt;.ami (algorithmic model interface control fi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umber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numbere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ror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ning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es an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ion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143000"/>
            <a:ext cx="792504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-caution -numbered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flags prior to the file name can be in any order, and the -caution and/or -numbered flags are op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981080"/>
            <a:ext cx="2819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286000"/>
            <a:ext cx="14475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24080"/>
            <a:ext cx="2667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chk5 {–numbered} –ami  file4.ami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1430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8862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2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3434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6002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” Parser (2009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Touchstone Version 1.0 (TS1) and Version 2.0 (TS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rror and Warning numb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pub/ibis/tschk2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s TS1 to TS2, TS2 to TS1 where practical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canonical*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comment headers and real, imaginary format (RI)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describ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code package includes 440+ test c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++, well documen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s to contractor Agilent Techn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10-01-18T19:28:09Z</dcterms:modified>
  <cp:revision>734</cp:revision>
  <dc:subject/>
  <dc:title>IBIS</dc:title>
</cp:coreProperties>
</file>