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9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FA747E2D-3699-4C84-A60B-24D85B5EC1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9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CMCHK1 went out in very early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74880" y="4562640"/>
            <a:ext cx="5365440" cy="4319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00"/>
                </a:solidFill>
                <a:latin typeface="Times New Roman"/>
              </a:rPr>
              <a:t>BIRD Queue includes </a:t>
            </a:r>
            <a:r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BIRD111.1 to address differentials in EB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imes New Roman"/>
              </a:rPr>
              <a:t>Those interested in an officer role are encouraged to run in the mid-year elec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8619-952B-4241-92B4-1FDDD44DB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115D-C0D7-475A-B91A-AEEE8FAD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96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0EDD-C429-46BA-A01E-9116EBD29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2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6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2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6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AD2F-33EC-4E38-B0F1-766CB47C7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A5B9-932B-455A-854B-CFDDD2754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9FEB5-62AB-41D1-B210-26F1177D8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F21B4-4A34-4E6D-8E27-49DCCE68B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87A17-9BC6-435C-B40D-0F35A4114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E2987-DF85-4DB6-A6D1-EC6EAAC71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20400"/>
            <a:ext cx="870588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E220-A0E3-41B0-A89E-F3CEED91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6A1A-5F87-4676-B77E-C60C067C4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9BC0-4C67-423E-818C-6737773CE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96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0503-DB9D-4A8F-910B-3F67F8E2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2CC7E-8D76-4FBB-AFED-ABE09D68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600" y="413064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F74D4-08D7-4D98-BFFC-C8CBEF081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96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F09A-48E4-46FC-99F0-0E4B69248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62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6600" y="198108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62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96600" y="4130640"/>
            <a:ext cx="2793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45427-33CD-43F8-A031-220CED8F4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8100-09E8-41E7-B5E8-39AD54E5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3FFD-E7D7-4919-9F84-AFB751C1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44C1-D3F6-4857-818C-7CDDB4E2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240" y="320400"/>
            <a:ext cx="870588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FB84-284F-4259-80DB-BB1B7A9C4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F05A-AD3E-4D31-BECE-43885FF6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960" y="413064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52FF-6839-423B-B869-02A13FB43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960" y="1981080"/>
            <a:ext cx="4234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130640"/>
            <a:ext cx="8677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E550-1D43-4CFC-B832-452BC24D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87058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981080"/>
            <a:ext cx="867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51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9 IBIS Summit at DesignC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524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B514-20F4-4067-982D-09CFB38D9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37920" y="774720"/>
            <a:ext cx="62485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0854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9369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3152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152280" y="2351160"/>
          <a:ext cx="3414960" cy="292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2351160"/>
                    <a:ext cx="3414960" cy="29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igroup.org/ibis/" TargetMode="External"/><Relationship Id="rId2" Type="http://schemas.openxmlformats.org/officeDocument/2006/relationships/hyperlink" Target="http://www.eda.org/ibis/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3640" y="1369080"/>
            <a:ext cx="85150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Chair’s Status Repor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762000" y="2457360"/>
            <a:ext cx="396252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chael Mirm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l Cor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ir, IBIS Ope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667560" y="2603520"/>
            <a:ext cx="22222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29560" y="2746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44800" y="3936960"/>
            <a:ext cx="39625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 Su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DesignCon 200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bruary 5,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  <a:hlinkClick r:id="rId1"/>
              </a:rPr>
              <a:t>http://www.eigroup.org/ibi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3300"/>
                </a:solidFill>
                <a:uFillTx/>
                <a:latin typeface="Arial"/>
                <a:hlinkClick r:id="rId2"/>
              </a:rPr>
              <a:t>http://www.eda.org/ibi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537B-0FE8-4A14-860D-886AB8DE25E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73160" y="1460520"/>
            <a:ext cx="8665920" cy="47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Press and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"/>
              </a:rPr>
              <a:t>Hints for the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19240" y="332280"/>
            <a:ext cx="8696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Agend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E5A3-DD85-4EA8-AE69-ECE1E5FEB3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52080" y="856800"/>
            <a:ext cx="8591400" cy="520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IBIS 5.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PD, EMI and Algorithmic Model support in IBIS </a:t>
            </a:r>
            <a:r>
              <a:rPr b="0" lang="en-US" sz="2000" spc="-1" strike="noStrike" u="sng">
                <a:solidFill>
                  <a:srgbClr val="663300"/>
                </a:solidFill>
                <a:uFillTx/>
                <a:latin typeface="Arial"/>
              </a:rPr>
              <a:t>are now </a:t>
            </a:r>
            <a:r>
              <a:rPr b="0" i="1" lang="en-US" sz="2000" spc="-1" strike="noStrike" u="sng">
                <a:solidFill>
                  <a:srgbClr val="663300"/>
                </a:solidFill>
                <a:uFillTx/>
                <a:latin typeface="Arial"/>
              </a:rPr>
              <a:t>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Parser bid package being distributed - bidding closes March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Quality Task Group completed 3+ document rev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ATM Group making progress on IBIS Interconnect SP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Looking to the first </a:t>
            </a:r>
            <a:r>
              <a:rPr b="0" lang="en-US" sz="2000" spc="-1" strike="noStrike" u="sng">
                <a:solidFill>
                  <a:srgbClr val="663300"/>
                </a:solidFill>
                <a:uFillTx/>
                <a:latin typeface="Arial"/>
              </a:rPr>
              <a:t>industry standard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SPICE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Touchstone 2.0 nearing comp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Expect submission to Open Forum by/in M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63300"/>
                </a:solidFill>
                <a:uFillTx/>
                <a:latin typeface="Arial"/>
              </a:rPr>
              <a:t>Standardized format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for mixed-mode network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ICMCHK1 updated and distrib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All BUGs closed in version 1.1.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0" y="332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Achievements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A176-C13C-4D93-B24E-5EB4BC636A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42720" y="1114560"/>
            <a:ext cx="859140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Strong Mentions of IBIS in 2008 P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663300"/>
                </a:solidFill>
                <a:latin typeface="Arial"/>
              </a:rPr>
              <a:t>EE Times</a:t>
            </a: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 (continuing this week!), blogs, e-z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Yet Another Mer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April 2008: GEIA merged with the ITA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January 2009: ITAA + AeA -&gt; Technology Association of Ame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GEIA likely to vanish later this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 a DAC Summit report from TAA on th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Late 2008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Shanghai &amp; Tokyo Summits successful: 200+ total attend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Finances and Memb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"/>
              </a:rPr>
              <a:t>Closed 2008 with positive budget and membership of 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0" y="332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Press &amp; Organization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ABED-78B2-451A-AEF8-840456096C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42720" y="942480"/>
            <a:ext cx="859140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Summit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DATE 2009 in Nice confirmed (April 2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DAC in San Francisco going ahead (July 27) – election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Asian summits planned, economy permitting.  Taiwan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Expect appeal for IBISCHK5 purchases in Q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Source code license price not yet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License agreement likely similar to that for IBISCHK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Economic situation will have unknown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IBIS Open Forum has limited time and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"/>
              </a:rPr>
              <a:t>New task group volunteers greatly appreciat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0" y="33228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Looking Ahead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970680" y="204840"/>
            <a:ext cx="1973160" cy="1279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33320" y="5591160"/>
            <a:ext cx="7962840" cy="523800"/>
          </a:xfrm>
          <a:prstGeom prst="roundRect">
            <a:avLst>
              <a:gd name="adj" fmla="val 16667"/>
            </a:avLst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oc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More Important Than Ever This 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AF41-EFE2-413B-BC95-6F8A5FB2B3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73160" y="1155240"/>
            <a:ext cx="8665920" cy="507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828360" y="316152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Arial Black"/>
              </a:rPr>
              <a:t>Q/A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52EE-693A-4C3A-9C8D-20258FFC66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7T19:20:36Z</dcterms:created>
  <dc:creator>Michael Mirmak</dc:creator>
  <dc:description/>
  <dc:language>en-US</dc:language>
  <cp:lastModifiedBy>mmirmak</cp:lastModifiedBy>
  <dcterms:modified xsi:type="dcterms:W3CDTF">2009-02-04T20:22:17Z</dcterms:modified>
  <cp:revision>522</cp:revision>
  <dc:subject>IBIS Summit 2008 at DAC</dc:subject>
  <dc:title>IBIS Chair's Report and Roadmap</dc:title>
</cp:coreProperties>
</file>